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10E-6C19-46A7-826F-6B03C736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AFE-72D3-432A-9C80-9DC236B6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23A-CC8C-4E3B-8F01-81370B83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6D4-041A-49EB-A0C5-352EEF12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E02-E005-4DB5-9C14-784CA9AE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FC2-F5E2-4D00-9E61-B36B1336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D3A-F6AD-4F84-920C-3391BC6D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A32-AFA3-46D5-86E7-A0439175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760-6E4E-4EC1-8AE9-73E443B4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3F3-A3C0-4111-B690-60592164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F32-B520-460A-954D-5DC4AD50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BB9-388A-4CA6-A690-E953050E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bbe0e3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17034-1879-4803-A855-93636F107A5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bbe0e3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5760" y="304920"/>
            <a:ext cx="557856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.Н.Толст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ан-эпоп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Война и ми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орно-схема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п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bbe0e3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95080" y="59799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та о сла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4343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 Аустер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47242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06560" y="55227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рть ж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5037120"/>
            <a:ext cx="42048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8960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240000" y="4340160"/>
            <a:ext cx="1027080" cy="7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09680" y="4036320"/>
            <a:ext cx="26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чь в Отрад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267080" y="3425760"/>
            <a:ext cx="180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312408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вь к Ната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34290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80160" y="327672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на 1812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733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6960" y="41911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91320" y="3654360"/>
            <a:ext cx="68580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64520" y="338940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ча с Наташ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3657600"/>
            <a:ext cx="12952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75640" y="5257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2" idx="1"/>
          </p:cNvCxnSpPr>
          <p:nvPr/>
        </p:nvCxnSpPr>
        <p:spPr>
          <a:xfrm flipV="1">
            <a:off x="593640" y="4724280"/>
            <a:ext cx="1404000" cy="1440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/>
          <p:nvPr/>
        </p:nvCxnSpPr>
        <p:spPr>
          <a:xfrm>
            <a:off x="1523520" y="5638320"/>
            <a:ext cx="39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4" idx="3"/>
            <a:endCxn id="44" idx="3"/>
          </p:cNvCxnSpPr>
          <p:nvPr/>
        </p:nvCxnSpPr>
        <p:spPr>
          <a:xfrm>
            <a:off x="2209320" y="4664160"/>
            <a:ext cx="3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" name=""/>
          <p:cNvSpPr/>
          <p:nvPr/>
        </p:nvSpPr>
        <p:spPr>
          <a:xfrm>
            <a:off x="533520" y="6095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4724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5638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238560" y="5039640"/>
            <a:ext cx="1440" cy="65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4267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3352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480" y="601560"/>
            <a:ext cx="80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вственные искания Андрея Болкон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60720" y="504036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bbe0e3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38040" y="380880"/>
            <a:ext cx="58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вственные искания Пьера Безух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52388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ости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5909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3429000"/>
            <a:ext cx="144756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женитьб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7432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ания Кура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7080"/>
            <a:ext cx="144756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зис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о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4648320"/>
            <a:ext cx="144756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ир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ол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4343400"/>
            <a:ext cx="152388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ер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од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3733920"/>
            <a:ext cx="144756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б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28195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ер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ат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96080" y="1523880"/>
            <a:ext cx="144792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bbe0e3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7960" y="1584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таша Ро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666880"/>
            <a:ext cx="1904760" cy="1752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29200" y="1139760"/>
            <a:ext cx="2743200" cy="16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019240"/>
            <a:ext cx="2718000" cy="1257480"/>
          </a:xfrm>
          <a:custGeom>
            <a:avLst/>
            <a:gdLst/>
            <a:ahLst/>
            <a:rect l="l" t="t" r="r" b="b"/>
            <a:pathLst>
              <a:path w="1712" h="792">
                <a:moveTo>
                  <a:pt x="0" y="792"/>
                </a:moveTo>
                <a:cubicBezTo>
                  <a:pt x="24" y="684"/>
                  <a:pt x="48" y="576"/>
                  <a:pt x="144" y="552"/>
                </a:cubicBezTo>
                <a:cubicBezTo>
                  <a:pt x="240" y="528"/>
                  <a:pt x="448" y="728"/>
                  <a:pt x="576" y="648"/>
                </a:cubicBezTo>
                <a:cubicBezTo>
                  <a:pt x="704" y="568"/>
                  <a:pt x="744" y="144"/>
                  <a:pt x="912" y="72"/>
                </a:cubicBezTo>
                <a:cubicBezTo>
                  <a:pt x="1080" y="0"/>
                  <a:pt x="1456" y="200"/>
                  <a:pt x="1584" y="216"/>
                </a:cubicBezTo>
                <a:cubicBezTo>
                  <a:pt x="1712" y="232"/>
                  <a:pt x="1672" y="176"/>
                  <a:pt x="168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59280" y="3780000"/>
            <a:ext cx="1800" cy="179280"/>
          </a:xfrm>
          <a:custGeom>
            <a:avLst/>
            <a:gdLst/>
            <a:ahLst/>
            <a:rect l="l" t="t" r="r" b="b"/>
            <a:pathLst>
              <a:path w="1520" h="616">
                <a:moveTo>
                  <a:pt x="0" y="376"/>
                </a:moveTo>
                <a:cubicBezTo>
                  <a:pt x="220" y="496"/>
                  <a:pt x="440" y="616"/>
                  <a:pt x="672" y="568"/>
                </a:cubicBezTo>
                <a:cubicBezTo>
                  <a:pt x="904" y="520"/>
                  <a:pt x="1264" y="176"/>
                  <a:pt x="1392" y="88"/>
                </a:cubicBezTo>
                <a:cubicBezTo>
                  <a:pt x="1520" y="0"/>
                  <a:pt x="1480" y="20"/>
                  <a:pt x="144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59800" y="8748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57640" y="18651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т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15000" y="30844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23040" y="34653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86560" y="4038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30600" y="2438280"/>
            <a:ext cx="1460520" cy="1828800"/>
          </a:xfrm>
          <a:custGeom>
            <a:avLst/>
            <a:gdLst/>
            <a:ahLst/>
            <a:rect l="l" t="t" r="r" b="b"/>
            <a:pathLst>
              <a:path w="920" h="1152">
                <a:moveTo>
                  <a:pt x="920" y="144"/>
                </a:moveTo>
                <a:cubicBezTo>
                  <a:pt x="728" y="72"/>
                  <a:pt x="536" y="0"/>
                  <a:pt x="392" y="96"/>
                </a:cubicBezTo>
                <a:cubicBezTo>
                  <a:pt x="248" y="192"/>
                  <a:pt x="0" y="544"/>
                  <a:pt x="56" y="720"/>
                </a:cubicBezTo>
                <a:cubicBezTo>
                  <a:pt x="112" y="896"/>
                  <a:pt x="420" y="1024"/>
                  <a:pt x="728" y="1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73400" y="1943280"/>
            <a:ext cx="2146320" cy="2400120"/>
          </a:xfrm>
          <a:custGeom>
            <a:avLst/>
            <a:gdLst/>
            <a:ahLst/>
            <a:rect l="l" t="t" r="r" b="b"/>
            <a:pathLst>
              <a:path w="1352" h="1512">
                <a:moveTo>
                  <a:pt x="1352" y="456"/>
                </a:moveTo>
                <a:cubicBezTo>
                  <a:pt x="1212" y="324"/>
                  <a:pt x="1072" y="192"/>
                  <a:pt x="968" y="120"/>
                </a:cubicBezTo>
                <a:cubicBezTo>
                  <a:pt x="864" y="48"/>
                  <a:pt x="856" y="0"/>
                  <a:pt x="728" y="24"/>
                </a:cubicBezTo>
                <a:cubicBezTo>
                  <a:pt x="600" y="48"/>
                  <a:pt x="296" y="80"/>
                  <a:pt x="200" y="264"/>
                </a:cubicBezTo>
                <a:cubicBezTo>
                  <a:pt x="104" y="448"/>
                  <a:pt x="0" y="920"/>
                  <a:pt x="152" y="1128"/>
                </a:cubicBezTo>
                <a:cubicBezTo>
                  <a:pt x="304" y="1336"/>
                  <a:pt x="952" y="1448"/>
                  <a:pt x="1112" y="1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60880" y="2550960"/>
            <a:ext cx="39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д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52480" y="2093760"/>
            <a:ext cx="3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4191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267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8001000" y="2282400"/>
            <a:ext cx="76320" cy="8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33526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00720" y="3425760"/>
            <a:ext cx="130644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4140360"/>
            <a:ext cx="16192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00720" y="3777840"/>
            <a:ext cx="1800360" cy="182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bbe0e3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975040" y="257040"/>
            <a:ext cx="18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оле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1600200"/>
            <a:ext cx="19051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19810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581280" y="2053800"/>
            <a:ext cx="152640" cy="23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1371600"/>
            <a:ext cx="533160" cy="3860640"/>
          </a:xfrm>
          <a:custGeom>
            <a:avLst/>
            <a:gdLst/>
            <a:ahLst/>
            <a:rect l="l" t="t" r="r" b="b"/>
            <a:pathLst>
              <a:path w="328" h="2384">
                <a:moveTo>
                  <a:pt x="328" y="0"/>
                </a:moveTo>
                <a:cubicBezTo>
                  <a:pt x="204" y="276"/>
                  <a:pt x="80" y="552"/>
                  <a:pt x="40" y="912"/>
                </a:cubicBezTo>
                <a:cubicBezTo>
                  <a:pt x="0" y="1272"/>
                  <a:pt x="80" y="1936"/>
                  <a:pt x="88" y="2160"/>
                </a:cubicBezTo>
                <a:cubicBezTo>
                  <a:pt x="96" y="2384"/>
                  <a:pt x="92" y="2320"/>
                  <a:pt x="88" y="2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514600"/>
            <a:ext cx="2057400" cy="2425680"/>
          </a:xfrm>
          <a:custGeom>
            <a:avLst/>
            <a:gdLst/>
            <a:ahLst/>
            <a:rect l="l" t="t" r="r" b="b"/>
            <a:pathLst>
              <a:path w="1296" h="1528">
                <a:moveTo>
                  <a:pt x="1296" y="0"/>
                </a:moveTo>
                <a:cubicBezTo>
                  <a:pt x="1140" y="532"/>
                  <a:pt x="984" y="1064"/>
                  <a:pt x="768" y="1296"/>
                </a:cubicBezTo>
                <a:cubicBezTo>
                  <a:pt x="552" y="1528"/>
                  <a:pt x="128" y="1376"/>
                  <a:pt x="0" y="1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49528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486400" y="5025600"/>
            <a:ext cx="15228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144792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711400" y="1371600"/>
            <a:ext cx="1587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1371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464832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502080" y="4724280"/>
            <a:ext cx="311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663640" y="4724280"/>
            <a:ext cx="844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4200000">
            <a:off x="2123280" y="4578480"/>
            <a:ext cx="552600" cy="647640"/>
          </a:xfrm>
          <a:custGeom>
            <a:avLst/>
            <a:gdLst>
              <a:gd name="textAreaLeft" fmla="*/ 129600 w 552600"/>
              <a:gd name="textAreaRight" fmla="*/ 422280 w 552600"/>
              <a:gd name="textAreaTop" fmla="*/ 75960 h 647640"/>
              <a:gd name="textAreaBottom" fmla="*/ 406440 h 647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5040" y="9907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34800" y="21700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5105520"/>
            <a:ext cx="45720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т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526000"/>
            <a:ext cx="87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ет величия там, где нет простоты, добра и прав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bbe0e3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1676520"/>
            <a:ext cx="18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3657600"/>
            <a:ext cx="1346040" cy="914400"/>
          </a:xfrm>
          <a:custGeom>
            <a:avLst/>
            <a:gdLst/>
            <a:ahLst/>
            <a:rect l="l" t="t" r="r" b="b"/>
            <a:pathLst>
              <a:path w="848" h="576">
                <a:moveTo>
                  <a:pt x="0" y="224"/>
                </a:moveTo>
                <a:cubicBezTo>
                  <a:pt x="80" y="132"/>
                  <a:pt x="160" y="40"/>
                  <a:pt x="192" y="80"/>
                </a:cubicBezTo>
                <a:cubicBezTo>
                  <a:pt x="224" y="120"/>
                  <a:pt x="208" y="408"/>
                  <a:pt x="192" y="464"/>
                </a:cubicBezTo>
                <a:cubicBezTo>
                  <a:pt x="176" y="520"/>
                  <a:pt x="96" y="480"/>
                  <a:pt x="96" y="416"/>
                </a:cubicBezTo>
                <a:cubicBezTo>
                  <a:pt x="96" y="352"/>
                  <a:pt x="152" y="144"/>
                  <a:pt x="192" y="80"/>
                </a:cubicBezTo>
                <a:cubicBezTo>
                  <a:pt x="232" y="16"/>
                  <a:pt x="288" y="0"/>
                  <a:pt x="336" y="32"/>
                </a:cubicBezTo>
                <a:cubicBezTo>
                  <a:pt x="384" y="64"/>
                  <a:pt x="464" y="200"/>
                  <a:pt x="480" y="272"/>
                </a:cubicBezTo>
                <a:cubicBezTo>
                  <a:pt x="496" y="344"/>
                  <a:pt x="464" y="424"/>
                  <a:pt x="432" y="464"/>
                </a:cubicBezTo>
                <a:cubicBezTo>
                  <a:pt x="400" y="504"/>
                  <a:pt x="280" y="576"/>
                  <a:pt x="288" y="512"/>
                </a:cubicBezTo>
                <a:cubicBezTo>
                  <a:pt x="296" y="448"/>
                  <a:pt x="416" y="152"/>
                  <a:pt x="480" y="80"/>
                </a:cubicBezTo>
                <a:cubicBezTo>
                  <a:pt x="544" y="8"/>
                  <a:pt x="640" y="24"/>
                  <a:pt x="672" y="80"/>
                </a:cubicBezTo>
                <a:cubicBezTo>
                  <a:pt x="704" y="136"/>
                  <a:pt x="704" y="344"/>
                  <a:pt x="672" y="416"/>
                </a:cubicBezTo>
                <a:cubicBezTo>
                  <a:pt x="640" y="488"/>
                  <a:pt x="488" y="560"/>
                  <a:pt x="480" y="512"/>
                </a:cubicBezTo>
                <a:cubicBezTo>
                  <a:pt x="472" y="464"/>
                  <a:pt x="568" y="176"/>
                  <a:pt x="624" y="128"/>
                </a:cubicBezTo>
                <a:cubicBezTo>
                  <a:pt x="680" y="80"/>
                  <a:pt x="784" y="160"/>
                  <a:pt x="816" y="224"/>
                </a:cubicBezTo>
                <a:cubicBezTo>
                  <a:pt x="848" y="288"/>
                  <a:pt x="832" y="400"/>
                  <a:pt x="816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4343400"/>
            <a:ext cx="177840" cy="228600"/>
          </a:xfrm>
          <a:custGeom>
            <a:avLst/>
            <a:gdLst/>
            <a:ahLst/>
            <a:rect l="l" t="t" r="r" b="b"/>
            <a:pathLst>
              <a:path w="112" h="144">
                <a:moveTo>
                  <a:pt x="96" y="0"/>
                </a:moveTo>
                <a:cubicBezTo>
                  <a:pt x="104" y="36"/>
                  <a:pt x="112" y="72"/>
                  <a:pt x="96" y="96"/>
                </a:cubicBezTo>
                <a:cubicBezTo>
                  <a:pt x="80" y="120"/>
                  <a:pt x="16" y="136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362320" y="1368360"/>
            <a:ext cx="1218960" cy="320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81280" y="1215720"/>
            <a:ext cx="7632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1295280"/>
            <a:ext cx="68580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3695760"/>
            <a:ext cx="1600200" cy="927000"/>
          </a:xfrm>
          <a:custGeom>
            <a:avLst/>
            <a:gdLst/>
            <a:ahLst/>
            <a:rect l="l" t="t" r="r" b="b"/>
            <a:pathLst>
              <a:path w="1008" h="584">
                <a:moveTo>
                  <a:pt x="0" y="456"/>
                </a:moveTo>
                <a:cubicBezTo>
                  <a:pt x="32" y="456"/>
                  <a:pt x="64" y="456"/>
                  <a:pt x="96" y="456"/>
                </a:cubicBezTo>
                <a:cubicBezTo>
                  <a:pt x="128" y="456"/>
                  <a:pt x="168" y="456"/>
                  <a:pt x="192" y="456"/>
                </a:cubicBezTo>
                <a:cubicBezTo>
                  <a:pt x="216" y="456"/>
                  <a:pt x="208" y="480"/>
                  <a:pt x="240" y="456"/>
                </a:cubicBezTo>
                <a:cubicBezTo>
                  <a:pt x="272" y="432"/>
                  <a:pt x="360" y="376"/>
                  <a:pt x="384" y="312"/>
                </a:cubicBezTo>
                <a:cubicBezTo>
                  <a:pt x="408" y="248"/>
                  <a:pt x="408" y="104"/>
                  <a:pt x="384" y="72"/>
                </a:cubicBezTo>
                <a:cubicBezTo>
                  <a:pt x="360" y="40"/>
                  <a:pt x="264" y="88"/>
                  <a:pt x="240" y="120"/>
                </a:cubicBezTo>
                <a:cubicBezTo>
                  <a:pt x="216" y="152"/>
                  <a:pt x="240" y="208"/>
                  <a:pt x="240" y="264"/>
                </a:cubicBezTo>
                <a:cubicBezTo>
                  <a:pt x="240" y="320"/>
                  <a:pt x="240" y="416"/>
                  <a:pt x="240" y="456"/>
                </a:cubicBezTo>
                <a:cubicBezTo>
                  <a:pt x="240" y="496"/>
                  <a:pt x="200" y="496"/>
                  <a:pt x="240" y="504"/>
                </a:cubicBezTo>
                <a:cubicBezTo>
                  <a:pt x="280" y="512"/>
                  <a:pt x="416" y="536"/>
                  <a:pt x="480" y="504"/>
                </a:cubicBezTo>
                <a:cubicBezTo>
                  <a:pt x="544" y="472"/>
                  <a:pt x="600" y="360"/>
                  <a:pt x="624" y="312"/>
                </a:cubicBezTo>
                <a:cubicBezTo>
                  <a:pt x="648" y="264"/>
                  <a:pt x="616" y="256"/>
                  <a:pt x="624" y="216"/>
                </a:cubicBezTo>
                <a:cubicBezTo>
                  <a:pt x="632" y="176"/>
                  <a:pt x="696" y="96"/>
                  <a:pt x="672" y="72"/>
                </a:cubicBezTo>
                <a:cubicBezTo>
                  <a:pt x="648" y="48"/>
                  <a:pt x="512" y="40"/>
                  <a:pt x="480" y="72"/>
                </a:cubicBezTo>
                <a:cubicBezTo>
                  <a:pt x="448" y="104"/>
                  <a:pt x="480" y="216"/>
                  <a:pt x="480" y="264"/>
                </a:cubicBezTo>
                <a:cubicBezTo>
                  <a:pt x="480" y="312"/>
                  <a:pt x="472" y="320"/>
                  <a:pt x="480" y="360"/>
                </a:cubicBezTo>
                <a:cubicBezTo>
                  <a:pt x="488" y="400"/>
                  <a:pt x="488" y="472"/>
                  <a:pt x="528" y="504"/>
                </a:cubicBezTo>
                <a:cubicBezTo>
                  <a:pt x="568" y="536"/>
                  <a:pt x="656" y="584"/>
                  <a:pt x="720" y="552"/>
                </a:cubicBezTo>
                <a:cubicBezTo>
                  <a:pt x="784" y="520"/>
                  <a:pt x="880" y="400"/>
                  <a:pt x="912" y="312"/>
                </a:cubicBezTo>
                <a:cubicBezTo>
                  <a:pt x="944" y="224"/>
                  <a:pt x="936" y="48"/>
                  <a:pt x="912" y="24"/>
                </a:cubicBezTo>
                <a:cubicBezTo>
                  <a:pt x="888" y="0"/>
                  <a:pt x="792" y="128"/>
                  <a:pt x="768" y="168"/>
                </a:cubicBezTo>
                <a:cubicBezTo>
                  <a:pt x="744" y="208"/>
                  <a:pt x="768" y="232"/>
                  <a:pt x="768" y="264"/>
                </a:cubicBezTo>
                <a:cubicBezTo>
                  <a:pt x="768" y="296"/>
                  <a:pt x="752" y="312"/>
                  <a:pt x="768" y="360"/>
                </a:cubicBezTo>
                <a:cubicBezTo>
                  <a:pt x="784" y="408"/>
                  <a:pt x="832" y="528"/>
                  <a:pt x="864" y="552"/>
                </a:cubicBezTo>
                <a:cubicBezTo>
                  <a:pt x="896" y="576"/>
                  <a:pt x="936" y="512"/>
                  <a:pt x="960" y="504"/>
                </a:cubicBezTo>
                <a:cubicBezTo>
                  <a:pt x="984" y="496"/>
                  <a:pt x="996" y="500"/>
                  <a:pt x="1008" y="5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449568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63400" y="950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82320" y="3160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35000" y="3084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9560" y="213372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167652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190512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18288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20574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243828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26668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30481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34290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3733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41148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16765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19810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24382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29718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3429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380988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41148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77800" y="209376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1219320"/>
            <a:ext cx="14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6320" y="1584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ту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1371600"/>
            <a:ext cx="3812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е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4114800"/>
            <a:ext cx="763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карова</cp:lastModifiedBy>
  <dcterms:modified xsi:type="dcterms:W3CDTF">2009-03-18T11:22:4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