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C8D8-D898-43C1-ADA6-B9CD393E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A0A-36F3-450D-B7B0-50096114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AA59-9E1D-43FB-AB76-6D9CD870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6631-6A48-4737-B82B-619A9252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965-1172-4879-AA68-1E9DE9CA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E49-E4D8-48EF-B956-D5C46995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85AB-353F-4BAC-A588-5998C0C2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CF2A-DB1C-4EB5-A44B-32F41539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C63F-947D-45E3-9F5C-8EC9CE57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E843-B7CE-4C6A-964E-5B759FA9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1560-384A-4B1D-8147-0AA2F0C2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5EAD-0FF1-406F-AD57-413180F0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7EE26A-8718-4669-9D86-7D1355A2188D}" type="slidenum"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 главного геро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1600200"/>
            <a:ext cx="1447560" cy="1295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р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055960" y="2590920"/>
            <a:ext cx="14508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4648320"/>
            <a:ext cx="1219320" cy="1143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д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981080"/>
            <a:ext cx="1447560" cy="1295640"/>
          </a:xfrm>
          <a:prstGeom prst="ellipse">
            <a:avLst/>
          </a:prstGeom>
          <a:solidFill>
            <a:srgbClr val="e888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4876920"/>
            <a:ext cx="137160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0" y="3809880"/>
            <a:ext cx="1371600" cy="1295640"/>
          </a:xfrm>
          <a:prstGeom prst="ellipse">
            <a:avLst/>
          </a:prstGeom>
          <a:solidFill>
            <a:srgbClr val="d395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ак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вари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131920" y="3048120"/>
            <a:ext cx="160344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2819520"/>
            <a:ext cx="160020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3124080"/>
            <a:ext cx="144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арас Бульба в бо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1905120"/>
            <a:ext cx="1447920" cy="1295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р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4191120"/>
            <a:ext cx="144792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я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4114800"/>
            <a:ext cx="1600200" cy="1523880"/>
          </a:xfrm>
          <a:prstGeom prst="ellipse">
            <a:avLst/>
          </a:prstGeom>
          <a:solidFill>
            <a:srgbClr val="d395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46320" y="3276720"/>
            <a:ext cx="76536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3276720"/>
            <a:ext cx="9907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арас и сын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2590920"/>
            <a:ext cx="1676160" cy="1676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р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133720"/>
            <a:ext cx="1828800" cy="167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62920" y="4800600"/>
            <a:ext cx="152388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д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436480" y="2893680"/>
            <a:ext cx="1222200" cy="38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3657600"/>
            <a:ext cx="205740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960000">
            <a:off x="2437920" y="25905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д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500000">
            <a:off x="5487840" y="34275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, сынку, помогли тебе твои лях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3276720"/>
            <a:ext cx="11430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900000">
            <a:off x="2176200" y="34272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960000">
            <a:off x="4649760" y="4265280"/>
            <a:ext cx="17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332320" y="4113000"/>
            <a:ext cx="1679760" cy="8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979280" y="3731760"/>
            <a:ext cx="5032440" cy="12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332320" y="4113000"/>
            <a:ext cx="1679760" cy="84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1979280" y="3731760"/>
            <a:ext cx="5032440" cy="1298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карова</cp:lastModifiedBy>
  <dcterms:modified xsi:type="dcterms:W3CDTF">2010-02-14T09:57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