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4.png" ContentType="image/png"/>
  <Override PartName="/ppt/media/image18.wmf" ContentType="image/x-wmf"/>
  <Override PartName="/ppt/media/image16.jpeg" ContentType="image/jpeg"/>
  <Override PartName="/ppt/media/image10.png" ContentType="image/png"/>
  <Override PartName="/ppt/media/image7.png" ContentType="image/png"/>
  <Override PartName="/ppt/media/image4.gif" ContentType="image/gif"/>
  <Override PartName="/ppt/media/image15.wmf" ContentType="image/x-wmf"/>
  <Override PartName="/ppt/media/image1.jpeg" ContentType="image/jpeg"/>
  <Override PartName="/ppt/media/image2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BD5-7773-45F5-BBD7-5D5BC1D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E4F-8D8F-4731-BB5D-87E7E81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708-D38F-425F-84D6-3B041460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B7D-1A5E-42A5-9F12-2B05EF7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CBBB-223C-43A0-BB42-059EEEA7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F3B4-F50B-43B9-8B7A-9FE83C1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250-AB98-4438-947A-BB671B3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5839-EEFB-4E4E-8A50-B45E2DBF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51D-5C0E-4604-A5B7-0CB1B8B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A10-4147-4908-A033-5655DD1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EB2-10D4-44E3-B67A-C4E8652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2D0-2D18-407A-BEEF-8A2A68F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933-0C01-46FD-9178-2DA01F2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491-0B8B-4C13-A76F-CC2453E6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9818-F213-4FCD-AD36-F9884D8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CFDC-F715-4509-B010-BB192181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3687-536A-4467-8D8D-61A5565D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5B73-F8FE-4C3D-972A-5092B199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E1A2-9FA6-4F7C-B643-47F88B7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2F46-CFCA-457B-B1B9-B2FEAC4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1A42-A707-4A23-9CBC-D7C10DE2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DB4B-6FDE-4678-966D-142EA4E6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991-D1BA-4EFB-B800-278C6702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EF4C-C636-4F89-B444-B6CCBFF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0DA5-1F08-440C-B349-EFFE15A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4838-F220-41C1-9AE5-55C15BB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B2A1-36A5-488E-BFC0-B93EF76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E090-684A-4F8D-9222-BAEEF51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6699-B2A6-4139-866F-1A3C5BFB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C8B4-FA0A-4A91-9423-7ADD6FC7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0ED-1543-4AB3-810B-615C0C2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7E8-5D33-4316-9C6A-5D68C9FC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9BD-B9F0-4E03-874C-DACB2DB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A90-49C2-4014-A581-4B758D9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7CB-1D70-40A2-B9D7-462CE38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21B-9B72-48D3-A757-43B5FA1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D633-3E73-45B4-8F46-30CFD32AE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761-25D9-4CF1-9ADE-AF6578E40AA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041-83E0-4AE8-9710-244AEA9A23F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84360" y="4076640"/>
            <a:ext cx="820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75760"/>
            <a:ext cx="9144000" cy="47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Внимание! Внимание! Внимание! </a:t>
            </a:r>
            <a:br>
              <a:rPr sz="2000"/>
            </a:b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Приглашаем всех мальчишек и девчонок отправиться вместе с нами               </a:t>
            </a:r>
            <a:br>
              <a:rPr sz="2000"/>
            </a:b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      в весёлую   страну "Информатика".  </a:t>
            </a:r>
            <a:br>
              <a:rPr sz="2000"/>
            </a:b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      Не забудьте взять с собой быстроту мысли, находчивость, </a:t>
            </a:r>
            <a:br>
              <a:rPr sz="2000"/>
            </a:b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       смекалку, сообразительность. </a:t>
            </a:r>
            <a:r>
              <a:rPr b="0" lang="ru-RU" sz="2000" spc="-1" strike="noStrike">
                <a:solidFill>
                  <a:srgbClr val="4e654e"/>
                </a:solidFill>
                <a:latin typeface="Tahoma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e654e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Тем, кто учит информатику, </a:t>
            </a:r>
            <a:br>
              <a:rPr sz="2800"/>
            </a:b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Тем, кто учит информатике, </a:t>
            </a:r>
            <a:br>
              <a:rPr sz="2800"/>
            </a:b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Тем, кто любит информатику, </a:t>
            </a:r>
            <a:br>
              <a:rPr sz="2800"/>
            </a:b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Тем, кто еще не знает, </a:t>
            </a:r>
            <a:br>
              <a:rPr sz="2800"/>
            </a:b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Что может любить информатику, </a:t>
            </a:r>
            <a:br>
              <a:rPr sz="2800"/>
            </a:b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Посвящается наше занятие. </a:t>
            </a:r>
            <a:r>
              <a:rPr b="0" lang="ru-RU" sz="2800" spc="-1" strike="noStrike">
                <a:solidFill>
                  <a:srgbClr val="cc0099"/>
                </a:solidFill>
                <a:latin typeface="Tahoma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6" name="Прямоугольник 5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7742160" cy="768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4" descr="pic11"/>
          <p:cNvPicPr/>
          <p:nvPr/>
        </p:nvPicPr>
        <p:blipFill>
          <a:blip r:embed="rId2"/>
          <a:stretch/>
        </p:blipFill>
        <p:spPr>
          <a:xfrm>
            <a:off x="203040" y="3135240"/>
            <a:ext cx="1787760" cy="19018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2" descr="C:\Documents and Settings\1\Рабочий стол\2011-10-13\IMAGE0001.JPG"/>
          <p:cNvPicPr/>
          <p:nvPr/>
        </p:nvPicPr>
        <p:blipFill>
          <a:blip r:embed="rId1"/>
          <a:stretch/>
        </p:blipFill>
        <p:spPr>
          <a:xfrm>
            <a:off x="1393920" y="2438280"/>
            <a:ext cx="6545160" cy="412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3485880" y="42300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481"/>
                </a:solidFill>
                <a:latin typeface="Comic Sans MS"/>
                <a:ea typeface="Times New Roman"/>
              </a:rPr>
              <a:t>Конкурс </a:t>
            </a:r>
            <a:r>
              <a:rPr b="1" i="1" lang="ru-RU" sz="4000" spc="-1" strike="noStrike">
                <a:solidFill>
                  <a:srgbClr val="008481"/>
                </a:solidFill>
                <a:latin typeface="Tahoma"/>
                <a:ea typeface="Times New Roman"/>
              </a:rPr>
              <a:t>«Худож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2" descr="pic06"/>
          <p:cNvPicPr/>
          <p:nvPr/>
        </p:nvPicPr>
        <p:blipFill>
          <a:blip r:embed="rId2"/>
          <a:stretch/>
        </p:blipFill>
        <p:spPr>
          <a:xfrm>
            <a:off x="318960" y="231840"/>
            <a:ext cx="2656080" cy="21096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582480" y="2160"/>
            <a:ext cx="79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481"/>
                </a:solidFill>
                <a:latin typeface="Comic Sans MS"/>
                <a:ea typeface="Times New Roman"/>
              </a:rPr>
              <a:t>Конкурс </a:t>
            </a:r>
            <a:r>
              <a:rPr b="1" i="1" lang="ru-RU" sz="4000" spc="-1" strike="noStrike">
                <a:solidFill>
                  <a:srgbClr val="008481"/>
                </a:solidFill>
                <a:latin typeface="Tahoma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8481"/>
                </a:solidFill>
                <a:latin typeface="Comic Sans MS"/>
                <a:ea typeface="Times New Roman"/>
              </a:rPr>
              <a:t>Разгадай кроссворд</a:t>
            </a:r>
            <a:r>
              <a:rPr b="1" i="1" lang="ru-RU" sz="4000" spc="-1" strike="noStrike">
                <a:solidFill>
                  <a:srgbClr val="008481"/>
                </a:solidFill>
                <a:latin typeface="Tahoma"/>
                <a:ea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8054640" y="7239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ИДЕЯ 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0" descr="CRCTR632"/>
          <p:cNvPicPr/>
          <p:nvPr/>
        </p:nvPicPr>
        <p:blipFill>
          <a:blip r:embed="rId1"/>
          <a:stretch/>
        </p:blipFill>
        <p:spPr>
          <a:xfrm>
            <a:off x="6656400" y="1031760"/>
            <a:ext cx="1398600" cy="1543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483560" y="68364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россворд «Части компьюте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Рисунок 7" descr="C:\Documents and Settings\1\Рабочий стол\1.jpg"/>
          <p:cNvPicPr/>
          <p:nvPr/>
        </p:nvPicPr>
        <p:blipFill>
          <a:blip r:embed="rId2"/>
          <a:stretch/>
        </p:blipFill>
        <p:spPr>
          <a:xfrm>
            <a:off x="4780080" y="2714760"/>
            <a:ext cx="4363920" cy="3830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231840" y="1274400"/>
            <a:ext cx="464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1. Устройство для ввода буквенной и числовой информ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.«Волшебная палочка» для игры на компьют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3.То, на что мы смотрим, работая на компьютере, чтобы по­лучить от него информац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. Устройство для печа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5. Хранилище информ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212760">
              <a:buClr>
                <a:srgbClr val="000000"/>
              </a:buClr>
              <a:buFont typeface="Tahoma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6. Устройство для ввода графической информ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7. «Сердце» компью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8. Устройство для вывода звуковой информ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404640"/>
          <a:ext cx="8697960" cy="1686240"/>
        </p:xfrm>
        <a:graphic>
          <a:graphicData uri="http://schemas.openxmlformats.org/drawingml/2006/table">
            <a:tbl>
              <a:tblPr/>
              <a:tblGrid>
                <a:gridCol w="7005600"/>
                <a:gridCol w="169236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e4c"/>
                          </a:solidFill>
                          <a:latin typeface="Tahoma"/>
                        </a:rPr>
                        <a:t>Все ли было тебе понятно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4e4c"/>
                          </a:solidFill>
                          <a:latin typeface="Tahoma"/>
                        </a:rPr>
                        <a:t>Сделал ли ты для себя какое-то открытие 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56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4e4c"/>
                          </a:solidFill>
                          <a:latin typeface="Tahoma"/>
                        </a:rPr>
                        <a:t>Какое у тебя настроение сейчас?         (Дорису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7" name="Рисунок 6" descr="i.jpg"/>
          <p:cNvPicPr/>
          <p:nvPr/>
        </p:nvPicPr>
        <p:blipFill>
          <a:blip r:embed="rId1"/>
          <a:stretch/>
        </p:blipFill>
        <p:spPr>
          <a:xfrm>
            <a:off x="1571760" y="3429000"/>
            <a:ext cx="2628720" cy="2629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.jpg"/>
          <p:cNvPicPr/>
          <p:nvPr/>
        </p:nvPicPr>
        <p:blipFill>
          <a:blip r:embed="rId2"/>
          <a:stretch/>
        </p:blipFill>
        <p:spPr>
          <a:xfrm>
            <a:off x="5214960" y="3357720"/>
            <a:ext cx="2628720" cy="2628720"/>
          </a:xfrm>
          <a:prstGeom prst="rect">
            <a:avLst/>
          </a:prstGeom>
          <a:ln w="0">
            <a:noFill/>
          </a:ln>
        </p:spPr>
      </p:pic>
      <p:sp>
        <p:nvSpPr>
          <p:cNvPr id="169" name="Арка 7"/>
          <p:cNvSpPr/>
          <p:nvPr/>
        </p:nvSpPr>
        <p:spPr>
          <a:xfrm>
            <a:off x="357120" y="4000680"/>
            <a:ext cx="642960" cy="357120"/>
          </a:xfrm>
          <a:custGeom>
            <a:avLst/>
            <a:gdLst>
              <a:gd name="textAreaLeft" fmla="*/ 0 w 642960"/>
              <a:gd name="textAreaRight" fmla="*/ 643320 w 64296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w="642937" h="357188">
                <a:moveTo>
                  <a:pt x="0" y="178594"/>
                </a:moveTo>
                <a:lnTo>
                  <a:pt x="0" y="178594"/>
                </a:lnTo>
                <a:arcTo wR="321469" hR="178594" stAng="10800000" swAng="10800011"/>
                <a:lnTo>
                  <a:pt x="553640" y="178594"/>
                </a:lnTo>
                <a:lnTo>
                  <a:pt x="553640" y="178594"/>
                </a:lnTo>
                <a:arcTo wR="232172" hR="89297" stAng="0" swAng="-10800000"/>
                <a:close/>
              </a:path>
            </a:pathLst>
          </a:custGeom>
          <a:solidFill>
            <a:srgbClr val="f0f0f0"/>
          </a:solidFill>
          <a:ln w="25560">
            <a:solidFill>
              <a:srgbClr val="bc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Арка 11"/>
          <p:cNvSpPr/>
          <p:nvPr/>
        </p:nvSpPr>
        <p:spPr>
          <a:xfrm flipV="1">
            <a:off x="324000" y="4723560"/>
            <a:ext cx="642960" cy="357480"/>
          </a:xfrm>
          <a:custGeom>
            <a:avLst/>
            <a:gdLst>
              <a:gd name="textAreaLeft" fmla="*/ 0 w 642960"/>
              <a:gd name="textAreaRight" fmla="*/ 643320 w 642960"/>
              <a:gd name="textAreaTop" fmla="*/ 0 h 357480"/>
              <a:gd name="textAreaBottom" fmla="*/ 178920 h 357480"/>
            </a:gdLst>
            <a:ahLst/>
            <a:rect l="textAreaLeft" t="textAreaTop" r="textAreaRight" b="textAreaBottom"/>
            <a:pathLst>
              <a:path w="642937" h="357187">
                <a:moveTo>
                  <a:pt x="0" y="178593"/>
                </a:moveTo>
                <a:lnTo>
                  <a:pt x="0" y="178593"/>
                </a:lnTo>
                <a:cubicBezTo>
                  <a:pt x="0" y="79958"/>
                  <a:pt x="143926" y="-1"/>
                  <a:pt x="321469" y="-1"/>
                </a:cubicBezTo>
                <a:cubicBezTo>
                  <a:pt x="499011" y="-1"/>
                  <a:pt x="642938" y="79958"/>
                  <a:pt x="642938" y="178593"/>
                </a:cubicBezTo>
                <a:cubicBezTo>
                  <a:pt x="642938" y="178593"/>
                  <a:pt x="642937" y="178593"/>
                  <a:pt x="642937" y="178593"/>
                </a:cubicBezTo>
                <a:lnTo>
                  <a:pt x="553640" y="178594"/>
                </a:lnTo>
                <a:cubicBezTo>
                  <a:pt x="553640" y="129276"/>
                  <a:pt x="449693" y="89297"/>
                  <a:pt x="321468" y="89297"/>
                </a:cubicBezTo>
                <a:cubicBezTo>
                  <a:pt x="193242" y="89297"/>
                  <a:pt x="89296" y="129276"/>
                  <a:pt x="89296" y="178594"/>
                </a:cubicBezTo>
                <a:close/>
              </a:path>
            </a:pathLst>
          </a:custGeom>
          <a:solidFill>
            <a:srgbClr val="a8bfd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HACKR008"/>
          <p:cNvPicPr/>
          <p:nvPr/>
        </p:nvPicPr>
        <p:blipFill>
          <a:blip r:embed="rId1"/>
          <a:stretch/>
        </p:blipFill>
        <p:spPr>
          <a:xfrm>
            <a:off x="2874960" y="2319480"/>
            <a:ext cx="3327480" cy="3510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0" y="1214280"/>
            <a:ext cx="9144000" cy="433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212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Благодарим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259000" y="23976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4d4d"/>
                </a:solidFill>
                <a:latin typeface="Comic Sans MS"/>
                <a:ea typeface="Times New Roman"/>
              </a:rPr>
              <a:t>Правила  конкурса </a:t>
            </a:r>
            <a:r>
              <a:rPr b="0" lang="ru-RU" sz="4000" spc="-1" strike="noStrike">
                <a:solidFill>
                  <a:srgbClr val="004d4d"/>
                </a:solidFill>
                <a:latin typeface="Tahoma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4" descr="pic11"/>
          <p:cNvPicPr/>
          <p:nvPr/>
        </p:nvPicPr>
        <p:blipFill>
          <a:blip r:embed="rId1"/>
          <a:stretch/>
        </p:blipFill>
        <p:spPr>
          <a:xfrm>
            <a:off x="5326200" y="2583000"/>
            <a:ext cx="3520800" cy="37465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Rectangle 6"/>
          <p:cNvSpPr/>
          <p:nvPr/>
        </p:nvSpPr>
        <p:spPr>
          <a:xfrm>
            <a:off x="203040" y="1328400"/>
            <a:ext cx="862200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Команда должны показать хороше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повед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Уважать мнение сопер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Активно работ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Ответ давать посл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поднятой ру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542400" y="47628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e4c"/>
                </a:solidFill>
                <a:latin typeface="Tahoma"/>
              </a:rPr>
              <a:t>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395440" y="134136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e4c"/>
                </a:solidFill>
                <a:latin typeface="Tahoma"/>
              </a:rPr>
              <a:t>«Отгадай ребус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4" descr="Monkey17"/>
          <p:cNvPicPr/>
          <p:nvPr/>
        </p:nvPicPr>
        <p:blipFill>
          <a:blip r:embed="rId1"/>
          <a:stretch/>
        </p:blipFill>
        <p:spPr>
          <a:xfrm>
            <a:off x="111240" y="274680"/>
            <a:ext cx="2008080" cy="237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Monkey20"/>
          <p:cNvPicPr/>
          <p:nvPr/>
        </p:nvPicPr>
        <p:blipFill>
          <a:blip r:embed="rId2"/>
          <a:stretch/>
        </p:blipFill>
        <p:spPr>
          <a:xfrm>
            <a:off x="7719840" y="4941720"/>
            <a:ext cx="1424160" cy="1916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3"/>
          <a:stretch/>
        </p:blipFill>
        <p:spPr>
          <a:xfrm>
            <a:off x="973080" y="2766960"/>
            <a:ext cx="6516720" cy="2806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1" name="Picture 2" descr="Иллюзия Геринга (иллюзия веера)"/>
          <p:cNvPicPr/>
          <p:nvPr/>
        </p:nvPicPr>
        <p:blipFill>
          <a:blip r:embed="rId1"/>
          <a:stretch/>
        </p:blipFill>
        <p:spPr>
          <a:xfrm>
            <a:off x="0" y="1625760"/>
            <a:ext cx="9144000" cy="52322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885960" y="406440"/>
            <a:ext cx="740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Arial"/>
                <a:ea typeface="Times New Roman"/>
              </a:rPr>
              <a:t>Иллюзия Геринга (иллюзия веер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Прямые, на самом деле, параллель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1076400" y="-411840"/>
            <a:ext cx="6991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На рисунках не спирали, а концентрические 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Иллюзия Дж. Фрейзера (Fraser, 1908)"/>
          <p:cNvPicPr/>
          <p:nvPr/>
        </p:nvPicPr>
        <p:blipFill>
          <a:blip r:embed="rId1"/>
          <a:stretch/>
        </p:blipFill>
        <p:spPr>
          <a:xfrm>
            <a:off x="174600" y="930240"/>
            <a:ext cx="3875040" cy="3875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Иллюзия Дж. Фрейзера (Fraser, 1908)"/>
          <p:cNvPicPr/>
          <p:nvPr/>
        </p:nvPicPr>
        <p:blipFill>
          <a:blip r:embed="rId2"/>
          <a:stretch/>
        </p:blipFill>
        <p:spPr>
          <a:xfrm>
            <a:off x="4106880" y="1930320"/>
            <a:ext cx="4611600" cy="465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016800" y="31752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Это прямые или н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4949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Иллюзия с витыми веревками (James Frazer, 1908)"/>
          <p:cNvPicPr/>
          <p:nvPr/>
        </p:nvPicPr>
        <p:blipFill>
          <a:blip r:embed="rId1"/>
          <a:stretch/>
        </p:blipFill>
        <p:spPr>
          <a:xfrm>
            <a:off x="3411360" y="957240"/>
            <a:ext cx="3525840" cy="549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-101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481"/>
                </a:solidFill>
                <a:latin typeface="Comic Sans MS"/>
                <a:ea typeface="Times New Roman"/>
              </a:rPr>
              <a:t>Конкурс « Набери текст</a:t>
            </a:r>
            <a:r>
              <a:rPr b="1" lang="ru-RU" sz="3200" spc="-1" strike="noStrike">
                <a:solidFill>
                  <a:srgbClr val="008481"/>
                </a:solidFill>
                <a:latin typeface="Tahoma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481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-90000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46240" y="519840"/>
            <a:ext cx="8723160" cy="55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Зада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. Набрать текст в текстовом редактор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года была ужасная, Принцесса была прекрасная. Однажды, во втором часу, Заблудилась принцесса в лесу. Вдруг видит — полянка прекрасная. На полянке — землянка ужасная. А в землянке — людоед. Заходи ко мне на обед! Вынимает нож — дело ясное. Вдруг увидел — какая прекрасная... Людоеду сразу стало худо: Уходи, говорит, отсюда. Аппетит, говорит, ужасный. Слишком вид, говорит, прекрасный. И пошла потихоньку принцесса, Прямо к замку вышла из леса. Вот какая легенда ужасная. Вот какая принцесса прекрасная. А может, было все не так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2.Необходимо данный текст,  от форматировать( шрифт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s new roman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14, основной текст выровнен по ширин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года была ужасная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нцесса была прекрас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Однажды, во втором часу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блудилась принцесса в лесу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друг видит — полянка прекрас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полянке — землянка ужасна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А в землянке — людое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Заходи ко мне на обед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ынимает нож — дело ясно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друг увидел — какая прекрасная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Людоеду сразу стало худо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Уходи, говорит, отсю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Аппетит, говорит, ужас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Слишком вид, говорит, прекрасны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И пошла потихоньку принцесс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ямо к замку вышла из ле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от какая легенда ужасна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от какая принцесса прекрасна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А может, было все не так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3.Сохранения тек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4"/>
          <p:cNvSpPr/>
          <p:nvPr/>
        </p:nvSpPr>
        <p:spPr>
          <a:xfrm>
            <a:off x="2845800" y="3859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наете ли в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449280" y="1030320"/>
            <a:ext cx="85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ете ли вы, что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арль Перр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автор «Красной Шапочки», написал сказку «Любовь циркуля и линейки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262080" y="1785960"/>
            <a:ext cx="84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ете ли вы, что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. С. Пушки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написал такие строки: «Вдохновение нужно в геометрии, как и в поэзии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246240" y="2690640"/>
            <a:ext cx="865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ете ли вы, что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ифаго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был победителем из кулачного боя на 58-х Олимпийских играх, проходивших в 548 году до н. э., а затем побеждал еще на нескольких Олимпиад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231840" y="3700440"/>
            <a:ext cx="89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ете ли вы, что, несмотря на отсутствие интернета, США и Великобритания были буквально завалены спамом в 40-50 годах прошлого века? Но не надоедливой рекламой, а консервами. Ведь спам (spam) – это перченая ветчина – SPiced hAM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http://znaeteli.ru/wp-content/uploads/2011/09/13-09-75x75.jpg"/>
          <p:cNvPicPr/>
          <p:nvPr/>
        </p:nvPicPr>
        <p:blipFill>
          <a:blip r:embed="rId1"/>
          <a:stretch/>
        </p:blipFill>
        <p:spPr>
          <a:xfrm>
            <a:off x="395280" y="5041800"/>
            <a:ext cx="12304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1-10-18T17:05:07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