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FB0-5B9E-4061-BD2F-03E602E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1B0-B660-4DA4-9711-8FF665A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3F9-23DE-447A-8AFF-F0AF5083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06B-C502-4C8B-BFCE-39C9FE8B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AE54-E567-49EA-B9B6-3125B021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2371-D0B2-4931-B88B-C2C58C44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E00-2873-47B0-A700-51038A44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81E-823E-4BAE-93C5-8EDEE30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F905-F12E-4DCB-8FC6-72F93B6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B6D8-CF26-4B0E-B963-C82DE88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7194-8E9E-4554-A3DC-8A92241D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1F9-3329-4D1B-9F19-8D10810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61F7-5511-410C-A76A-108032D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111-0EA6-4DFF-9FA3-94F9B04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44C0-14E7-4CCF-901F-51B2FB8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818A-EAD1-493B-A433-630BB871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3A3-7DB7-489F-B4C4-E1BEB3D1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352-E966-4C10-8B54-4BE0905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FB8-0B8D-4D23-9977-3824968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5B1-C594-4558-AEB9-FFF7E045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08A-4626-4498-A1B3-4DCB0387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C9-B55E-41F9-B658-924A255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47C-EE42-4637-8AA5-92CA388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3D6-E87D-4E09-83AF-C01B22C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5ABC-7F31-4328-918E-27767D22A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2D9-81C9-4E03-9676-BB4FE8A78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ЗДОРОВЬЕСБЕРЕГАЮЩИЕ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          ТЕХНОЛОГИИ                    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ите слух, цените з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те зелень, синев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ё, что дано нам во вла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умя словами: «Я жи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м дня                   чистота тела,жилища          выбор оде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родуктов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жение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рационально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аливание и             положительные               отказ от вре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доровление                    эмоции                            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43280" y="2707920"/>
            <a:ext cx="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580000" y="2276280"/>
            <a:ext cx="136836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71628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476000" y="2349000"/>
            <a:ext cx="237492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8000" y="3789360"/>
            <a:ext cx="194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3933720"/>
            <a:ext cx="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3860640"/>
            <a:ext cx="158436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92360" y="3860640"/>
            <a:ext cx="2303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АЗБУКА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Рациональное питание школь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                               природные                             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дор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маты                             целебные                         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                         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84720" y="1989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42900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414972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256536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256536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58560" y="4076640"/>
            <a:ext cx="25210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076640"/>
            <a:ext cx="208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горание                        обтирание и                             прогу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ФЫ  ЗАКАЛ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ятие ванн                    босохождение                     купание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оё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84720" y="270828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86064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258920" y="2349000"/>
            <a:ext cx="151272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80000" y="2349000"/>
            <a:ext cx="201636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3860640"/>
            <a:ext cx="187164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476360" y="3860640"/>
            <a:ext cx="12952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0:28Z</dcterms:created>
  <dc:creator>User</dc:creator>
  <dc:description/>
  <dc:language>en-US</dc:language>
  <cp:lastModifiedBy>User</cp:lastModifiedBy>
  <dcterms:modified xsi:type="dcterms:W3CDTF">2009-02-05T13:32:30Z</dcterms:modified>
  <cp:revision>5</cp:revision>
  <dc:subject/>
  <dc:title>ЗДОРОВЬЕСБЕРЕГАЮЩИЕ            ТЕХНОЛОГИИ                      </dc:title>
</cp:coreProperties>
</file>