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72B-A3D4-4DE9-BF9E-9E3CD564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D6B-DCA2-49E1-B0CB-28543C39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A9F-6868-49DC-BE39-4E805A40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B78-7D23-422D-8861-5C89D8B0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6D2D-EB11-4D7A-8276-6DD25021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03B-C8E7-4BC0-9D64-407471E4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E479-94CF-4D4D-B04B-D926AC6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EA3-076B-430A-9775-3C2B4CC1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119-205C-4C82-9543-D7016D3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846A-6422-4B56-9086-14DC7EB7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03CD-5962-4930-8632-8E801DBB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19A-FA1E-4CA2-9D3C-28EA7A8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EE00-41AF-4B4A-8539-BD9E03D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40FF-56D1-4A09-AD4F-CC77997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8FB-99F8-49BB-B6CA-F68D4DF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654-899C-4DB0-86EC-D1065743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3362-8420-4DB9-9CFA-21D618AB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837-D376-4C98-ABD2-915B15A3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DE4-8CAD-4A57-8C97-E085235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20B-3871-40EC-B531-CDA3898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9ED-9BB5-4C97-83DD-A9CFC4C6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D21-70E8-4377-9ABC-15CB734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D9D-BEE3-43DD-9213-885BE9D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C63-50F4-4850-B09C-B226B93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367-6F79-4489-ABD3-E2D99652E4F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46A2-FABD-4138-9189-14014F61227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Du … gro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Arial"/>
              </a:rPr>
              <a:t>ß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) bin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) bis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) ist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Gr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Arial"/>
              </a:rPr>
              <a:t>ü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)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жёлты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)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зелёны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)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еры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Das ist … Oma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) mein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) me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Wir … am Computer gern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) spie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) spiel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) spiele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Schreibt  bitte W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Arial"/>
              </a:rPr>
              <a:t>örter zum Thema “Was machen wir?”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77992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51280" y="4508640"/>
            <a:ext cx="2808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omic"/>
              </a:rPr>
              <a:t>Vielen Dank!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92360" y="2211480"/>
            <a:ext cx="5106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8:14:24Z</dcterms:created>
  <dc:creator>Customer</dc:creator>
  <dc:description/>
  <dc:language>en-US</dc:language>
  <cp:lastModifiedBy>Customer</cp:lastModifiedBy>
  <dcterms:modified xsi:type="dcterms:W3CDTF">2011-03-09T18:28:24Z</dcterms:modified>
  <cp:revision>2</cp:revision>
  <dc:subject/>
  <dc:title>Du … groß.</dc:title>
</cp:coreProperties>
</file>