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829-1877-4404-948C-A42D800F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160-BBF7-41B4-9A69-1D8E18E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592-1148-411C-8ABB-E5F1422D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E2F-FD2E-45F5-B9CF-4196E486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1102-209D-4948-83CA-F909BA32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167-D01D-4633-890B-7B48A097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831-AA1B-45DB-B23B-9DED4AE1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214C-46EF-4165-9B7E-8EA425C1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888-34F5-48D7-90C0-408809B0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0573-3848-4806-83DB-8E94BE39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0191-ECCA-4CC5-BF0F-40A8206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509-698C-4764-85C0-5448ABE2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BAB-0F7A-402B-810B-9587A00A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574-D38C-4B82-BEFD-132DE3E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38B6-87FC-4C5C-94BE-F1561EA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9C8F-4225-4A50-90CE-764B5D40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5DD-9B06-4928-AB46-6C94618E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388-8DC7-43D2-8B6F-609773A0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234-67BA-4A2F-B4A9-EC743B48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FC3-8DE4-453B-97D3-DC93FA6D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9EE-7B15-471A-BAE5-74E85C3C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17A-70ED-4C22-A99F-896AA46F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D6E-C2BB-4891-8038-64CF407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000-DA8B-40C9-8EA9-B8D10BF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D0D-D4BB-4D84-9A44-BEE1E711B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12E-D1A1-450B-871C-DC86277C6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r … zum Karneval gehen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) wol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) 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) will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Ich … der Mutter eine Ros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) w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üns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) gratuli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) schen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u … in der Schule gut … 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) hast, gema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) hat, gema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) hast, gema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s ist kalt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)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олодн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)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пл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)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дёт сне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er zweite Frühlingsmonat ist … 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) 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är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) Ap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) 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hreibt  bitte W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Arial"/>
              </a:rPr>
              <a:t>örter zum Thema “Geschenke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839960" cy="1649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708360" y="1700280"/>
            <a:ext cx="2171880" cy="217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734160" y="1843200"/>
            <a:ext cx="1870200" cy="251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95280" y="4437000"/>
            <a:ext cx="2158920" cy="17287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869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</a:rPr>
              <a:t>Le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95640" y="4149720"/>
            <a:ext cx="1811520" cy="2387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804000" y="4724280"/>
            <a:ext cx="1650960" cy="181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comic"/>
              </a:rPr>
              <a:t>sch</a:t>
            </a:r>
            <a:r>
              <a:rPr b="1" lang="en-US" sz="8000" spc="-1" strike="noStrike">
                <a:solidFill>
                  <a:srgbClr val="ffff66"/>
                </a:solidFill>
                <a:latin typeface="comic"/>
                <a:ea typeface="Arial"/>
              </a:rPr>
              <a:t>ön!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2735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41:16Z</dcterms:created>
  <dc:creator>Customer</dc:creator>
  <dc:description/>
  <dc:language>en-US</dc:language>
  <cp:lastModifiedBy>Customer</cp:lastModifiedBy>
  <dcterms:modified xsi:type="dcterms:W3CDTF">2011-03-09T18:03:26Z</dcterms:modified>
  <cp:revision>2</cp:revision>
  <dc:subject/>
  <dc:title>Er … zum Karneval gehen.</dc:title>
</cp:coreProperties>
</file>