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D80-AE91-40DE-899F-9FCAF2E7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FC7-AABB-470C-B7FE-B3D4EE99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FD4-6244-4222-A6D7-9691FF4D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3A8-551F-4F5C-A068-E741BF2B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BCE-0422-4036-AC3E-93095EB9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3BE-7B19-49C8-AEBB-B5C39BD6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9E6-A254-40EE-8E32-380D69D6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E0A-1E08-47B2-BB39-20DFEB39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B8A-724A-4584-A83A-27EED79E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F99-B712-4477-999B-E4D6583F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E3B-0FEF-421D-92DF-E2A6476F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329-925E-4F8E-B1F5-D6D8F034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F50C-1E3C-497B-B01B-37E0D7B12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20280"/>
            <a:ext cx="640080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337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килов  Гаибназар Мавляв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925-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тный гражданин  Кунашакского района. Полковник в отста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ый защитник Отечества, участник войны 1942-1945 г.  против фашистской Германии. В боях по защите Родины участвовал 450 дней,90 дней лечился в госпиталях после трехразового  ранения и 1 контузии. Участвовал в освобождении от фашизма: Украины, Молдавии, Румынии, Венгрии, Чехословакии и Ав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роявленную отвагу и храбрость, награжден 17 государственными награ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776160" y="-457200"/>
            <a:ext cx="1069812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-387360"/>
            <a:ext cx="8569080" cy="74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7240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гра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ден Славы 3 степ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ден Красного Зна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ден Отечественной Войны 1 степ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д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победу над Германией в Великой Отечественной войне  194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даль Жук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сть моего дедушки названа одна из Кунашакских улиц - улиц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АКИ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96720" y="-603360"/>
            <a:ext cx="95407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54907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116000" y="-2259000"/>
            <a:ext cx="10698120" cy="88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0:01:55Z</dcterms:created>
  <dc:creator>GEG</dc:creator>
  <dc:description/>
  <dc:language>en-US</dc:language>
  <cp:lastModifiedBy>GEG</cp:lastModifiedBy>
  <dcterms:modified xsi:type="dcterms:W3CDTF">2009-05-08T10:15:35Z</dcterms:modified>
  <cp:revision>3</cp:revision>
  <dc:subject/>
  <dc:title> </dc:title>
</cp:coreProperties>
</file>