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f808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08360" y="5093280"/>
            <a:ext cx="294948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6021000"/>
            <a:ext cx="7772400" cy="7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8440" bIns="2844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9" name="Picture 6" descr="main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7592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1189440" y="58053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рок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WordArt 8"/>
          <p:cNvSpPr txBox="1"/>
          <p:nvPr/>
        </p:nvSpPr>
        <p:spPr>
          <a:xfrm>
            <a:off x="539640" y="1125360"/>
            <a:ext cx="7993080" cy="37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егенды  и  мифы  Алтая.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4464360" y="5373720"/>
            <a:ext cx="3731760" cy="82404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боту выполнила Цуканова Валентина Петров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итель русского языка и литератур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У «Михайловская С(п)ОШ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урлинского района, Алтайского кр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69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6021000"/>
            <a:ext cx="7772400" cy="7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8440" bIns="2844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8" name="Picture 4" descr="PARADOX-altai-8hi"/>
          <p:cNvPicPr/>
          <p:nvPr/>
        </p:nvPicPr>
        <p:blipFill>
          <a:blip r:embed="rId1"/>
          <a:stretch/>
        </p:blipFill>
        <p:spPr>
          <a:xfrm>
            <a:off x="611280" y="620640"/>
            <a:ext cx="7777080" cy="5183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PARADOX-altai-12hi"/>
          <p:cNvPicPr/>
          <p:nvPr/>
        </p:nvPicPr>
        <p:blipFill>
          <a:blip r:embed="rId2"/>
          <a:stretch/>
        </p:blipFill>
        <p:spPr>
          <a:xfrm>
            <a:off x="468360" y="549360"/>
            <a:ext cx="7920000" cy="6176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69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8900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Легенды Горного Алтая: Сказка-загадк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274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л у одного хана сын. Подошло ему время жениться. Стал ему хан невесту подыскивать. Много девушек было на примете у хана: были среди них и красавицы, и умницы, и хорошие певицы, и замечательные танцовщицы. Призадумался хан, как же найти самую достойную невесту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74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решил тогда хан выбрать в жены своему сыну самую хорошую хозяйку. Собрал он всех девушек, желающих стать ханскими невестками, и объявил, что та, которая первой вскипятит воду в чайнике, и выйдет замуж за его сын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74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лел он выдать каждой девушке по чайнику, равному количеству воды и дал отсчет времени. Кинулись девушки хворост собирать, костер разводить, торопятся, стараются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74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ыла среди них одна девушка, которая совсем не хотела идти замуж за ханского ленивого сына, потому что любила она обыкновенною пастуха, да так сильно, что и ханское богатство было ей не мило. Это отец ее настоял, чтобы она приняла участие в соревновании, уж очень ему хотелось породниться с богатыми людьми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74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 вот. легенда рассказывает, что именно у этой самой девушки у первой закипела вода в чайнике. Как вы думаете, почему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74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74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69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се те девушки, которые очень хотели выйти замуж за ханского сына, непрерывно поднимали крышки чайников и смотрели: не закипела ли вода. Температура нагрева воды в чайнике падала, и на закипание воды требовалось уже больше времени. Та же девушка, которая не хотела замуж, к чайнику и не притрагивалась, поэтому и вода закипела у нее быстрее всех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Lucida Sans Unicode"/>
              </a:rPr>
              <a:t>Словарь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Lucida Sans Unicode"/>
              </a:rPr>
              <a:t>Сартакпай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–легендарный алтайский богатырь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Lucida Sans Unicode"/>
              </a:rPr>
              <a:t>Эрлик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 – владыка подземного мира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f808"/>
                </a:solidFill>
                <a:latin typeface="Lucida Sans Unicode"/>
              </a:rPr>
              <a:t>Алмысы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 – некое подобие гномов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checker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Rockwell Extra Bold"/>
              </a:rPr>
              <a:t>Домашнее задание: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Times New Roman"/>
              </a:rPr>
              <a:t>1. Прочитать мифы и легенды Алтая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Lucida Sans Unicode"/>
              </a:rPr>
              <a:t>Легенды и мифы Алтая.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4360" y="2133720"/>
            <a:ext cx="41734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Особенности: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Алтайцы всегда одухотворяли природу;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Алтайский народ был окружён красивейшими природными объектами;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5" name="Picture 4" descr="Emil_Terkishev"/>
          <p:cNvPicPr/>
          <p:nvPr/>
        </p:nvPicPr>
        <p:blipFill>
          <a:blip r:embed="rId1"/>
          <a:stretch/>
        </p:blipFill>
        <p:spPr>
          <a:xfrm>
            <a:off x="1071720" y="2071800"/>
            <a:ext cx="280512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 Narrow"/>
              </a:rPr>
              <a:t>В Алтайском народе широкое хождение получили мифы о сотворении мира, о природных явлениях, о злых духах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7" name="Picture 5" descr="art_foto_2a"/>
          <p:cNvPicPr/>
          <p:nvPr/>
        </p:nvPicPr>
        <p:blipFill>
          <a:blip r:embed="rId1"/>
          <a:stretch/>
        </p:blipFill>
        <p:spPr>
          <a:xfrm>
            <a:off x="857160" y="2214720"/>
            <a:ext cx="3178440" cy="2033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Bayrywev"/>
          <p:cNvPicPr/>
          <p:nvPr/>
        </p:nvPicPr>
        <p:blipFill>
          <a:blip r:embed="rId2"/>
          <a:stretch/>
        </p:blipFill>
        <p:spPr>
          <a:xfrm>
            <a:off x="4788000" y="1989000"/>
            <a:ext cx="3600360" cy="4248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69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348000" y="620640"/>
            <a:ext cx="54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Легенда о домбре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давние времена на Алтае жили два брата-великана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 младшего брата была домбра, очень он любил на ней играть. Как заиграет, так обо всем на свете забывает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рший же брат был самолюбивым и тщеславным. Вот однажды захотел он прославиться, а для этого решил построить мост через бурную и холодную реку. Стал камни собирать, начал мост строить. А младший брат все играет да играет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к день прошел и другой, и третий. Не спешит младший брат на помощь старшему, только и знает, что играет на любимом инструменте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1" name="Picture 4" descr="kaichy-e"/>
          <p:cNvPicPr/>
          <p:nvPr/>
        </p:nvPicPr>
        <p:blipFill>
          <a:blip r:embed="rId1"/>
          <a:stretch/>
        </p:blipFill>
        <p:spPr>
          <a:xfrm>
            <a:off x="357120" y="1143000"/>
            <a:ext cx="2882880" cy="2933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1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92360" y="692280"/>
            <a:ext cx="4965840" cy="540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Разозлился старший браг, выхватил у младшего домбру и, что было силы ударил ею о скалу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Разбился великолепный инструмент, смолкла мелодия, но остался на камне отпечаток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рошло много лет. Нашли люди этот отпечаток, стали по нему новые домбры делать, и вновь зазвучала музыка в молчавших долгое время селениях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Вот так через этот прекрасный мелодичный инструмент и осталась среди людей память о младшем брате, а о старшем тщеславном брате никто и не вспомни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4" name="Picture 5" descr="4710"/>
          <p:cNvPicPr/>
          <p:nvPr/>
        </p:nvPicPr>
        <p:blipFill>
          <a:blip r:embed="rId1"/>
          <a:stretch/>
        </p:blipFill>
        <p:spPr>
          <a:xfrm>
            <a:off x="468360" y="4762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69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4030920" cy="540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алтайских горах археологи изучают древнее обиталище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снежного человека 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ещеру Алмыс-Туу-Бом. Ученые признают, что в древности в ней проживали не предки современного человека,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а какие-то иные существ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7" name="Picture 5" descr="PARADOX-altai-2hi"/>
          <p:cNvPicPr/>
          <p:nvPr/>
        </p:nvPicPr>
        <p:blipFill>
          <a:blip r:embed="rId1"/>
          <a:stretch/>
        </p:blipFill>
        <p:spPr>
          <a:xfrm>
            <a:off x="857160" y="928800"/>
            <a:ext cx="7431120" cy="53416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69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сколько очевидцев видели их именно у нас. И не случайно.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 алтайских легендах говорится, что в синюю эру, когда процесс сотворения земной жизни еще не был завершен, кроме человека были еще разумные создания: человекообразные алмысы (оборотни) и болчокбаши (шароголовые карлики)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Алмысы питались мясом животных, а также болчокбашами и мясом малых человеческих детей, обладали гипнозом, умели говорить на языке человека. В черную эру средневековья, по этим легендам, между человеком и алмысом шла длительная борьба за выживание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В конце концов человек победил. Но алмысы время от времени продолжают появляться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2" name="Picture 4" descr="sk11"/>
          <p:cNvPicPr/>
          <p:nvPr/>
        </p:nvPicPr>
        <p:blipFill>
          <a:blip r:embed="rId1"/>
          <a:stretch/>
        </p:blipFill>
        <p:spPr>
          <a:xfrm>
            <a:off x="928800" y="928800"/>
            <a:ext cx="6960960" cy="4914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Снежный человек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3422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   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В с.Тюнгур живет дед алтаец. Он рассказывал что в 50-х годах работал в картографической экспедиции и однажды зимой наткнулся на следы необычного размера. Они были не похожи ни на медвежьи, ни на человеческие. Он пошел по следу и вскоре увидел алмыс-кёрмёса (снежный человек, йети - по алтайски)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5" name="Picture 4" descr="PARADOX-altai-14hi"/>
          <p:cNvPicPr/>
          <p:nvPr/>
        </p:nvPicPr>
        <p:blipFill>
          <a:blip r:embed="rId1"/>
          <a:stretch/>
        </p:blipFill>
        <p:spPr>
          <a:xfrm>
            <a:off x="1547640" y="1557360"/>
            <a:ext cx="6264360" cy="3422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11:19:56Z</dcterms:created>
  <dc:creator>Казаковцевы</dc:creator>
  <dc:description/>
  <dc:language>en-US</dc:language>
  <cp:lastModifiedBy>Loner-XP</cp:lastModifiedBy>
  <dcterms:modified xsi:type="dcterms:W3CDTF">2012-01-02T11:22:16Z</dcterms:modified>
  <cp:revision>29</cp:revision>
  <dc:subject/>
  <dc:title>Слайд 1</dc:title>
</cp:coreProperties>
</file>