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8.jpeg" ContentType="image/jpeg"/>
  <Override PartName="/ppt/media/image6.wmf" ContentType="image/x-wmf"/>
  <Override PartName="/ppt/media/image17.png" ContentType="image/png"/>
  <Override PartName="/ppt/media/image16.jpeg" ContentType="image/jpeg"/>
  <Override PartName="/ppt/media/image14.jpeg" ContentType="image/jpeg"/>
  <Override PartName="/ppt/media/image1.jpeg" ContentType="image/jpeg"/>
  <Override PartName="/ppt/media/image4.wmf" ContentType="image/x-wmf"/>
  <Override PartName="/ppt/media/image2.jpeg" ContentType="image/jpeg"/>
  <Override PartName="/ppt/media/image15.jpeg" ContentType="image/jpeg"/>
  <Override PartName="/ppt/media/image3.wmf" ContentType="image/x-wmf"/>
  <Override PartName="/ppt/media/image13.jpeg" ContentType="image/jpeg"/>
  <Override PartName="/ppt/media/image5.wmf" ContentType="image/x-wmf"/>
  <Override PartName="/ppt/media/image10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1F5692-EB07-481B-B6CE-22D22DC38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1F4D03-533E-444A-A6EA-585B878C9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D1C480-2F3A-4AFC-9EF7-7A5AEDAAD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B8B74A-67E8-4B2D-BBE7-4D1A53F3A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51C1D-6287-4309-B13B-40BE712D4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E66AD-2C88-47EE-B97F-D5D409A4D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03719-F467-4500-A88D-029EEBABD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A3B96-BC0C-4F6E-A604-16FF56431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32EE5-839B-49FE-9AE8-E8F22099A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90119-11CB-4704-A3D1-A577E44A6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B21CE-23C2-4220-9D7D-940DC25AE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1AB7E1-E78B-45FD-856F-BB0EB7148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12FE3-0E21-48C4-AD4C-3DF04206F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1A9BC-9040-42F6-8906-2FFA2F03E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9DA4C-3E74-42F4-B0FC-E49F2C9AD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5E5E0-D2D0-44B1-9175-9B5DBE64D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47431-1014-40D3-B915-722EFC0DB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D4C123-2463-4CBC-966B-6CB675D42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DAF60C-23C6-4980-9DBC-C278FF5ED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DDB0E7-9A7E-479A-BEC3-F1D5BE0A3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5F3A39-9784-4BC6-85D0-A71F984C0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253EF9-1272-400D-BB3C-50B7952F3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7813D4-D205-44B4-B2A7-A65866420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791D2E-9C07-49BE-A70B-2279E454B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F1BD1-0172-4D64-8E69-0C3ABAC5B8F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E72D9-35A6-491D-8C6C-55B9C5A45E3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png"/><Relationship Id="rId6" Type="http://schemas.openxmlformats.org/officeDocument/2006/relationships/image" Target="../media/image17.png"/><Relationship Id="rId7" Type="http://schemas.openxmlformats.org/officeDocument/2006/relationships/image" Target="../media/image17.png"/><Relationship Id="rId8" Type="http://schemas.openxmlformats.org/officeDocument/2006/relationships/image" Target="../media/image17.png"/><Relationship Id="rId9" Type="http://schemas.openxmlformats.org/officeDocument/2006/relationships/slideLayout" Target="../slideLayouts/slideLayout1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3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e5e5ff"/>
                </a:solidFill>
                <a:latin typeface="Garamond"/>
              </a:rPr>
              <a:t>Муниципальное общеобразовательное учреждение «Романовская средняя общеобразовательная школа »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3645000"/>
            <a:ext cx="8218440" cy="24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Учитель – логопед: Кудрявцева Лариса Алексеевна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"/>
          <p:cNvSpPr/>
          <p:nvPr/>
        </p:nvSpPr>
        <p:spPr>
          <a:xfrm>
            <a:off x="4140360" y="5151600"/>
            <a:ext cx="550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472428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ffff"/>
                </a:solidFill>
                <a:latin typeface="Garamond"/>
              </a:rPr>
              <a:t>Па . . .               . . . тья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468360" y="549360"/>
            <a:ext cx="3672000" cy="367164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4859280" y="549360"/>
            <a:ext cx="3816360" cy="367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5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2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4797000"/>
            <a:ext cx="8229600" cy="13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ffff"/>
                </a:solidFill>
                <a:latin typeface="Garamond"/>
              </a:rPr>
              <a:t>. . . жинка           ве . .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539640" y="404640"/>
            <a:ext cx="3527640" cy="38880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4788000" y="404640"/>
            <a:ext cx="3744720" cy="388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1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8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57200" y="4941720"/>
            <a:ext cx="8229600" cy="11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ffff"/>
                </a:solidFill>
                <a:latin typeface="Garamond"/>
              </a:rPr>
              <a:t>микро . . . .       гло . . .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755640" y="476280"/>
            <a:ext cx="3311640" cy="39607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4788000" y="476280"/>
            <a:ext cx="3671640" cy="396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7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4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e5e5ff"/>
                </a:solidFill>
                <a:latin typeface="Garamond"/>
              </a:rPr>
              <a:t>Предлоги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410544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Garamond"/>
              </a:rPr>
              <a:t>О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Garamond"/>
              </a:rPr>
              <a:t>Об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Garamond"/>
              </a:rPr>
              <a:t>По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Garamond"/>
              </a:rPr>
              <a:t>Под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Garamond"/>
              </a:rPr>
              <a:t>От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Garamond"/>
              </a:rPr>
              <a:t>На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3280" y="1557000"/>
            <a:ext cx="404352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Garamond"/>
              </a:rPr>
              <a:t>Над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Garamond"/>
              </a:rPr>
              <a:t>За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Garamond"/>
              </a:rPr>
              <a:t>С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Garamond"/>
              </a:rPr>
              <a:t>К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Garamond"/>
              </a:rPr>
              <a:t>Из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Garamond"/>
              </a:rPr>
              <a:t>В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2000"/>
                            </p:stCondLst>
                            <p:childTnLst>
                              <p:par>
                                <p:cTn id="18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4000"/>
                            </p:stCondLst>
                            <p:childTnLst>
                              <p:par>
                                <p:cTn id="19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6000"/>
                            </p:stCondLst>
                            <p:childTnLst>
                              <p:par>
                                <p:cTn id="20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8000"/>
                            </p:stCondLst>
                            <p:childTnLst>
                              <p:par>
                                <p:cTn id="20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20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20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0000"/>
                            </p:stCondLst>
                            <p:childTnLst>
                              <p:par>
                                <p:cTn id="21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2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2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2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2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12000"/>
                            </p:stCondLst>
                            <p:childTnLst>
                              <p:par>
                                <p:cTn id="22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2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2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2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2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14000"/>
                            </p:stCondLst>
                            <p:childTnLst>
                              <p:par>
                                <p:cTn id="22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2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2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2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16000"/>
                            </p:stCondLst>
                            <p:childTnLst>
                              <p:par>
                                <p:cTn id="23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2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2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2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2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8000"/>
                            </p:stCondLst>
                            <p:childTnLst>
                              <p:par>
                                <p:cTn id="24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20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20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20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20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20000"/>
                            </p:stCondLst>
                            <p:childTnLst>
                              <p:par>
                                <p:cTn id="24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20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20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20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20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2000"/>
                            </p:stCondLst>
                            <p:childTnLst>
                              <p:par>
                                <p:cTn id="25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2000" fill="hold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2000" fill="hold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2000" fill="hold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2000" fill="hold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e5e5ff"/>
                </a:solidFill>
                <a:latin typeface="Garamond"/>
              </a:rPr>
              <a:t>Предлог На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755640" y="1773360"/>
            <a:ext cx="3168720" cy="438948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4859280" y="1557360"/>
            <a:ext cx="3816360" cy="4295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6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7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7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4356000" y="1557360"/>
            <a:ext cx="4560840" cy="208764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539640" y="3500280"/>
            <a:ext cx="3313080" cy="31687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468360" y="1557360"/>
            <a:ext cx="3384360" cy="18097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4"/>
          <a:stretch/>
        </p:blipFill>
        <p:spPr>
          <a:xfrm>
            <a:off x="4284720" y="3933720"/>
            <a:ext cx="4614840" cy="257652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Предлог Н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5"/>
          <a:stretch/>
        </p:blipFill>
        <p:spPr>
          <a:xfrm>
            <a:off x="45720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6"/>
          <a:stretch/>
        </p:blipFill>
        <p:spPr>
          <a:xfrm>
            <a:off x="464832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7"/>
          <a:stretch/>
        </p:blipFill>
        <p:spPr>
          <a:xfrm>
            <a:off x="457200" y="3938760"/>
            <a:ext cx="4038480" cy="218736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8"/>
          <a:stretch/>
        </p:blipFill>
        <p:spPr>
          <a:xfrm>
            <a:off x="4648320" y="3938760"/>
            <a:ext cx="4038480" cy="218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2576520" y="449280"/>
            <a:ext cx="3990960" cy="59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1628640"/>
            <a:ext cx="8207280" cy="26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e5e5ff"/>
                </a:solidFill>
                <a:latin typeface="Times New Roman"/>
              </a:rPr>
              <a:t>План занятия с группой учащихся 2 класса, имеющих диагноз ОНР; риск дисграфии.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e5e5ff"/>
                </a:solidFill>
                <a:latin typeface="Times New Roman"/>
              </a:rPr>
              <a:t>Темы: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Times New Roman"/>
              </a:rPr>
              <a:t>Грамматическая: </a:t>
            </a:r>
            <a:r>
              <a:rPr b="0" i="1" lang="ru-RU" sz="4000" spc="-1" strike="noStrike">
                <a:solidFill>
                  <a:srgbClr val="ffffff"/>
                </a:solidFill>
                <a:latin typeface="Times New Roman"/>
              </a:rPr>
              <a:t>Предлог На. Перенос слов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Times New Roman"/>
              </a:rPr>
              <a:t>Коррекционная: </a:t>
            </a:r>
            <a:r>
              <a:rPr b="0" i="1" lang="ru-RU" sz="4000" spc="-1" strike="noStrike">
                <a:solidFill>
                  <a:srgbClr val="ffffff"/>
                </a:solidFill>
                <a:latin typeface="Times New Roman"/>
              </a:rPr>
              <a:t>Звук С (сь). Слоговой и звуко – буквенный анализ слов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Times New Roman"/>
              </a:rPr>
              <a:t>Лексическая: </a:t>
            </a:r>
            <a:r>
              <a:rPr b="0" i="1" lang="ru-RU" sz="4000" spc="-1" strike="noStrike">
                <a:solidFill>
                  <a:srgbClr val="ffffff"/>
                </a:solidFill>
                <a:latin typeface="Times New Roman"/>
              </a:rPr>
              <a:t>Шифровка</a:t>
            </a:r>
            <a:r>
              <a:rPr b="0" i="1" lang="ru-RU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Цели: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Уточнить артикуляцию звуков С (сь)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Развивать слоговой и звуко – буквенный анализ слов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ознакомить детей на практическом уровне с предлогом На, учить им пользоваться в устной и письменной речи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Закреплять умение переносить слова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Развивать зрительно – вербальный анализ и синтез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5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8" dur="5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e5e5ff"/>
                </a:solidFill>
                <a:latin typeface="Times New Roman"/>
              </a:rPr>
              <a:t>Оборудование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imes New Roman"/>
              </a:rPr>
              <a:t>Картинки по теме «Предлог На»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imes New Roman"/>
              </a:rPr>
              <a:t>Схема предлога На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imes New Roman"/>
              </a:rPr>
              <a:t>Карточки для звуко – буквенного анализа слов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imes New Roman"/>
              </a:rPr>
              <a:t>Карточки для зрительно – вербального анализа и синтеза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imes New Roman"/>
              </a:rPr>
              <a:t>Тетради, ручки, карандаши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9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9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9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9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9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Берёза, ромашка, фиалка, трава, поляна, колокольчик, роза, клумба, тюльпан, пион, клён, редис, гладиолус, лук, гвоздика, незабудка, ваза, виноград, василёк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Назовите слова, которые относятся к теме «Цветы».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08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-52,-1)"/>
                                      </p:to>
                                    </p:set>
                                    <p:set>
                                      <p:cBhvr>
                                        <p:cTn id="109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52,-1)"/>
                                      </p:to>
                                    </p:set>
                                    <p:set>
                                      <p:cBhvr>
                                        <p:cTn id="110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Звук и буква С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Garamond"/>
              </a:rPr>
              <a:t>Особенности артикуляции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зубы сближены 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губы немного растянуты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кончик языка упирается в нижние зубы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Голосовые связки отдыхают (голоса нет)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Garamond"/>
              </a:rPr>
              <a:t>Характеристика звука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звук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[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С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]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– согласный, глухой, твёрдый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457200" y="1801800"/>
            <a:ext cx="4038480" cy="412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Звук 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[</a:t>
            </a: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С</a:t>
            </a:r>
            <a:r>
              <a:rPr b="1" lang="ru-RU" sz="4400" spc="-1" strike="noStrike" baseline="30000">
                <a:solidFill>
                  <a:srgbClr val="e5e5ff"/>
                </a:solidFill>
                <a:latin typeface="Garamond"/>
              </a:rPr>
              <a:t>,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]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Garamond"/>
              </a:rPr>
              <a:t>Особенности артикуляции: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зубы сближены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губы растянуты в улыбке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кончик языка упирается в нижние зубы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голосовые связки отдыхают ( голоса нет)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Garamond"/>
              </a:rPr>
              <a:t>Характеристика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звук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[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с </a:t>
            </a:r>
            <a:r>
              <a:rPr b="0" lang="ru-RU" sz="2400" spc="-1" strike="noStrike" baseline="30000">
                <a:solidFill>
                  <a:srgbClr val="ffffff"/>
                </a:solidFill>
                <a:latin typeface="Garamond"/>
              </a:rPr>
              <a:t>,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]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– согласный, глухой, мягкий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457200" y="1703520"/>
            <a:ext cx="4038480" cy="431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Прочитайте подписи к картинкам, добавляя недостающие буквы вместо точек.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187280" y="1844640"/>
            <a:ext cx="2695680" cy="2075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5076720" y="1785960"/>
            <a:ext cx="3095640" cy="214776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95280" y="4292640"/>
            <a:ext cx="8229600" cy="17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ffff"/>
                </a:solidFill>
                <a:latin typeface="Garamond"/>
              </a:rPr>
              <a:t>Авто</a:t>
            </a:r>
            <a:r>
              <a:rPr b="1" i="1" lang="ru-RU" sz="4000" spc="-1" strike="noStrike">
                <a:solidFill>
                  <a:srgbClr val="ffffff"/>
                </a:solidFill>
                <a:latin typeface="Garamond"/>
              </a:rPr>
              <a:t> . . .                </a:t>
            </a:r>
            <a:r>
              <a:rPr b="1" i="1" lang="ru-RU" sz="5400" spc="-1" strike="noStrike">
                <a:solidFill>
                  <a:srgbClr val="ffffff"/>
                </a:solidFill>
                <a:latin typeface="Garamond"/>
              </a:rPr>
              <a:t>Ди . . . ты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9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6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4T19:05:30Z</dcterms:created>
  <dc:creator>Лариса</dc:creator>
  <dc:description/>
  <dc:language>en-US</dc:language>
  <cp:lastModifiedBy>Лариса</cp:lastModifiedBy>
  <dcterms:modified xsi:type="dcterms:W3CDTF">2007-06-21T15:32:26Z</dcterms:modified>
  <cp:revision>8</cp:revision>
  <dc:subject/>
  <dc:title>Муниципальное общеобразовательное учреждение « Романовская средняя общеобразовательная школа»</dc:title>
</cp:coreProperties>
</file>