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DAB1C-3B11-446A-BD36-BC9A65454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06854-CB57-4174-A4C1-D44C28F7C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803A6-E854-4999-A00A-C21BEF8F2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8F87E-6887-4C90-B831-B4FAB867E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E4D3E-E436-4859-8F97-1B59CD1EF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85577-EBBF-4CF1-BD24-6813DD933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05B53-6C7C-4973-B95D-B23DE5061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6A4B1-0201-46BE-B0C9-E46DB1A87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E6BE5-BC9B-4B22-BC7C-9C093B30A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4B27-1BE7-49E4-A8AD-F5A9C38B9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7F847-1A84-42A2-89D6-001F81E1A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99D6E-8232-4067-8700-A49CCD0D2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3294-A9D7-4370-8964-19A51FCE5EC8}"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moikompas.ru/img/compas/2009-01-26/pancakeweek/57892148_orig.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moikompas.ru/img/compas/2009-01-26/pancakeweek/93569999_orig.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moikompas.ru/img/compas/2009-01-26/pancakeweek/35453041_orig.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e5ffff"/>
                </a:solidFill>
                <a:latin typeface="Tahoma"/>
              </a:rPr>
              <a:t>Масленица.</a:t>
            </a:r>
            <a:br>
              <a:rPr sz="6000"/>
            </a:br>
            <a:endParaRPr b="0" lang="en-US" sz="60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езентация ученицы 4 «А» класса</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МОУ «СОШ №1 р.п.Татищево» Дорофеевой Ксени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64" name="Picture 4" descr="масленица">
            <a:hlinkClick r:id="rId1"/>
          </p:cNvPr>
          <p:cNvPicPr/>
          <p:nvPr/>
        </p:nvPicPr>
        <p:blipFill>
          <a:blip r:embed="rId2"/>
          <a:stretch/>
        </p:blipFill>
        <p:spPr>
          <a:xfrm>
            <a:off x="324000" y="333360"/>
            <a:ext cx="4475160" cy="3267000"/>
          </a:xfrm>
          <a:prstGeom prst="rect">
            <a:avLst/>
          </a:prstGeom>
          <a:ln w="0">
            <a:noFill/>
          </a:ln>
        </p:spPr>
      </p:pic>
      <p:pic>
        <p:nvPicPr>
          <p:cNvPr id="65" name="Picture 5" descr="gorka_02"/>
          <p:cNvPicPr/>
          <p:nvPr/>
        </p:nvPicPr>
        <p:blipFill>
          <a:blip r:embed="rId3"/>
          <a:stretch/>
        </p:blipFill>
        <p:spPr>
          <a:xfrm>
            <a:off x="4284720" y="3213000"/>
            <a:ext cx="4370400" cy="327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Вторник - Заигрыши</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ffffff"/>
                </a:solidFill>
                <a:latin typeface="Tahoma"/>
              </a:rPr>
              <a:t>На заигрыши с утра девицы и молодцы ходили в гости - покататься на горах, поесть блинов. Дети катались с гор во все дни масленицы – съезжали с гор на санях, на салазках, или на обледенелых рогожа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Среда - Лакомка</a:t>
            </a: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 Лакомку тещи принимали зятьев к блинам, а для забавы зятьев созывали всех родных. Этому обычаю посвящено огромное количество пословиц, поговорок, песен, в основном шуточных анекдотов и пр.: У тещи про зятя и ступа доит. Придет зять, где сметанки взять?</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Четверг - Разгул</a:t>
            </a: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 четверга, недаром называвшегося «широким», масленичный разгул развертывался во всю ширь. Всем миром, в качестве участников или активных, заинтересованных зрителей, выходили на кулачные бои, возведение и взятие снежного города, на конские бега, катание по улицам.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73" name="Picture 5" descr="i?id=22033999&amp;tov=2"/>
          <p:cNvPicPr/>
          <p:nvPr/>
        </p:nvPicPr>
        <p:blipFill>
          <a:blip r:embed="rId2"/>
          <a:stretch/>
        </p:blipFill>
        <p:spPr>
          <a:xfrm>
            <a:off x="539640" y="1341360"/>
            <a:ext cx="3456000" cy="2544840"/>
          </a:xfrm>
          <a:prstGeom prst="rect">
            <a:avLst/>
          </a:prstGeom>
          <a:ln w="0">
            <a:noFill/>
          </a:ln>
        </p:spPr>
      </p:pic>
      <p:pic>
        <p:nvPicPr>
          <p:cNvPr id="74" name="Рисунок 2" descr="http://zubova-poliana.narod.ru/history-tradition-earth2.jpg"/>
          <p:cNvPicPr/>
          <p:nvPr/>
        </p:nvPicPr>
        <p:blipFill>
          <a:blip r:embed="rId3"/>
          <a:stretch/>
        </p:blipFill>
        <p:spPr>
          <a:xfrm>
            <a:off x="5148360" y="1197000"/>
            <a:ext cx="3333600" cy="2552760"/>
          </a:xfrm>
          <a:prstGeom prst="rect">
            <a:avLst/>
          </a:prstGeom>
          <a:ln w="0">
            <a:noFill/>
          </a:ln>
        </p:spPr>
      </p:pic>
      <p:pic>
        <p:nvPicPr>
          <p:cNvPr id="75" name="Picture 7" descr="maslenitsa"/>
          <p:cNvPicPr/>
          <p:nvPr/>
        </p:nvPicPr>
        <p:blipFill>
          <a:blip r:embed="rId4"/>
          <a:stretch/>
        </p:blipFill>
        <p:spPr>
          <a:xfrm>
            <a:off x="1835280" y="3965400"/>
            <a:ext cx="5894280" cy="289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Пятница - Тещины вечерки</a:t>
            </a: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Если в среду зятья гостили у своих тещ, то в пятницу зятья устраивали «тещины вечерки» - приглашали на блины. Являлся и бывший дружка (нынче, свидетель), который играл ту же роль, что и на свадьбе, и получал за свои хлопоты подарок. Обычно, зятья и дочери приглашали заранее таких гостей поучить их уму-разуму. Неуважение зятя к этому обычаю считалось бесчестием, страшной обидой и было поводом к вечной вражде между ним и тещей. Получить такое приглашение почиталось за великую честь, да и молодым на руку, потому как званная теща была обязана прислать с вечера весь блинный снаряд: таган, сковороды, половник и кадку, в которой ставят блины. А тесть мешок муки и кадушку масла.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ffff"/>
                </a:solidFill>
                <a:latin typeface="Tahoma"/>
              </a:rPr>
              <a:t>Суббота - Золовкины посиделки</a:t>
            </a:r>
            <a:br>
              <a:rPr sz="3600"/>
            </a:br>
            <a:endParaRPr b="0" lang="en-US" sz="3600" spc="-1" strike="noStrike">
              <a:solidFill>
                <a:srgbClr val="e5ffff"/>
              </a:solidFill>
              <a:latin typeface="Tahoma"/>
            </a:endParaRPr>
          </a:p>
        </p:txBody>
      </p:sp>
      <p:sp>
        <p:nvSpPr>
          <p:cNvPr id="7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субботу, на золовкины посиделки (золовка - сестра мужа) молодая невестка приглашала родных мужа к себе в гости. Интересно, что само слово «золовка», как считалось, происходит от слова «зло», так как сестры мужа относились к невестке («пришедшей невесть откуда») недоверчиво и настороженно - вспомним, хотя бы русские народные сказк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золовки были еще не замужем, тогда она созывала в гости и своих незамужних подруг. Если же сестры мужа уже были замужем, то невестка приглашала родню замужнюю и со всем поездом развозила гостей по золовкам. Новобрачная невестка должна была одарить своих золовок подаркам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Воскресенье - «прощеный день»</a:t>
            </a:r>
            <a:endParaRPr b="0" lang="en-US" sz="4000" spc="-1" strike="noStrike">
              <a:solidFill>
                <a:srgbClr val="e5ffff"/>
              </a:solidFill>
              <a:latin typeface="Tahoma"/>
            </a:endParaRPr>
          </a:p>
        </p:txBody>
      </p:sp>
      <p:sp>
        <p:nvSpPr>
          <p:cNvPr id="8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воскресенье - «прощеный день» устраивали проводы Масленицы. Сутра ребятишки собирали дрова для костра – жечь Масленицу.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последний день масленицы все друг у друга просили прощения, новобрачные ездили по своим родным, одаривали тестя и тещу, сватов и дружек за свадебные подарк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Воскресение - Прощеный день</a:t>
            </a:r>
            <a:br>
              <a:rPr sz="4000"/>
            </a:b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воскресенье - «прощеный день» устраивали проводы Масленицы. Сутра ребятишки собирали дрова для костра – жечь Масленицу. </a:t>
            </a:r>
            <a:br>
              <a:rPr sz="2800"/>
            </a:br>
            <a:br>
              <a:rPr sz="2800"/>
            </a:br>
            <a:r>
              <a:rPr b="0" lang="ru-RU" sz="2800" spc="-1" strike="noStrike">
                <a:solidFill>
                  <a:srgbClr val="ffffff"/>
                </a:solidFill>
                <a:latin typeface="Tahoma"/>
              </a:rPr>
              <a:t>В последний день масленицы все друг у друга просили прощения, новобрачные ездили по своим родным, одаривали тестя и тещу, сватов и дружек за свадебные подарки. </a:t>
            </a:r>
            <a:br>
              <a:rPr sz="2800"/>
            </a:b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Многие думают, что в последний день масленичной недели сжигают чучело масленицы, но нет, не Масленицу сжигают, а Зиму провожают!</a:t>
            </a:r>
            <a:br>
              <a:rPr sz="1800"/>
            </a:br>
            <a:endParaRPr b="0" lang="en-US" sz="1800" spc="-1" strike="noStrike">
              <a:solidFill>
                <a:srgbClr val="e5ffff"/>
              </a:solidFill>
              <a:latin typeface="Tahoma"/>
            </a:endParaRPr>
          </a:p>
        </p:txBody>
      </p:sp>
      <p:sp>
        <p:nvSpPr>
          <p:cNvPr id="8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86" name="Picture 5" descr="стихи к масленице">
            <a:hlinkClick r:id="rId1"/>
          </p:cNvPr>
          <p:cNvPicPr/>
          <p:nvPr/>
        </p:nvPicPr>
        <p:blipFill>
          <a:blip r:embed="rId2"/>
          <a:stretch/>
        </p:blipFill>
        <p:spPr>
          <a:xfrm>
            <a:off x="3463920" y="1989000"/>
            <a:ext cx="2755800" cy="415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Масленица справляется за семь недель до Пасхи и приходится в 2009 году на период с 23 февраля по 01 марта.</a:t>
            </a:r>
            <a:br>
              <a:rPr sz="2000"/>
            </a:br>
            <a:endParaRPr b="0" lang="en-US" sz="20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45" name="Picture 5" descr="35453041">
            <a:hlinkClick r:id="rId1"/>
          </p:cNvPr>
          <p:cNvPicPr/>
          <p:nvPr/>
        </p:nvPicPr>
        <p:blipFill>
          <a:blip r:embed="rId2"/>
          <a:stretch/>
        </p:blipFill>
        <p:spPr>
          <a:xfrm>
            <a:off x="2627280" y="1413000"/>
            <a:ext cx="3952800" cy="476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Прощай, честная Масляна!</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Коль быть живым, увидимс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Хоть год прождат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Да ведать-знат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Что Масляна придет опять... </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4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стория Масленицы берет начало еще в эпоху языческих племен на Руси. У древних славян этот праздник знаменовал проводы зимы, встречу весны и начало полевых работ. Он был связан с именем бога плодородия и скотоводства Велес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дни Масленицы наши предки приносили жертвоприношения Богам, проводили обряды, устраивали пиршества. Более тысячи лет назад, когда христианство насаждалось на Руси насильственным путем, наши предки, не желая расставаться со своими языческими богами, старались сохранить традиции в новой вер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 принятия христианства праздник на Руси сохранился. Все ритуалы, которые исполнялись в языческой Руси на Масленицу, совершенно неизменно перешли и в Русь православную. Наиболее прижились к празднику обряды, посвященные Богу Солнца: катание по улицам подожженного колеса, жжение костров, приготовление блинов - все это символы верховного бога Ярило.</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e5ffff"/>
              </a:solidFill>
              <a:latin typeface="Tahoma"/>
            </a:endParaRPr>
          </a:p>
        </p:txBody>
      </p:sp>
      <p:sp>
        <p:nvSpPr>
          <p:cNvPr id="49" name="PlaceHolder 2"/>
          <p:cNvSpPr>
            <a:spLocks noGrp="1"/>
          </p:cNvSpPr>
          <p:nvPr>
            <p:ph/>
          </p:nvPr>
        </p:nvSpPr>
        <p:spPr>
          <a:xfrm>
            <a:off x="457200" y="189000"/>
            <a:ext cx="8229600" cy="5937120"/>
          </a:xfrm>
          <a:prstGeom prst="rect">
            <a:avLst/>
          </a:prstGeom>
          <a:noFill/>
          <a:ln w="0">
            <a:noFill/>
          </a:ln>
        </p:spPr>
        <p:txBody>
          <a:bodyPr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ffffff"/>
                </a:solidFill>
                <a:latin typeface="Tahoma"/>
              </a:rPr>
              <a:t>Но самое главное - это блины! Блин - символ солнца. Такой же круглый и горячий. </a:t>
            </a:r>
            <a:r>
              <a:rPr b="0" lang="ru-RU" sz="1600" spc="-1" strike="noStrike">
                <a:solidFill>
                  <a:srgbClr val="ffffff"/>
                </a:solidFill>
                <a:latin typeface="Tahoma"/>
              </a:rPr>
              <a:t>С пылу с жару подаются они на стол. С маслом, со сметаной, с икрой, грибами, севрюжиной или осетриной - выбирай на любой вкус. А, наевшись досыта – гуляй и развлекайся! </a:t>
            </a:r>
            <a:br>
              <a:rPr sz="1600"/>
            </a:br>
            <a:br>
              <a:rPr sz="1600"/>
            </a:b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50" name="Picture 5" descr="53aa5621f34b"/>
          <p:cNvPicPr/>
          <p:nvPr/>
        </p:nvPicPr>
        <p:blipFill>
          <a:blip r:embed="rId1"/>
          <a:stretch/>
        </p:blipFill>
        <p:spPr>
          <a:xfrm>
            <a:off x="395280" y="1916280"/>
            <a:ext cx="3933720" cy="3933720"/>
          </a:xfrm>
          <a:prstGeom prst="rect">
            <a:avLst/>
          </a:prstGeom>
          <a:ln w="0">
            <a:noFill/>
          </a:ln>
        </p:spPr>
      </p:pic>
      <p:pic>
        <p:nvPicPr>
          <p:cNvPr id="51" name="Picture 7" descr="44big0"/>
          <p:cNvPicPr/>
          <p:nvPr/>
        </p:nvPicPr>
        <p:blipFill>
          <a:blip r:embed="rId2"/>
          <a:stretch/>
        </p:blipFill>
        <p:spPr>
          <a:xfrm>
            <a:off x="4427640" y="1916280"/>
            <a:ext cx="4457520" cy="399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асленица - это не только масленичная неделя, но и весь период подготовки к Великому посту, который включает в себя «всеёдную» и «рябую» недели. Во время первой постные дни отсутствуют, а во второй чередуются со скоромными. После рябой недели наступает неделя масленичная, во время которой мяса уже не едят совсем, но все еще употребляют в пищу молочные продукты. </a:t>
            </a: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ffff"/>
                </a:solidFill>
                <a:latin typeface="Tahoma"/>
              </a:rPr>
              <a:t>Понедельник - Встреча</a:t>
            </a:r>
            <a:br>
              <a:rPr sz="3200"/>
            </a:br>
            <a:br>
              <a:rPr sz="3200"/>
            </a:br>
            <a:endParaRPr b="0" lang="en-US" sz="32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На первый день масленицы русский народ справлял встречу Чистой масленицы - широкой боярыни.В старину дети с утра выходили на улицу строить снежные гор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57" name="Picture 5" descr="img6"/>
          <p:cNvPicPr/>
          <p:nvPr/>
        </p:nvPicPr>
        <p:blipFill>
          <a:blip r:embed="rId1"/>
          <a:stretch/>
        </p:blipFill>
        <p:spPr>
          <a:xfrm>
            <a:off x="1042920" y="1125360"/>
            <a:ext cx="6850080" cy="470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Дети начинали кричать: «Масленица приехала, масленица приехала!» и устраивали кулачные бои в честь приезда дорогой гостьи.</a:t>
            </a:r>
            <a:r>
              <a:rPr b="0" lang="ru-RU" sz="4400" spc="-1" strike="noStrike">
                <a:solidFill>
                  <a:srgbClr val="e5ffff"/>
                </a:solidFill>
                <a:latin typeface="Tahoma"/>
              </a:rPr>
              <a:t> </a:t>
            </a:r>
            <a:endParaRPr b="0" lang="en-US" sz="4400" spc="-1" strike="noStrike">
              <a:solidFill>
                <a:srgbClr val="e5ffff"/>
              </a:solidFill>
              <a:latin typeface="Tahoma"/>
            </a:endParaRPr>
          </a:p>
        </p:txBody>
      </p:sp>
      <p:pic>
        <p:nvPicPr>
          <p:cNvPr id="59" name="Picture 4" descr="14_01"/>
          <p:cNvPicPr/>
          <p:nvPr/>
        </p:nvPicPr>
        <p:blipFill>
          <a:blip r:embed="rId1"/>
          <a:stretch/>
        </p:blipFill>
        <p:spPr>
          <a:xfrm>
            <a:off x="2666880" y="2279520"/>
            <a:ext cx="3810240" cy="351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 первому дню Масленицы устраивали горы, висячие качели, балаганы для скоморохов, столы со сладостями. Не кататься с гор и на качелях, не потешаться над скоморохами значило в старину - жить в горькой беде, а на старости лет лежать на смертном одре, сидеть калекой без ноги.</a:t>
            </a:r>
            <a:endParaRPr b="0" lang="en-US" sz="1600" spc="-1" strike="noStrike">
              <a:solidFill>
                <a:srgbClr val="ffffff"/>
              </a:solidFill>
              <a:latin typeface="Tahoma"/>
            </a:endParaRPr>
          </a:p>
        </p:txBody>
      </p:sp>
      <p:pic>
        <p:nvPicPr>
          <p:cNvPr id="61" name="Picture 5" descr="PETRUSKA"/>
          <p:cNvPicPr/>
          <p:nvPr/>
        </p:nvPicPr>
        <p:blipFill>
          <a:blip r:embed="rId1"/>
          <a:stretch/>
        </p:blipFill>
        <p:spPr>
          <a:xfrm>
            <a:off x="755640" y="1773360"/>
            <a:ext cx="3672000" cy="2903400"/>
          </a:xfrm>
          <a:prstGeom prst="rect">
            <a:avLst/>
          </a:prstGeom>
          <a:ln w="0">
            <a:noFill/>
          </a:ln>
        </p:spPr>
      </p:pic>
      <p:pic>
        <p:nvPicPr>
          <p:cNvPr id="62" name="Picture 6" descr="440"/>
          <p:cNvPicPr/>
          <p:nvPr/>
        </p:nvPicPr>
        <p:blipFill>
          <a:blip r:embed="rId2"/>
          <a:stretch/>
        </p:blipFill>
        <p:spPr>
          <a:xfrm>
            <a:off x="4643280" y="1773360"/>
            <a:ext cx="4105440" cy="29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22:15:29Z</dcterms:created>
  <dc:creator>User</dc:creator>
  <dc:description/>
  <dc:language>en-US</dc:language>
  <cp:lastModifiedBy>Admin</cp:lastModifiedBy>
  <dcterms:modified xsi:type="dcterms:W3CDTF">2012-01-10T12:37:58Z</dcterms:modified>
  <cp:revision>3</cp:revision>
  <dc:subject/>
  <dc:title>Масленица.</dc:title>
</cp:coreProperties>
</file>