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8405-0C6D-4ADF-BBD6-93F2E3D1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C31A-9A3B-4D27-9639-2A493F2F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851C-00CA-4A0B-9376-7D7FFCED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FE82-0F56-4C7A-B5C8-3C3CE0DB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D30B-733F-4433-97D8-85F8660A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E638-3255-4D16-9212-BDF72E0F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FBA5-6F3D-410D-87FC-4645711D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53A4-67ED-494B-A1CE-7E8A98B7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9E8B-EA84-4A03-BA27-E9901D46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00A1-FB56-4348-9E91-29A2595C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E8D3-1EC4-427C-A33D-BF7CCAB9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5072-71B7-4322-8F85-BBB8DF85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AB48-9E80-41AB-B565-5B433F10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3F1A-5F05-48E9-81EB-637C23F1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CB28-9661-4369-9702-0FD693BB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86D5-06BF-4FC0-B3CF-695B4DB9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ABAA-E882-43C1-ABA1-3CB25E9D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06BB7-3CFB-48FE-90F7-790DBF25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21CD-EA46-49AA-9C46-90F888DC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5E25-8944-4BC2-B013-1CB77AAE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B59C-43A5-408E-8392-374B9FA6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0065-3E51-416E-8CDE-409857DC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CDBC-C308-409C-8B85-95525FE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D0C1-BCA4-49EE-9F71-42DAE3DA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1B2E-5B76-4CD2-B317-98C1E5F86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3818-5FDC-4EC9-9700-E1AB0B9818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ndart.edu.r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ndart.edu.r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LNFedenko@mail.ru" TargetMode="External"/><Relationship Id="rId2" Type="http://schemas.openxmlformats.org/officeDocument/2006/relationships/hyperlink" Target="mailto:LNFedenko@mail.ru" TargetMode="External"/><Relationship Id="rId3" Type="http://schemas.openxmlformats.org/officeDocument/2006/relationships/hyperlink" Target="http://www.standart.edu.ru/" TargetMode="External"/><Relationship Id="rId4" Type="http://schemas.openxmlformats.org/officeDocument/2006/relationships/hyperlink" Target="http://fgos.isiorao.ru/" TargetMode="External"/><Relationship Id="rId5" Type="http://schemas.openxmlformats.org/officeDocument/2006/relationships/hyperlink" Target="http://fgos.isiorao.ru/" TargetMode="External"/><Relationship Id="rId6" Type="http://schemas.openxmlformats.org/officeDocument/2006/relationships/hyperlink" Target="http://www.standart.edu.ru/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мерная основная образовательная  программа - основ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тельной программы образовательного  учрежд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55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1692360" y="-360"/>
            <a:ext cx="9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сероссийское  совещание руководителей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правления  образованием  и ректоров И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74840" y="50842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-3 февраля 2010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11FC-2E13-4B93-8F2B-A8BBD3A45E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ФГОС НОО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ребования к структуре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4. Основная образовательная программа начального общего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бразования определяет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содержание и организацию образовательного процесса на ступени начального общего образования и направлена на формирование общей культуры, духовно-нравственное, социальное, личностное и интеллектуальное развитие обучающихся, создание основы для самостоятельной реализации учебной деятельности, обеспечивающей социальную успешность, развитие творческих способностей, саморазвитие и самосовершенствование, сохранение и укрепление здоровья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сновная образовательная программа начального общего образования содержит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обязательную часть и часть, формируемую участниками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бязательная часть основной образовательной программы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начального общего образования составляет 80 %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а часть, формируемая участниками образовательного процесса, - 20 % от общего объема основной образовательной программы началь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6402240"/>
            <a:ext cx="9144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95D6E-61B2-4518-A48F-BFC3F7B7F0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ФГОС НОО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ребования к структуре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сновная образовательная программа начального общего образования должна содержать следующие разде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ояснительная записка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ланируемые результаты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освоения обучающимися основной образовательной программы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учебный план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а формирования универсальных учебных действий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у обучающихся на ступени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 отдельных учебных предметов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 кур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а духовно-нравственного развития, воспитани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обучающихся на ступени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а формирования культуры здорового и безопасного образа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а коррекционной работы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истема оценки достижения планируемых результатов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освоения основной образовательной программы начального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032C-D2A6-48D2-9CE3-7434399AB6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роприятия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 обеспечению введения  федерального государственного образовательного стандарта начального общего образования (ФГ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Федеральный уровень с участием субъектов Российской Федерации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разработка примерной основной образовательной программы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включающей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азисный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учебный 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ланируемые результаты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освоения основной образов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имерные программы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учебных предм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имерные программы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в соответствии с ФГО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ограмму духовно-нравственного развития, воспитани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обучающихся на        ступени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ограмму формирования культуры здорового и безопасного образ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ограмму коррекционной работы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истему оценк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достижения планируемых результ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ABDF-F9CB-438E-A23A-8C35696AB5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ФГОС НОО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одержание Примерной основной образовательной программы Н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ДЕЛ 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яснительная записка должна раскры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цели реализации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основной образовательной программы начального общего образования, конкретизированные в соответствии с требованиями Стандарта к результатам освоения обучающимися основной образовательной программы началь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ринципы и подходы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к формированию основной образовательной программы начального общего образования и состава участников образовательного процесса конкретного образовательного учре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бщую характеристику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основной образовательной программы начально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1EE6-9F71-4B02-B994-7603BABD82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840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мерная основная образовательная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грамма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ДЕЛ 2.  Планируемые результаты освоения обучающимися основной образовательной программы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53008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анируемые результаты - система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бобщенных личностно-ориентированных целей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бразования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еспечивают связь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между требованиями Стандарта, образовательным процессом и системой оценки результатов освоения основной образовательной программы начального общего образ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вляются основой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для разработки основных образовательных программ начального общего образования образовате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вляются содержательной и критериальной основой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для разработки учебных программ и учебно-методической литературы, системы оценки качества освоения обучающимися основной образовательной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FB36-E8DB-4302-BE33-3D4100AF17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мерная основная образовательная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грамма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ДЕЛ 2.  Планируемые результаты освоения обучающимися основной образовательной программы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Уровни опис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ли - ориентиры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пределяющие ведущие целевые установки и основные ожидаемые результаты изучения данной учебной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ли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характеризующие систему учебных действий в отношении опорного учебного материала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«Выпускник научитс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ли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характеризующие систему учебных действий в отношении знаний, умений, навыков, расширяющих и углубляющих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опорную систему, или выступающих как пропедевтика для дальнейшего изучения данного предмета –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«Выпускник получит возможность научиться»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BA74-546D-45CB-A428-1F78CA4C68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мерная основная образовательная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грамма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ДЕЛ 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чебный план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Базисный учебный план - нормативная основа для разработки учебного плана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Базисный учебный план состоит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з дву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бязательной части и части, формируемой участниками образовательного процесса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включающей в том числе и внеурочную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 учебном плане образовательного учреждени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отражаются основные показатели базисного учебного пла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став учебных предметов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едельное распределение учебного времен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отводимого на освоение содержания образования по классам, учебным предмет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бщий и максимальный объем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аудиторной нагрузк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аправления внеурочной деятельност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формы ее организации, а также привлекаемые для ее реализации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B6DE-DAB1-42E9-8728-38971F0D2D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мерная основная образовательная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грамма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ДЕЛ 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имерная программа формирования 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Примерная программа формирования универсальных учебных действий для начального общего образ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станавливает ценностные ориентиры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нача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пределяет понятие, функции, состав и характеристик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универсальных учебных действий в младшем школьном возра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ыявляет связь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универсальных учебных действий с содержанием учебных предм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пределяет услови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обеспечивающие преемственность программы формирования у обучающихся универсальных учебных действий при переходе от дошкольного к начальному и основному общему образов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8CF8-92A5-4B53-8906-11A470BAAB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имерная основная образовательная программа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ДЕЛ 5. Примерные программы учебных предметов, к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сновой для разработки программ учебных предметов являются требования ФГОС к результата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граммы обеспечив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тех знаний, умений и способов деятельности, которые являются метапредмет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ыделени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не только содержания, но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идов учебной деятельности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пособы организации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учебной деятельности и сотрудничества, познавательной, творческой, художественно-эстетической и коммуникативной деятельности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соответствии с ФГОС программы 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яснительную запис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щую характеристику учебного предме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писание его места в учебном плане и ценностных ориентиров его содерж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личностные, метапредметные и предметные результаты освоения учебного предме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сновное содержание учебного предме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имерное тематическое планирование с определением основных видов учебной деятельности обучающих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писание материально-технического обеспечения образователь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91DE-2BF6-48BB-B0D4-E1704C4772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мерная основная образовательная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грамма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ДЕЛ 6  Примерная программа духовно-нравственного развития и воспитания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является ориентиром для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формирования всех разделов основной образовательной программы начального обще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нцептуальной и методической основой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разработки образовательным учреждением собственн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Струк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Цель и задач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Ценностные установк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 российских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и ценностные основы духовно-нравственного развития и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вместная деятельность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школы, семьи и общественности по духовно-нравственному развитию и воспит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ланируемые результаты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CC51-7959-4CB2-B8F2-712A0FA552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ституция Российской Федерации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татья 4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. Каждый имеет право на образо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5. Российская Федерация устанавливает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федеральные государственные образовательные стандарты,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поддерживает различные формы образования и самообраз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D4C3-6066-4A7E-8A5C-00727288DD3D}" type="slidenum">
              <a:t>2</a:t>
            </a:fld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мерная основная образовательная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грамма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ДЕЛ 7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мерная  программа формирования культуры здорового и безопасного  образа жиз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омплексная программа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формирования знаний, установок, личностных ориентиров и норм поведения, обеспечивающих сохранение и укрепление физического и психологического здоровья обучающихся как одного из ценностных составляющих, способствующих познавательному и эмоциональному развитию ребенка, достижению планируемых результатов освоения основной образовательной программы начально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6AD1-C505-40BE-A337-88BFDF4B09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52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мерная основная образовательная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программа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ЗДЕЛ 8  СИСТЕМА ОЦЕНКИ ДОСТИЖЕНИЯ ПЛАНИРУЕМЫХ РЕЗУЛЬТА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ъектом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истемы оценки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одержательной и критериальной базой выступают планируемые результаты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ункциями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риентация образовательного процесса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на духовно-нравственное развитие и воспитание младших школьников, достижение планируемых результатов освоения основной образовательной программы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еспечение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эффективной «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братной связ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», позволяющей осуществлять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регулирование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управление) системы образования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A1DE-F9FC-4DE8-84AE-A110BF2477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мерная основная образовательная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грамма</a:t>
            </a:r>
            <a:br>
              <a:rPr sz="20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ЗДЕЛ 8  СИСТЕМА ОЦЕНКИ ДОСТИЖЕНИЯ ПЛАНИРУЕМЫ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сновными направлениями и целями оценочной деятельност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в соответствии с требованиями Стандарта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ценка результатов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деятельности общероссийской, региональной и муниципальной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систем образовани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с целью получения, обработки и предоставления информации о состоянии и тенденций развития системы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ценка результатов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деятельности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образовательных учреждений и работников образовани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с целью получения, обработки и предоставления информации о качестве образовательных услуг и эффективности деятельности образовательных учреждений и работников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ценка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образовательных достижений учащихс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с целью итоговой оценки подготовки выпускников начальной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3A5F-583C-431D-A61F-7B5240D691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33360"/>
            <a:ext cx="9144000" cy="35892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ЗДЕЛ 8  СИСТЕМА ОЦЕНКИ ДОСТИЖЕНИЯ ПЛАНИРУЕМЫ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5734080"/>
            <a:ext cx="410364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Tahoma"/>
              </a:rPr>
              <a:t>Внутренняя оценка</a:t>
            </a:r>
            <a:r>
              <a:rPr b="0" lang="ru-RU" sz="1800" spc="-1" strike="noStrike">
                <a:solidFill>
                  <a:srgbClr val="00007d"/>
                </a:solidFill>
                <a:latin typeface="Tahoma"/>
              </a:rPr>
              <a:t>:</a:t>
            </a:r>
            <a:r>
              <a:rPr b="1" lang="ru-RU" sz="1800" spc="-1" strike="noStrike">
                <a:solidFill>
                  <a:srgbClr val="00007d"/>
                </a:solidFill>
                <a:latin typeface="Tahoma"/>
              </a:rPr>
              <a:t>учитель</a:t>
            </a:r>
            <a:r>
              <a:rPr b="0" lang="ru-RU" sz="1800" spc="-1" strike="noStrike">
                <a:solidFill>
                  <a:srgbClr val="00007d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Tahoma"/>
              </a:rPr>
              <a:t>ученик</a:t>
            </a:r>
            <a:r>
              <a:rPr b="0" lang="ru-RU" sz="1800" spc="-1" strike="noStrike">
                <a:solidFill>
                  <a:srgbClr val="00007d"/>
                </a:solidFill>
                <a:latin typeface="Tahoma"/>
              </a:rPr>
              <a:t>,ОУ и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96000" y="1268280"/>
            <a:ext cx="385128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ahoma"/>
              </a:rPr>
              <a:t>Внешняя оценка</a:t>
            </a:r>
            <a:r>
              <a:rPr b="0" lang="en-US" sz="2400" spc="-1" strike="noStrike">
                <a:solidFill>
                  <a:srgbClr val="00007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ahoma"/>
              </a:rPr>
              <a:t>государственные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2421000"/>
            <a:ext cx="2879640" cy="82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>
                  <a:alpha val="98039"/>
                </a:srgbClr>
              </a:gs>
              <a:gs pos="100000">
                <a:srgbClr val="ffffff">
                  <a:alpha val="95294"/>
                </a:srgbClr>
              </a:gs>
            </a:gsLst>
            <a:lin ang="135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аккредитация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аттестация кад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48360" y="2349360"/>
            <a:ext cx="194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108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образования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2205000"/>
            <a:ext cx="2736720" cy="0"/>
          </a:xfrm>
          <a:prstGeom prst="line">
            <a:avLst/>
          </a:prstGeom>
          <a:ln w="14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732360" y="2133720"/>
            <a:ext cx="34920" cy="34920"/>
          </a:xfrm>
          <a:prstGeom prst="line">
            <a:avLst/>
          </a:prstGeom>
          <a:ln w="144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732360" y="1989000"/>
            <a:ext cx="36360" cy="250920"/>
          </a:xfrm>
          <a:prstGeom prst="line">
            <a:avLst/>
          </a:prstGeom>
          <a:ln w="14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2133720"/>
            <a:ext cx="36360" cy="360360"/>
          </a:xfrm>
          <a:prstGeom prst="line">
            <a:avLst/>
          </a:prstGeom>
          <a:ln w="14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8028000" y="2133720"/>
            <a:ext cx="216000" cy="287280"/>
          </a:xfrm>
          <a:prstGeom prst="line">
            <a:avLst/>
          </a:prstGeom>
          <a:ln w="14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661000"/>
            <a:ext cx="3961080" cy="6426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Накопленная оценка (портфель достиже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645000"/>
            <a:ext cx="856908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91372"/>
                </a:srgbClr>
              </a:gs>
              <a:gs pos="50000">
                <a:srgbClr val="ccffff">
                  <a:alpha val="67058"/>
                </a:srgbClr>
              </a:gs>
              <a:gs pos="100000">
                <a:srgbClr val="000000">
                  <a:alpha val="91372"/>
                </a:srgbClr>
              </a:gs>
            </a:gsLst>
            <a:lin ang="54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 Narrow"/>
              </a:rPr>
              <a:t> 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Государственная итоговая аттестация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/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Итоговая оценка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7d"/>
              </a:buClr>
              <a:buSzPct val="111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 Narrow"/>
              </a:rPr>
              <a:t>обеспечивает связь внешней и внутренней оценки и является </a:t>
            </a:r>
            <a:r>
              <a:rPr b="1" lang="ru-RU" sz="1800" spc="-1" strike="noStrike" u="sng">
                <a:solidFill>
                  <a:srgbClr val="00007d"/>
                </a:solidFill>
                <a:uFillTx/>
                <a:latin typeface="Arial Narrow"/>
              </a:rPr>
              <a:t>основой для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7d"/>
                </a:solidFill>
                <a:uFillTx/>
                <a:latin typeface="Arial Narrow"/>
              </a:rPr>
              <a:t>процедур внешней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7d"/>
              </a:buClr>
              <a:buSzPct val="111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 Narrow"/>
              </a:rPr>
              <a:t>строится на основе а) накопленной текущей оценки, б) оценки за итог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 Narrow"/>
              </a:rPr>
              <a:t>работы, в) оценки за подготовку и презентацию проектной работы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1197000"/>
            <a:ext cx="2879640" cy="1944720"/>
          </a:xfrm>
          <a:prstGeom prst="wedgeRoundRectCallout">
            <a:avLst>
              <a:gd name="adj1" fmla="val 33680"/>
              <a:gd name="adj2" fmla="val 76449"/>
              <a:gd name="adj3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1268280"/>
            <a:ext cx="2276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Соотно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внутрен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и внешней 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в итоговой  оцен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ее состав зави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от ступени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ECEB-FBAA-4AB6-A1E0-C8DD4506A5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333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8820000" cy="620640"/>
          </a:xfrm>
          <a:prstGeom prst="rect">
            <a:avLst/>
          </a:prstGeom>
          <a:ln w="0">
            <a:noFill/>
          </a:ln>
        </p:spPr>
      </p:pic>
      <p:sp>
        <p:nvSpPr>
          <p:cNvPr id="214" name="Содержимое 2"/>
          <p:cNvSpPr/>
          <p:nvPr/>
        </p:nvSpPr>
        <p:spPr>
          <a:xfrm>
            <a:off x="0" y="1052640"/>
            <a:ext cx="9396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критерии достижения – планируемые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ценка предметных, метапредметных, личностных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ценка способности решать учебно-практические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очетание внутренней и внешней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комплексный подход: исполь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тандартизированных работ (устных, письменны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нестандартизированных работ: проектов, практических работ, портфолио, самоанализа, самооценк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ровневый подход  в инструментарии, в представлени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накопительная система оценки индивидуальных дост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спользование персонифицированной и неперсонифицированн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нтерпретация результатов на основе контекстн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76280"/>
            <a:ext cx="896472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истема оценки: основные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77F5-3214-4378-A757-7314D0DBAC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Контакты</a:t>
            </a: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Координатор проекта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юбовь Николаевна Феденко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_x000b_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nfedenko@mail.ru</a:t>
            </a:r>
            <a:br>
              <a:rPr sz="2400"/>
            </a:b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8-(499)-245-78-15</a:t>
            </a:r>
            <a:br>
              <a:rPr sz="2400"/>
            </a:b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Обсуждение документов на сайт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www.standart.edu.ru</a:t>
            </a:r>
            <a:br>
              <a:rPr sz="2400"/>
            </a:b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fgos.isiorao.r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87960" y="549360"/>
            <a:ext cx="3056040" cy="647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1568-91E3-4EED-AD18-CAB8CEF1BC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кон «Об образовании»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татья 7. Федеральные государственные образовательные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Федеральные государственные образовательные стандарты включают в себя требования 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труктуре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основных образовательных программ, в том числе требования к соотношению частей основной образовательной программы и их объему, а также к соотношению обязательной части основной образовательной программы и части, формируемой участниками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условиям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реализации основных образовательных программ, в том числе кадровым, финансовым, материально-техническим и иным услов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3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езультатам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освоения основных образовательных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8A90-CEA2-4A7A-B316-253D6A19716C}" type="slidenum">
              <a:t>3</a:t>
            </a:fld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СТАНОВЛЕНИЕ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авительства Российской Федерации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т 24 февраля 2009 г. N 142</a:t>
            </a:r>
            <a:br>
              <a:rPr sz="18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б утверждении Правил разработки и утверждения </a:t>
            </a: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федеральных государственных образовательных стандартов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тандарты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могут разрабатываться по образовательным уровням, ступеням образования, профессиям, направлениям подготовки, специальност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инистерство образования и науки Российской Федераци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обеспечивает разработку проектов стандартов с привлечением заинтересованных органов исполнительной власти, государственно-общественных объединений, действующих в системе образования, ведущих образовательных и научных учреждений, представителей научно-педагогических сообществ, объединений работодателей и институтов общественного участия в управлении образ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5734080"/>
            <a:ext cx="8820000" cy="11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B6A7-00D0-4E71-8334-204B155F8440}" type="slidenum">
              <a:t>4</a:t>
            </a:fld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ИНИСТЕРСТВО ОБРАЗОВАНИЯ И НАУКИ 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ОССИЙСКОЙ ФЕДЕРАЦИ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 Р И К А З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   «6»__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октября ____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г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№__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373__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Об утверждении и введении в действие федерального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государственного образовательного стандарта начального общего образования</a:t>
            </a: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 соответствии с пунктом 5.2.8 Положения о Министерстве образования и науки Российской Федерации, утвержденного постановлением Правительства Российской Федерации от 15 июня 2004 г. № 280 пунктом 7 Правил разработки и утверждения федеральных государственных образовательных стандартов, утвержденных постановлением Правительства Российской Федерации от 24 февраля 2009 г. № 142 </a:t>
            </a: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(Собрание законодательства Российской Федерации, 2009, № 9, ст. 1110), приказываю:</a:t>
            </a: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твердить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лагаемый федеральный государственный образовательный стандарт начального общего образования.</a:t>
            </a: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вести в действие с 1 января 2010 год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федеральный государственный образовательный стандарт, утвержденный настоящим приказом.</a:t>
            </a: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Министр                                                                                                    А. Фурс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3400" y="0"/>
            <a:ext cx="2190600" cy="5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ADF1C-853A-43C6-BD62-7492472DBC2F}" type="slidenum">
              <a:t>5</a:t>
            </a:fld>
          </a:p>
        </p:txBody>
      </p:sp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кон РФ «Об образовании»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Ст.9 Образовательная програм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бразовательная программа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определяет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образования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определенных уровня и направл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разовательная  пр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общеобразовательная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(основная и дополнитель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2) профессиональная (основная и дополнитель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сновная общеобразовательная программа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направлена на решение задач формирования общей культуры личности, адаптации личности к жизни в обществе, на создание основы для осознанного выбора и освоения профессиональных 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 основным общеобразовательным относятся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) дошкольн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начального общего образования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3) основ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4) среднего (полного)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8820000" cy="6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68F9-E288-481B-B98D-981C50F6D02E}" type="slidenum">
              <a:t>6</a:t>
            </a:fld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кон РФ «Об образовании»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Ст.14, 29 Образователь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Основная образовательная программа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утверждается  и реализуется образовательным учреждением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самостоя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Основная образовательная про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образова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учреждения  разрабатывается на основе соответствующ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имерных основных образовательных про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Примерная основная образовательная программа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разрабатывается на основе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федеральных государственных образовательных стандар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Разработка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примерных основных образовательных программ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обеспечивается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уполномоченными федеральными государственными орган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Органы государственной власти субъекта Российской Федерации в сфере образования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могут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принимать участие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в разработке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примерных основных образовательных программ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(в части учета региональных, национальных и этнокультурных особенностей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6093000"/>
            <a:ext cx="8820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1D04-8B45-4736-9B45-7C0B36D5A7A1}" type="slidenum">
              <a:t>7</a:t>
            </a:fld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От ФГОС к основной образовательной программе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6402240"/>
            <a:ext cx="9144000" cy="90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95640" y="1413000"/>
            <a:ext cx="6551640" cy="79200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2637000"/>
            <a:ext cx="6624360" cy="1512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имерная основная образов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грамма  нач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5157720"/>
            <a:ext cx="6624360" cy="120168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сновная образовательная 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1008720" y="2493000"/>
            <a:ext cx="288144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lin ang="108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Федера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2997360"/>
            <a:ext cx="1079640" cy="12222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У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реги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013360"/>
            <a:ext cx="1763640" cy="9144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образова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3933720"/>
            <a:ext cx="486000" cy="976320"/>
          </a:xfrm>
          <a:prstGeom prst="downArrow">
            <a:avLst>
              <a:gd name="adj1" fmla="val 40519"/>
              <a:gd name="adj2" fmla="val 5944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1844640"/>
            <a:ext cx="485640" cy="831960"/>
          </a:xfrm>
          <a:prstGeom prst="downArrow">
            <a:avLst>
              <a:gd name="adj1" fmla="val 100000"/>
              <a:gd name="adj2" fmla="val 4679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1916280"/>
            <a:ext cx="485640" cy="904680"/>
          </a:xfrm>
          <a:prstGeom prst="downArrow">
            <a:avLst>
              <a:gd name="adj1" fmla="val 100000"/>
              <a:gd name="adj2" fmla="val 593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4581360"/>
            <a:ext cx="716436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сновная образовательная программа ОУ разрабатывается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ABAD-9E79-4455-81AD-640A58050E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413000"/>
            <a:ext cx="4643280" cy="3022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7c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1712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освоен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специфической для да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предметн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деятельности по получению н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знания, его преобразо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применению, система основополага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элементов научного знания, лежа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в основе нау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картины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1557360"/>
            <a:ext cx="4500720" cy="288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освоенные  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учебные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обеспечивающие овла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ключевыми компетенц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составляющими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умения уч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и меж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900000" y="4437000"/>
            <a:ext cx="7632720" cy="165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сформированность мотивации к обучению и познанию, цен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установки обучающихся, социальные компетен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личностные ка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0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Результаты освоения основных образовательных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89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6165720"/>
            <a:ext cx="799308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6f7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Развитие компетентности к обновлению 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1320" y="260280"/>
            <a:ext cx="8745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ГОС НОО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ования к результатам – ведущая, системообразующая составля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83F9-9B67-472D-94D2-662FD2A7B9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1:10:15Z</dcterms:created>
  <dc:creator>comp</dc:creator>
  <dc:description/>
  <dc:language>en-US</dc:language>
  <cp:lastModifiedBy>comp</cp:lastModifiedBy>
  <dcterms:modified xsi:type="dcterms:W3CDTF">2010-01-31T13:58:32Z</dcterms:modified>
  <cp:revision>24</cp:revision>
  <dc:subject/>
  <dc:title>Разработка основной образовательной программы образовательного  учреждения на основе Примерной основной образовательной программы </dc:title>
</cp:coreProperties>
</file>