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.gif" ContentType="image/gi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68C-EA44-4874-BBAB-CFA9D11C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5E1-764B-4AA5-AA9B-8571B3F1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475-D567-42FC-ABC3-6681F401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34F-F3E5-4158-B8F3-20AB16C4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336-33D6-4147-BE5B-BD837C8E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B12-F0B8-4D7B-BCEF-ED79B633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660-6999-45A0-9F44-668941DC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7D9-5A53-4AE5-A13A-602D8418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85C-E2D7-4E26-9A17-D098356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EF7-63AA-454B-B9F3-3CF8F53D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471-07C5-4692-AD62-51F92A9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CCE-3346-4A6E-98DB-F0E0654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3B21-CA5C-4596-837F-6FB62D5128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лексей\Pictures\54236140.gif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642960" y="221472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haroni"/>
              </a:rPr>
              <a:t>«</a:t>
            </a:r>
            <a:r>
              <a:rPr b="0" lang="ru-RU" sz="5400" spc="-1" strike="noStrike">
                <a:solidFill>
                  <a:srgbClr val="ffffff"/>
                </a:solidFill>
                <a:latin typeface="Arial Black"/>
                <a:ea typeface="Aharoni"/>
              </a:rPr>
              <a:t>Жизнь для себя и нравственность несовместимы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  <a:ea typeface="Aharoni"/>
              </a:rPr>
              <a:t>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 Black"/>
                <a:ea typeface="Aharoni"/>
              </a:rPr>
              <a:t>Л.Н.Толсто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C:\Users\Алексей\Desktop\art083_50x60_Iisus_Hristos.jpg"/>
          <p:cNvPicPr/>
          <p:nvPr/>
        </p:nvPicPr>
        <p:blipFill>
          <a:blip r:embed="rId1"/>
          <a:stretch/>
        </p:blipFill>
        <p:spPr>
          <a:xfrm>
            <a:off x="1285920" y="214200"/>
            <a:ext cx="63579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Алексей\Desktop\ Урок После бала\Бал начал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д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нравственных закон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Moy laskoviy i nezhniy zver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775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C:\Users\Алексей\Desktop\ Урок После бала\конец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Чайковский_П.И._-_Чайковский_П.И._Сентиментальный_вальс_(audiopoisk.com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C:\Users\Алексей\Desktop\ Урок После бала\книга.jpg"/>
          <p:cNvPicPr/>
          <p:nvPr/>
        </p:nvPicPr>
        <p:blipFill>
          <a:blip r:embed="rId1"/>
          <a:stretch/>
        </p:blipFill>
        <p:spPr>
          <a:xfrm>
            <a:off x="785880" y="2571840"/>
            <a:ext cx="3000240" cy="390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Алексей\Desktop\ Урок После бала\толстой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Моральная ответственность человека за все происходящее вокруг» ( на примере рассказа Л.Н.Толстого «После бала»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Ш. Гуно Вальс.mp3" descr=""/>
          <p:cNvPicPr/>
          <p:nvPr/>
        </p:nvPicPr>
        <p:blipFill>
          <a:blip r:embed="rId3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95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ость не может быть ни на чем основана, кроме как на осознании себя духовным существом, единым со всеми другими. Жизнь для себя и нравственность несовместимы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.Н.Толсто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4" descr="C:\Users\Алексей\Desktop\Tolstoy_5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C:\Users\Алексей\Desktop\ Урок После бала\к произ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Свиридов Метель.mp3" descr=""/>
          <p:cNvPicPr/>
          <p:nvPr/>
        </p:nvPicPr>
        <p:blipFill>
          <a:blip r:embed="rId2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662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C:\Users\Алексей\Desktop\ Урок После бала\штор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Тревожная_музыка_12.mp3" descr=""/>
          <p:cNvPicPr/>
          <p:nvPr/>
        </p:nvPicPr>
        <p:blipFill>
          <a:blip r:embed="rId2"/>
          <a:stretch/>
        </p:blipFill>
        <p:spPr>
          <a:xfrm>
            <a:off x="864396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71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Алексей\Desktop\ Урок После бала\К произведе Бал.jpg"/>
          <p:cNvPicPr/>
          <p:nvPr/>
        </p:nvPicPr>
        <p:blipFill>
          <a:blip r:embed="rId1"/>
          <a:stretch/>
        </p:blipFill>
        <p:spPr>
          <a:xfrm>
            <a:off x="2000160" y="2786040"/>
            <a:ext cx="2071800" cy="2714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785880"/>
            <a:ext cx="900108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нализ эпизода</a:t>
            </a:r>
            <a:br>
              <a:rPr sz="36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Описание бала               После бала</a:t>
            </a: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ыпишите выразительные средства: эпитеты, характеризующ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ал                                                                 Героев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Цвета                                                              Цве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ероев                                                Звуки музык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увства                                                           Чувств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C:\Users\Алексей\Desktop\ Урок После бала\Поковник после бала.jpg"/>
          <p:cNvPicPr/>
          <p:nvPr/>
        </p:nvPicPr>
        <p:blipFill>
          <a:blip r:embed="rId2"/>
          <a:stretch/>
        </p:blipFill>
        <p:spPr>
          <a:xfrm>
            <a:off x="4214880" y="2786040"/>
            <a:ext cx="1928880" cy="2714760"/>
          </a:xfrm>
          <a:prstGeom prst="rect">
            <a:avLst/>
          </a:prstGeom>
          <a:ln w="0">
            <a:noFill/>
          </a:ln>
        </p:spPr>
      </p:pic>
      <p:pic>
        <p:nvPicPr>
          <p:cNvPr id="62" name="Полонез Агинского.mp3" descr=""/>
          <p:cNvPicPr/>
          <p:nvPr/>
        </p:nvPicPr>
        <p:blipFill>
          <a:blip r:embed="rId3"/>
          <a:stretch/>
        </p:blipFill>
        <p:spPr>
          <a:xfrm>
            <a:off x="8839080" y="6286680"/>
            <a:ext cx="304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599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Николай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    I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C:\Users\Алексей\Desktop\f_15999415.jpg"/>
          <p:cNvPicPr/>
          <p:nvPr/>
        </p:nvPicPr>
        <p:blipFill>
          <a:blip r:embed="rId1"/>
          <a:stretch/>
        </p:blipFill>
        <p:spPr>
          <a:xfrm>
            <a:off x="2214720" y="178596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Users\Алексей\Desktop\ Урок После бала\image002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6:38:49Z</dcterms:created>
  <dc:creator>Алексей</dc:creator>
  <dc:description/>
  <dc:language>en-US</dc:language>
  <cp:lastModifiedBy>КОМП</cp:lastModifiedBy>
  <dcterms:modified xsi:type="dcterms:W3CDTF">2011-08-21T16:39:03Z</dcterms:modified>
  <cp:revision>28</cp:revision>
  <dc:subject/>
  <dc:title>Слайд 1</dc:title>
</cp:coreProperties>
</file>