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10.jpeg" ContentType="image/jpeg"/>
  <Override PartName="/ppt/media/image29.jpeg" ContentType="image/jpeg"/>
  <Override PartName="/ppt/media/image35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30.jpeg" ContentType="image/jpeg"/>
  <Override PartName="/ppt/media/image33.jpeg" ContentType="image/jpeg"/>
  <Override PartName="/ppt/media/image37.jpeg" ContentType="image/jpeg"/>
  <Override PartName="/ppt/media/image38.jpeg" ContentType="image/jpeg"/>
  <Override PartName="/ppt/media/image44.jpeg" ContentType="image/jpeg"/>
  <Override PartName="/ppt/media/image22.jpeg" ContentType="image/jpeg"/>
  <Override PartName="/ppt/media/image9.png" ContentType="image/png"/>
  <Override PartName="/ppt/media/image20.jpeg" ContentType="image/jpeg"/>
  <Override PartName="/ppt/media/image31.jpeg" ContentType="image/jpeg"/>
  <Override PartName="/ppt/media/image41.png" ContentType="image/png"/>
  <Override PartName="/ppt/media/image43.jpeg" ContentType="image/jpeg"/>
  <Override PartName="/ppt/media/image11.jpeg" ContentType="image/jpeg"/>
  <Override PartName="/ppt/media/image36.png" ContentType="image/png"/>
  <Override PartName="/ppt/media/image6.png" ContentType="image/png"/>
  <Override PartName="/ppt/media/image8.jpeg" ContentType="image/jpeg"/>
  <Override PartName="/ppt/media/image39.jpeg" ContentType="image/jpeg"/>
  <Override PartName="/ppt/media/image5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9398-5E64-4798-9026-DF0E3074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91CB-64B0-4404-BEA8-0472777A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B6E243-E7A6-41E0-AB2F-8C5B88FD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B67AA6-A4BC-419C-93A3-591BCE30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4225EF-50AC-4042-B6E6-AFFC0780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C3A797-3EF1-4591-B5BD-2F93150D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19B9AE-B668-473A-A871-29B89D60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FA9919-C8C1-4704-8BDA-867D8780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BFD89F-A89A-45B3-9359-723DD31D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9B79FC-0C52-4C43-B148-5BAD9D2F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6CAC41-FEB4-4E61-9B35-BEE94443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E4A9-2E0F-428A-BF38-0E2C065E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85EC-F10B-4ABF-ABC9-573A3A5F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2412E-3064-46A0-89BF-BE42945A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B4300-8D50-4882-9311-A6E0FEA8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D9204-2727-4022-9FD5-821C682D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EC696-2A36-4E34-9D65-9C7D83CB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35CE6-4ED8-47CF-AE46-33B3803E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9A4F9-CDB8-4AC4-A2FC-CAF8DD58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7433B-6642-4C53-A1F5-E4C51AFB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5E6-103A-4BEB-9D2A-944019C4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8FFDC-7086-4724-BCF7-83478232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1080D-8972-4ADC-A810-B058D73A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CFC9D-98D4-4636-915E-AD08AA11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C6140-B53C-4629-8D5B-41B4E4E8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11DED-340B-441A-9A97-D35260BB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C0C34-DB9D-4573-A26A-85D098B2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F0569-79E8-4E34-9D81-D29FBF73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4834B-8E7A-4807-A392-F20641E8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DE6DD-0AA3-4C18-8FB7-2181C9E2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62FE3-68DA-47CF-AC9F-B0B73933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0B8-0D6D-48EC-ABA5-14F29198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A5446-1172-4F63-8F3C-8EAF3152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0F0DF-F2E0-4C07-ABF4-38B5676A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2565B-B43B-46D8-A539-7D688699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F9CA5-7F3E-4DEF-99F3-405EB54D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96E4D-3424-445A-B7C8-3EDBF725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DD7D3-40C3-4F43-9A17-867A13B7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4F04B-B46C-4EE4-83D2-45E71F83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249AF3-C7C2-4A5D-8935-FE522EAD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DDC2A6-485B-4DD9-917B-52634E77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B55FDF-2001-451D-AA72-B993A985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04E5-E697-497B-B087-1369794F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06DA2B-27A0-4092-B35C-64655F53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DFA862-39A0-44A9-AB4E-7B1D92A6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BC9FDB-AABD-484F-9046-A420E18D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D1F789-50B8-4E3C-BDE8-73D9C41B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713D9E-5AC5-4280-96FC-69340A3C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D13AED-4AD3-4258-A223-135FAEE9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29139E-0389-454D-A51F-200E46EF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F3D589-6DE6-40FD-9385-8FB322EF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6D320E-E224-4EA8-9038-2B608E77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3E040-FE0A-4714-9E84-32172DA2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48CC-AC47-4C81-86BD-E7956F14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DA871-9A64-45BB-8EA3-81F0B8E7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080CE-439E-4B86-9657-E8CB5778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F425B-35B9-4D36-9B1A-22963E60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B28BA-DFDA-4361-86B4-AEAD7E9F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4C0E0-9450-4BB0-A84D-61580594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1BAF1-79AE-445F-B6A4-8A6E74ED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A326F-3B76-4F10-B7C8-B97A0F74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AD747-6353-45AA-B7A3-FB957D7B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4D74E-4BCA-47B6-A738-883D7F1E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AD655-E090-4326-8D2C-F2608FF0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A7BF-E3E6-41C7-AE5C-72C6DFE4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B2C8F-17B5-451E-87CD-C6854FF7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89567-6B6A-4AFC-8298-70BC5F56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3EC31-3DEE-4AE6-9161-A2A24D5D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54955-86D0-4915-B678-8E23DE62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9609E-737D-4140-A832-1C967E2B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6A5F1-D7A7-4E68-A254-51ADD2DA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F4EF5-61ED-4251-B28F-A64CA5CF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E2C10-987C-4C50-B302-0D969BDC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5914D-D5AB-4473-9AEC-1343E892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22681-6996-4912-B04F-7B84FE9E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9FBF-4547-47E1-9E4B-309E93E0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1A3C7-56C9-4623-962E-6E300FBE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BE5A9-7D5C-478B-818A-E7BE5C15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7643F-BDE4-430F-8F13-5933D42F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B9A9C-C208-42F9-8DED-51B79994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4F460-204B-4B43-B132-1B038282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780C5-8961-499D-9E93-79E43167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D98F4-8548-4071-B67F-EBD4A357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400CF-35ED-41B4-A9A0-FD412DCB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4EEBD-B316-4216-834A-DF623DCB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1A98B-576C-4D8A-97C1-F8845E74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A428-577F-4A17-8C90-A6E1B02E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4C8E4-0E7D-4C81-B783-236DAA59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402A8-D142-4F6F-B05C-9F7E1FC0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843B7-EEEE-4AD3-9FD8-0BA43A00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71DC4-450F-4FF5-9CA5-4136B944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E453A-DD29-4C39-BDFD-45BFDE1E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174E2B-9C86-4F0E-8F58-BBF45021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5B1872-0577-4BD1-B31A-FBEF5D0B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CF2091-283C-439E-862D-A9B3F9CD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4EE90C-3A0B-4042-B82B-83FAEB76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ADFC53-B353-4F97-865B-68A9C9FD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DFB5-ECC9-4723-B81C-35F1BAFF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540BA4-C1EC-4DF0-AD87-2DC0AC41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AEE72C-D740-43DF-9997-C00F7FB5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540058-379F-435B-A098-436B1FEC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32DD9C-05B0-499D-9986-07755810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D37106-1191-4ACF-AFA5-F737CF5C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57C64E-3EB3-4FEC-8CBF-F7E40D43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DA92C9-A25C-4D2F-A4DB-A9F19252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4DE924-7403-4CDE-8FA1-8AC6DC7A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00DB0B-F6A7-4199-B5F4-927012B1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C8B34B-4202-4D70-9059-C8E1E0D9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6673-7825-4EEF-A512-D0832E460B7A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5952-0B24-4C2C-8160-D144F2894759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6458-CB4C-431A-9365-6DE29627C627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BF20-0E17-445D-BD04-C80DD6CFECBC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8887-A8CF-4FA8-B30D-561EE3DC4E58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2A7F-6577-4B0C-A4FB-F2E7E68CC553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921E-FF38-4FAE-944C-B512BD7AFA42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18CD-B624-4B50-9C2E-5ED477492395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2707-36A7-47D8-BD96-EE7FFB1C486E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14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534520" cy="1500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C:\Users\User\Pictures\iCAESQBGZ.jpg"/>
          <p:cNvPicPr/>
          <p:nvPr/>
        </p:nvPicPr>
        <p:blipFill>
          <a:blip r:embed="rId2"/>
          <a:stretch/>
        </p:blipFill>
        <p:spPr>
          <a:xfrm>
            <a:off x="395280" y="1628640"/>
            <a:ext cx="3719520" cy="43927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643280" y="1557360"/>
            <a:ext cx="4176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собие по страноведению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788000" y="2492280"/>
            <a:ext cx="389880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Выполнила </a:t>
            </a: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Журбенко Марина Анатольевна, 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преподаватель</a:t>
            </a: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английского языка высшей категории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Book Antiqua"/>
              </a:rPr>
              <a:t>ФГОУ «Оренбургское Президентское Кадетское Училище»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2011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berns29jpg"/>
          <p:cNvPicPr/>
          <p:nvPr/>
        </p:nvPicPr>
        <p:blipFill>
          <a:blip r:embed="rId2"/>
          <a:stretch/>
        </p:blipFill>
        <p:spPr>
          <a:xfrm>
            <a:off x="611280" y="765000"/>
            <a:ext cx="3828960" cy="54007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астёт камыш среди реки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Он нежен, прям и тонок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Я в жизни лучшие деньки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ровёл среди девчонок…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1774г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оберт встречает Джин Армор, дочь богатого подрядчика, ставшую его судьбой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 полях, под снегом и дождём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Мой милый друг,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Мой бедный друг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Тебя укрыл бы я плащом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От зимних вьюг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От зимних вьюг…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1781г. Тяжело больной отец отправляет Роберта в г. Эрвин поработать на льночесалке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Знакомство с поэзией Роберта Фергюссона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Ни урны, ни торжественного слова,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Ни статуи в его ограде нет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Лишь голый камень говорит сурово: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-- Шотландия! Под камнем –        твой поэт!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Бернс начал серьёзно заниматься шотландским фольклором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9" name="Picture 7" descr="berns25"/>
          <p:cNvPicPr/>
          <p:nvPr/>
        </p:nvPicPr>
        <p:blipFill>
          <a:blip r:embed="rId2"/>
          <a:stretch/>
        </p:blipFill>
        <p:spPr>
          <a:xfrm>
            <a:off x="4140360" y="1844640"/>
            <a:ext cx="4500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1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108000" y="333000"/>
            <a:ext cx="42480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0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Роберт Бернс много путешествует по дальним сёлам Шотландии, собирая сказки, песни и легенды.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0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Создаются знаменитые баллады «Тэм О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’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Шентер», «Молодой Тэмлейн», «Король Генри», «Лорд Рональд», «Карлик» и многие другие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2" name="Picture 8" descr="berns37"/>
          <p:cNvPicPr/>
          <p:nvPr/>
        </p:nvPicPr>
        <p:blipFill>
          <a:blip r:embed="rId2"/>
          <a:stretch/>
        </p:blipFill>
        <p:spPr>
          <a:xfrm>
            <a:off x="4500720" y="1125360"/>
            <a:ext cx="4464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5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40384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Cambria"/>
              </a:rPr>
              <a:t>МАЛЕНЬКАЯ БАЛЛАДА,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Где-то девушка жила.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Что за девушка была!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И любила парня славного она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Но расстаться им пришлось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И любить друг друга врозь,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тому что началась война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За морями, за холмами --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Там, где пушки мечут пламя,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ердце воина не дрогнуло в бою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Это сердце трепетало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Только ночью, в час привала,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споминая милую свою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5" name="Picture 9" descr="berns38"/>
          <p:cNvPicPr/>
          <p:nvPr/>
        </p:nvPicPr>
        <p:blipFill>
          <a:blip r:embed="rId2"/>
          <a:stretch/>
        </p:blipFill>
        <p:spPr>
          <a:xfrm>
            <a:off x="4788000" y="1484280"/>
            <a:ext cx="36716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Чтобы поправить дела на ферме по совету друзей Роберт собирается в Вест-Индию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…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А ты, подруга, не грусти,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Чтобы тебя и честь спасти,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Бегу я в край далёкий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Нужда стучится к нам во двор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Грозят нам голод и позор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И суд молвы жестокой…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8" name="Picture 7" descr="b2"/>
          <p:cNvPicPr/>
          <p:nvPr/>
        </p:nvPicPr>
        <p:blipFill>
          <a:blip r:embed="rId2"/>
          <a:stretch/>
        </p:blipFill>
        <p:spPr>
          <a:xfrm>
            <a:off x="5076720" y="765000"/>
            <a:ext cx="338292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4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400960" cy="13114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berns2-0jpg"/>
          <p:cNvPicPr/>
          <p:nvPr/>
        </p:nvPicPr>
        <p:blipFill>
          <a:blip r:embed="rId2"/>
          <a:stretch/>
        </p:blipFill>
        <p:spPr>
          <a:xfrm>
            <a:off x="250920" y="1844640"/>
            <a:ext cx="3103560" cy="29988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berns5"/>
          <p:cNvPicPr/>
          <p:nvPr/>
        </p:nvPicPr>
        <p:blipFill>
          <a:blip r:embed="rId3"/>
          <a:stretch/>
        </p:blipFill>
        <p:spPr>
          <a:xfrm>
            <a:off x="5443560" y="176040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0" descr="berns12"/>
          <p:cNvPicPr/>
          <p:nvPr/>
        </p:nvPicPr>
        <p:blipFill>
          <a:blip r:embed="rId4"/>
          <a:stretch/>
        </p:blipFill>
        <p:spPr>
          <a:xfrm>
            <a:off x="3492360" y="4076640"/>
            <a:ext cx="30466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8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berns8jpg"/>
          <p:cNvPicPr/>
          <p:nvPr/>
        </p:nvPicPr>
        <p:blipFill>
          <a:blip r:embed="rId2"/>
          <a:stretch/>
        </p:blipFill>
        <p:spPr>
          <a:xfrm>
            <a:off x="684360" y="549360"/>
            <a:ext cx="3527280" cy="547200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ентябрь 1786г. Родились близнецы Роберт и Джин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«Дочурка, путь со мной бед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лучится, ежели когд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Я покраснею от стыда,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Боясь упрёк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Или неправого суда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Молвы жестокой…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27 ноября Бернс уезжает в Эдинбург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18 июля 1796 г.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«Дорогой сэр – пишет Роберт отцу Джинни – ради всего святого, пришлите мисс Армор сюда немедленно. Моя жена может родить с минуты на минуту.Боже правый, каково ей, бедняжке, остаться одной, без друга… Знаю и чувствую, что силы окончательно подорваны и недуг станет для меня смертельным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8" name="Picture 7" descr="berns47"/>
          <p:cNvPicPr/>
          <p:nvPr/>
        </p:nvPicPr>
        <p:blipFill>
          <a:blip r:embed="rId2"/>
          <a:stretch/>
        </p:blipFill>
        <p:spPr>
          <a:xfrm>
            <a:off x="4716360" y="1484280"/>
            <a:ext cx="3816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4" descr=""/>
          <p:cNvPicPr/>
          <p:nvPr/>
        </p:nvPicPr>
        <p:blipFill>
          <a:blip r:embed="rId1"/>
          <a:stretch/>
        </p:blipFill>
        <p:spPr>
          <a:xfrm>
            <a:off x="262080" y="-139680"/>
            <a:ext cx="8437320" cy="1797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7" descr="бернсjpg"/>
          <p:cNvPicPr/>
          <p:nvPr/>
        </p:nvPicPr>
        <p:blipFill>
          <a:blip r:embed="rId2"/>
          <a:stretch/>
        </p:blipFill>
        <p:spPr>
          <a:xfrm>
            <a:off x="250920" y="3213000"/>
            <a:ext cx="4519440" cy="33847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berns49"/>
          <p:cNvPicPr/>
          <p:nvPr/>
        </p:nvPicPr>
        <p:blipFill>
          <a:blip r:embed="rId3"/>
          <a:stretch/>
        </p:blipFill>
        <p:spPr>
          <a:xfrm>
            <a:off x="5003640" y="1773360"/>
            <a:ext cx="38451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7" descr="berns44"/>
          <p:cNvPicPr/>
          <p:nvPr/>
        </p:nvPicPr>
        <p:blipFill>
          <a:blip r:embed="rId2"/>
          <a:stretch/>
        </p:blipFill>
        <p:spPr>
          <a:xfrm>
            <a:off x="179280" y="189000"/>
            <a:ext cx="4105440" cy="460836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4427280" y="3284280"/>
            <a:ext cx="471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Одной мечтой с тех пор я жил: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Служить стране по мере сил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(Пускай они и слабы!),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Народу пользу принести –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Ну, что-нибудь изобрести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Иль песню спеть хотя бы!..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0" name="Picture 14" descr="map_shotlandia"/>
          <p:cNvPicPr/>
          <p:nvPr/>
        </p:nvPicPr>
        <p:blipFill>
          <a:blip r:embed="rId2"/>
          <a:stretch/>
        </p:blipFill>
        <p:spPr>
          <a:xfrm>
            <a:off x="5502240" y="1600200"/>
            <a:ext cx="2330640" cy="2185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5" descr="united-kingdom"/>
          <p:cNvPicPr/>
          <p:nvPr/>
        </p:nvPicPr>
        <p:blipFill>
          <a:blip r:embed="rId3"/>
          <a:stretch/>
        </p:blipFill>
        <p:spPr>
          <a:xfrm>
            <a:off x="539640" y="620640"/>
            <a:ext cx="3745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Rectangle 11" descr=""/>
          <p:cNvPicPr/>
          <p:nvPr/>
        </p:nvPicPr>
        <p:blipFill>
          <a:blip r:embed="rId1"/>
          <a:stretch/>
        </p:blipFill>
        <p:spPr>
          <a:xfrm>
            <a:off x="469800" y="2273400"/>
            <a:ext cx="8229600" cy="15127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0" descr="berns23jpg"/>
          <p:cNvPicPr/>
          <p:nvPr/>
        </p:nvPicPr>
        <p:blipFill>
          <a:blip r:embed="rId2"/>
          <a:stretch/>
        </p:blipFill>
        <p:spPr>
          <a:xfrm>
            <a:off x="468360" y="404640"/>
            <a:ext cx="2485800" cy="29275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8" descr="berns24pg"/>
          <p:cNvPicPr/>
          <p:nvPr/>
        </p:nvPicPr>
        <p:blipFill>
          <a:blip r:embed="rId3"/>
          <a:stretch/>
        </p:blipFill>
        <p:spPr>
          <a:xfrm>
            <a:off x="6516720" y="3573360"/>
            <a:ext cx="2303280" cy="29527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9" descr="berns4"/>
          <p:cNvPicPr/>
          <p:nvPr/>
        </p:nvPicPr>
        <p:blipFill>
          <a:blip r:embed="rId4"/>
          <a:stretch/>
        </p:blipFill>
        <p:spPr>
          <a:xfrm>
            <a:off x="1692360" y="3573360"/>
            <a:ext cx="2611440" cy="30243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3" descr="berns13"/>
          <p:cNvPicPr/>
          <p:nvPr/>
        </p:nvPicPr>
        <p:blipFill>
          <a:blip r:embed="rId5"/>
          <a:stretch/>
        </p:blipFill>
        <p:spPr>
          <a:xfrm>
            <a:off x="5796000" y="6206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534520" cy="15048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" descr="berns40"/>
          <p:cNvPicPr/>
          <p:nvPr/>
        </p:nvPicPr>
        <p:blipFill>
          <a:blip r:embed="rId2"/>
          <a:stretch/>
        </p:blipFill>
        <p:spPr>
          <a:xfrm>
            <a:off x="1162080" y="182088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berns28jpg"/>
          <p:cNvPicPr/>
          <p:nvPr/>
        </p:nvPicPr>
        <p:blipFill>
          <a:blip r:embed="rId3"/>
          <a:stretch/>
        </p:blipFill>
        <p:spPr>
          <a:xfrm>
            <a:off x="1042920" y="4221000"/>
            <a:ext cx="3270240" cy="24480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2" descr="berns42"/>
          <p:cNvPicPr/>
          <p:nvPr/>
        </p:nvPicPr>
        <p:blipFill>
          <a:blip r:embed="rId4"/>
          <a:stretch/>
        </p:blipFill>
        <p:spPr>
          <a:xfrm>
            <a:off x="324000" y="620640"/>
            <a:ext cx="2447640" cy="31957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0" descr="berns1s"/>
          <p:cNvPicPr/>
          <p:nvPr/>
        </p:nvPicPr>
        <p:blipFill>
          <a:blip r:embed="rId5"/>
          <a:stretch/>
        </p:blipFill>
        <p:spPr>
          <a:xfrm>
            <a:off x="3708360" y="1341360"/>
            <a:ext cx="25192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19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18600" cy="139536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 деревне парень был рождён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Но день, когда родился он,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 календари не занесён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Кому был нужен Робин?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Зато отметил календарь,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Что жил какой-то государь,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И в стены дома дул январь,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Когда родился Робин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4" name="Picture 12" descr="berns10jpg"/>
          <p:cNvPicPr/>
          <p:nvPr/>
        </p:nvPicPr>
        <p:blipFill>
          <a:blip r:embed="rId2"/>
          <a:stretch/>
        </p:blipFill>
        <p:spPr>
          <a:xfrm>
            <a:off x="4500720" y="1628640"/>
            <a:ext cx="2952720" cy="22114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6" descr="berns26"/>
          <p:cNvPicPr/>
          <p:nvPr/>
        </p:nvPicPr>
        <p:blipFill>
          <a:blip r:embed="rId3"/>
          <a:stretch/>
        </p:blipFill>
        <p:spPr>
          <a:xfrm>
            <a:off x="5975280" y="4122720"/>
            <a:ext cx="31687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6" descr=""/>
          <p:cNvPicPr/>
          <p:nvPr/>
        </p:nvPicPr>
        <p:blipFill>
          <a:blip r:embed="rId1"/>
          <a:stretch/>
        </p:blipFill>
        <p:spPr>
          <a:xfrm>
            <a:off x="225360" y="5211720"/>
            <a:ext cx="8400960" cy="1590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berns2jpg"/>
          <p:cNvPicPr/>
          <p:nvPr/>
        </p:nvPicPr>
        <p:blipFill>
          <a:blip r:embed="rId2"/>
          <a:stretch/>
        </p:blipFill>
        <p:spPr>
          <a:xfrm>
            <a:off x="3635280" y="1484280"/>
            <a:ext cx="5300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1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Был честный фермер мой отец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Он не имел достатка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Но от наследников своих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Он требовал порядка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Учил достоинство хранить,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Хоть нет гроша в карманах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трашнее – чести изменить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Чем быть в отрепьях рваных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0" name="Picture 9" descr="berns42"/>
          <p:cNvPicPr/>
          <p:nvPr/>
        </p:nvPicPr>
        <p:blipFill>
          <a:blip r:embed="rId2"/>
          <a:stretch/>
        </p:blipFill>
        <p:spPr>
          <a:xfrm>
            <a:off x="6516720" y="404640"/>
            <a:ext cx="2395440" cy="3598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3" descr="berns35"/>
          <p:cNvPicPr/>
          <p:nvPr/>
        </p:nvPicPr>
        <p:blipFill>
          <a:blip r:embed="rId3"/>
          <a:stretch/>
        </p:blipFill>
        <p:spPr>
          <a:xfrm>
            <a:off x="5756400" y="4221000"/>
            <a:ext cx="3387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775г. Землемерная школа в г. Кэркосвальд. Первые серьёзные стихи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777г. Семья переезжает на ферму недалеко от г.Тарболтон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К голосу Роберта начинают прислушиватьс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4" name="Picture 7" descr="berns46"/>
          <p:cNvPicPr/>
          <p:nvPr/>
        </p:nvPicPr>
        <p:blipFill>
          <a:blip r:embed="rId2"/>
          <a:stretch/>
        </p:blipFill>
        <p:spPr>
          <a:xfrm>
            <a:off x="5219640" y="692280"/>
            <a:ext cx="324000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1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В горах моё сердце… доныне я там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 следу оленя лечу по скалам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Гоню я оленя, пугаю козу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В горах моё сердце, а сам я внизу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7" name="Picture 7" descr="berns34"/>
          <p:cNvPicPr/>
          <p:nvPr/>
        </p:nvPicPr>
        <p:blipFill>
          <a:blip r:embed="rId2"/>
          <a:stretch/>
        </p:blipFill>
        <p:spPr>
          <a:xfrm>
            <a:off x="1835280" y="2276640"/>
            <a:ext cx="475272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8" descr=""/>
          <p:cNvPicPr/>
          <p:nvPr/>
        </p:nvPicPr>
        <p:blipFill>
          <a:blip r:embed="rId1"/>
          <a:stretch/>
        </p:blipFill>
        <p:spPr>
          <a:xfrm>
            <a:off x="-165240" y="768240"/>
            <a:ext cx="8394840" cy="14256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berns31"/>
          <p:cNvPicPr/>
          <p:nvPr/>
        </p:nvPicPr>
        <p:blipFill>
          <a:blip r:embed="rId2"/>
          <a:stretch/>
        </p:blipFill>
        <p:spPr>
          <a:xfrm>
            <a:off x="250920" y="2924280"/>
            <a:ext cx="4392360" cy="32907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716360" y="260280"/>
            <a:ext cx="39657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ы, кого водили в бой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Брюс, Уоллес за собой –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ы врага любой ценой Отразить готовы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Близок день, и час грядёт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раг надменный у ворот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Эдвард армию ведёт –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Цепи и оковы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Тех, кто может бросить меч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И рабом в могилу лечь,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Лучше вовремя отсечь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усть уйдут из строя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усть останется в строю,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Кто за родину свою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Хочет жить и пасть в бою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 мужеством героя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18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7" descr="berns27"/>
          <p:cNvPicPr/>
          <p:nvPr/>
        </p:nvPicPr>
        <p:blipFill>
          <a:blip r:embed="rId2"/>
          <a:stretch/>
        </p:blipFill>
        <p:spPr>
          <a:xfrm>
            <a:off x="250920" y="1052640"/>
            <a:ext cx="4249800" cy="39607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642920" y="260280"/>
            <a:ext cx="4038840" cy="629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робираясь до калитк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лем вдоль межи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Дженни вымокла до нитки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ечером во ржи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Очень холодно девчонке,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Бьёт девчонку дрожь: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Замочила все юбчонки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дя через рожь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Если кто-то звал кого-то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квозь густую рожь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 кого-то обнял кто-то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Что с него возьмёшь?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И какая нам забота,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Если у межи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Целовался с кем-то кто-то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ечером во ржи!.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5:03:34Z</dcterms:created>
  <dc:creator>Алексей Журбенко</dc:creator>
  <dc:description/>
  <dc:language>en-US</dc:language>
  <cp:lastModifiedBy>Бычкова</cp:lastModifiedBy>
  <dcterms:modified xsi:type="dcterms:W3CDTF">2012-01-10T08:41:29Z</dcterms:modified>
  <cp:revision>17</cp:revision>
  <dc:subject/>
  <dc:title>Robert Burns 25 January 1759 – July 1796</dc:title>
</cp:coreProperties>
</file>