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C7BD4-8C2A-4DFB-BAA2-17D2EE05CC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AB817-9149-4763-9CFE-1D33812A0097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491AC-1401-43EE-B710-F3BD48B95871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9BF3F-0085-400C-9452-A774B209E7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1BB28-E1DF-4198-AF37-C1034157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FFA6F-0C67-4D5F-A493-281237C3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CF646-9734-4D31-ACBD-9AE75D3E1C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1726A-A04F-443E-B3CB-E17A5A0372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78E5C-7DA1-4F8C-BCEB-DA40A280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DD7B8-A20A-4812-8228-17DC78BA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7F240-9021-4397-ACA0-0F2EE2BD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E4708-0177-42D0-B210-FB6561C5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02920" y="4982760"/>
            <a:ext cx="8180280" cy="48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BBB9C-3509-464A-8253-02E6FFDF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1866D-2CBC-4FB2-A263-03F13353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B7A8F-937C-4CAA-A5FD-2B8A0678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79D6A-658C-405B-A12F-10907C6C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6FDB7-C42D-4FB7-8C76-55CFDB55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2EA80-13F8-44A3-A212-6DA7E1F4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993CC-1E4E-4E6C-96C4-29E979AF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54210-7981-406D-B47C-8B7F36AC1A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E4E3-CBE3-483B-9C09-38717C2FAC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4297-9B91-4832-A2AD-885DBA0E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8AC7-E55B-4CE7-A18F-8EFE5713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E2A3-2230-42FE-90A7-2B3CBF79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1A73-927B-4B95-8E41-ED09E113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09CD2-F942-4451-A13B-4234F939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02920" y="4982760"/>
            <a:ext cx="8180280" cy="48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F5E9-20C3-4B27-ABF8-8B3575A0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8253-B9A0-4142-A800-0B66FFF2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A519-D5F6-4EEB-A292-73ACE330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3761-F201-4EDB-8B52-D32A2A73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771F-61BE-4D32-AA5B-01E29FF4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E7F3-E7ED-4BB0-8D20-6CEF7A74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4CD7-E6B4-4C4C-ADB4-2B1E994366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3FD67-1E41-4271-8647-94576C97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F7999-D1F2-4E7B-BF95-ACDB9482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2920" y="4982760"/>
            <a:ext cx="8180280" cy="48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E2347-2222-490E-BC2D-A878ECD6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17B06-0E11-4639-8DE2-B2F73A4A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22077-2C06-4BEB-9263-04F41858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1282B-48E0-4646-A748-3D737BCB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9040" y="433440"/>
            <a:ext cx="8305920" cy="3108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2160" y="1820520"/>
            <a:ext cx="7769520" cy="1825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27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9F1E1-12C1-49A6-95D5-6C1B88EF2AC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394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3776400" y="6111720"/>
            <a:ext cx="22827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0.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348400" y="6111360"/>
            <a:ext cx="453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04B522-6424-4C70-AC7E-A5303FE8E3CE}" type="slidenum">
              <a:rPr b="0" lang="ru-RU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dt" idx="5"/>
          </p:nvPr>
        </p:nvSpPr>
        <p:spPr>
          <a:xfrm>
            <a:off x="3776400" y="6111720"/>
            <a:ext cx="22827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0.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ldNum" idx="6"/>
          </p:nvPr>
        </p:nvSpPr>
        <p:spPr>
          <a:xfrm>
            <a:off x="8348400" y="6111360"/>
            <a:ext cx="453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421844-4CCC-4FED-B858-43A9F3D06DA6}" type="slidenum">
              <a:rPr b="0" lang="ru-RU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680" y="1000080"/>
            <a:ext cx="77724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Асабен Лариса Александровн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722160" y="3684240"/>
            <a:ext cx="7772400" cy="28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школа № 5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воспит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96200" y="1500120"/>
            <a:ext cx="6732360" cy="914760"/>
          </a:xfrm>
          <a:prstGeom prst="rect">
            <a:avLst/>
          </a:prstGeom>
          <a:noFill/>
          <a:ln w="42480">
            <a:solidFill>
              <a:srgbClr val="f07f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eb7800"/>
                </a:solidFill>
                <a:latin typeface="Verdana"/>
              </a:rPr>
              <a:t>Сирень   1945 го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643120" y="3000240"/>
            <a:ext cx="4388040" cy="28432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03280" y="53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2 июня 1941 года мирная жизнь нашего народа была прервана. Мирный труд наших людей оборвала война. Ради спасения Родины народ вступил в смертельную схватку с жестоким и беспощадным вра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57160" y="3143160"/>
            <a:ext cx="3382920" cy="2538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786200" y="3143160"/>
            <a:ext cx="3348000" cy="25113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7120" y="64296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ного горя и страха принесла война, но не смотря на холод, голод, разруху, наш  народ побед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00040" y="2928960"/>
            <a:ext cx="3389400" cy="2482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43280" y="2000160"/>
            <a:ext cx="3040200" cy="39243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503280" y="53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 хочу рассказать вам об одной традиции, которая появилась после войны. Пышные букеты сирени девушки дарили воинам – победителям, букетами сирени встречали поезда с войны. Яркая, ароматная, нежная майская сирень – растение, хранящее память о событиях 1945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71680" y="3000240"/>
            <a:ext cx="3830400" cy="2772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72000" y="2857680"/>
            <a:ext cx="4067280" cy="2950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503280" y="53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к появилась красивая традиция поздравлять воинов Великой Отечественной Войны в День Победы цветущими кистями сир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3743280" cy="2928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572000" y="2714760"/>
            <a:ext cx="4114800" cy="2987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60480" y="214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9257"/>
                </a:solidFill>
                <a:latin typeface="Verdana"/>
              </a:rPr>
              <a:t>Итог занятия: Поздравительная       </a:t>
            </a:r>
            <a:br>
              <a:rPr sz="2400"/>
            </a:br>
            <a:r>
              <a:rPr b="1" lang="ru-RU" sz="2400" spc="-1" strike="noStrike">
                <a:solidFill>
                  <a:srgbClr val="ff9257"/>
                </a:solidFill>
                <a:latin typeface="Verdana"/>
              </a:rPr>
              <a:t>газета ко Дню Побед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00040" y="150012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929040" y="2286000"/>
            <a:ext cx="4643640" cy="348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dur="indefinite" fill="hold">
                      <p:stCondLst>
                        <p:cond delay="0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