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A8E32-F8D5-443A-B2ED-F1866CE73F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49BE5-F851-4059-95CA-10F884FBA17D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C7C1C-9C39-4DC4-95DE-713DFD70728E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EA17-9C3E-4470-8713-8529D18F79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55D8-44AA-48CA-962D-D73830C8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4D7E-50DD-41B9-A761-61156C58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6BC9-9F37-4A2D-ACE5-3843DA728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CF4EF-B75C-4418-A3B3-F746268E3F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19B06-4D4D-4AC9-9444-53DE0973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61306-4F21-4C3B-8764-E3CC1EB1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3A729-112E-4616-922D-069066CE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7C0DE-B7E7-4DAE-9380-3046CF67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2760"/>
            <a:ext cx="8180280" cy="48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AF7F4-F3BE-479A-9996-A1C7EF6B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6E274-5F36-4A99-A2C6-DCD6E4B9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7C56-EF48-4FF8-9CBD-9C4050FC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80CAA-8A7A-412B-88E5-11478CCA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F0EF3-AC15-409A-9D42-192F3DC2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71C00-1EE5-4397-A966-3638454C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29A6D-C85E-4C4C-8602-050D33F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56837-DC2E-41B3-AB81-BDC8333A9C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D71D-E02F-4848-A87D-7B2D11CA0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F07A-7540-4E3E-8639-181F9F2E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2D0E-3FCB-4B61-ADED-BE001142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42C8-3A26-4D88-91FC-7BD77484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33A1-F64A-480A-9109-41820A63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FDA2B-CDEA-4B03-9682-7397DC06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2920" y="4982760"/>
            <a:ext cx="8180280" cy="48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397C-2DC2-4EE8-BF5C-5E904BFB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3D01-4193-4580-AF43-518CF216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4DD1-E3D7-481D-AE16-1C7D2C95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60A5-9C70-48FF-A88F-507BCCC3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CE1D-C314-4DF1-909D-439C9AA5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7FF3-A97B-4A87-8642-66103DB1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499A-FAE5-4AB5-9212-9AE3A6DCA2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FE75-3540-41D4-9441-6DD0FBCE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A539-E751-478E-ABF6-F471A78A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2760"/>
            <a:ext cx="8180280" cy="48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53F6-1BCE-408A-9D00-856E2ECB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5F06-A855-4D2F-B9B8-BECAB531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C11C-BF56-4E59-B3BE-2EA4683E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8DD4-E6F9-4CB3-A7AB-B1E1E1CB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9040" y="433440"/>
            <a:ext cx="8305920" cy="31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69520" cy="182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0C6A1-858F-4CBF-BD29-ADBAA41A01F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2760"/>
            <a:ext cx="818028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3776400" y="6111720"/>
            <a:ext cx="2282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0.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348400" y="6111360"/>
            <a:ext cx="453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3A09F1-EC16-4A90-A2F2-B8DCE2E45460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5"/>
          </p:nvPr>
        </p:nvSpPr>
        <p:spPr>
          <a:xfrm>
            <a:off x="3776400" y="6111720"/>
            <a:ext cx="22827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0.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Num" idx="6"/>
          </p:nvPr>
        </p:nvSpPr>
        <p:spPr>
          <a:xfrm>
            <a:off x="8348400" y="6111360"/>
            <a:ext cx="453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62FCF5-8342-4467-9426-3AC19B7C4BC3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7724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Асабен Лариса Александровн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28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школа № 5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воспит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96200" y="1500120"/>
            <a:ext cx="6732360" cy="914760"/>
          </a:xfrm>
          <a:prstGeom prst="rect">
            <a:avLst/>
          </a:prstGeom>
          <a:noFill/>
          <a:ln w="4248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eb7800"/>
                </a:solidFill>
                <a:latin typeface="Verdana"/>
              </a:rPr>
              <a:t>Сирень   1945 г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43120" y="3000240"/>
            <a:ext cx="4388040" cy="284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2 июня 1941 года мирная жизнь нашего народа была прервана. Мирный труд наших людей оборвала война. Ради спасения Родины народ вступил в смертельную схватку с жестоким и беспощадным вра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57160" y="3143160"/>
            <a:ext cx="3382920" cy="253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86200" y="3143160"/>
            <a:ext cx="3348000" cy="251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7120" y="64296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го горя и страха принесла война, но не смотря на холод, голод, разруху, наш  народ побед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00040" y="2928960"/>
            <a:ext cx="3389400" cy="2482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3280" y="2000160"/>
            <a:ext cx="304020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 хочу рассказать вам об одной традиции, которая появилась после войны. Пышные букеты сирени девушки дарили воинам – победителям, букетами сирени встречали поезда с войны. Яркая, ароматная, нежная майская сирень – растение, хранящее память о событиях 1945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71680" y="3000240"/>
            <a:ext cx="3830400" cy="277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4067280" cy="295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к появилась красивая традиция поздравлять воинов Великой Отечественной Войны в День Победы цветущими кистями сир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3743280" cy="292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2714760"/>
            <a:ext cx="4114800" cy="298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60480" y="214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9257"/>
                </a:solidFill>
                <a:latin typeface="Verdana"/>
              </a:rPr>
              <a:t>Итог занятия: Поздравительная       </a:t>
            </a:r>
            <a:br>
              <a:rPr sz="2400"/>
            </a:br>
            <a:r>
              <a:rPr b="1" lang="ru-RU" sz="2400" spc="-1" strike="noStrike">
                <a:solidFill>
                  <a:srgbClr val="ff9257"/>
                </a:solidFill>
                <a:latin typeface="Verdana"/>
              </a:rPr>
              <a:t>газета ко Дню Побе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29040" y="228600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0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