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FD6-7596-46C3-8C1A-9499832B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EE8-0D41-43AD-BD6F-C5F6D28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8D3BE-8D61-4260-8339-1400F09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9003-1CD9-493C-A143-FAB7FAE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542C5-F2AB-43D8-98DB-FC62B99E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B32F-8EE3-4439-96EE-EB0DEDF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0311-4FFC-454F-B19C-6C0063B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1556-26EB-462B-91F4-253CCB2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E9B4F-C087-4054-95F5-DE201761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E7AC-153B-4020-92BD-D38E1B06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D316-7A8F-4B7E-B2D0-5ABEFA9D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D9B-46BA-4D69-9FA6-B6443E96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A7A-9FCE-4BCD-B69B-F2291AA3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B5F8-0DD5-4D81-9183-FE239888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B3E6-E5EE-47CC-86BD-5CED6499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B55-26D5-4B53-A8BC-BB3ECE01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4A7-B7DF-4851-8FB1-B1908D8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121-2727-42BA-B799-D7B1F5C8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B8FC-31D7-4ABC-95B2-3AB2CD5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3E35-374B-4EFB-A677-7AD34691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845-4F8F-48F5-B027-A988FBC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7867-D5DA-4CE9-8404-4AE55FD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9D88-DA97-44E2-B139-53176DB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C32-E6D6-480B-904E-3A99245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CD4-44A8-43C7-A277-DF3C2528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77A2-D3CD-4F75-9B66-F5F6B318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5463-DF11-45E9-B058-E9A05A90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28E7-3361-4E23-98C2-38B4255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54A2-1784-450E-AB62-864C72F7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A509-D77C-445F-A3D5-23820B2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BB52-232D-4982-8E28-09023D02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F63-09D2-4831-9F9E-90E57C4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4FCB-49A2-4819-8737-E38B9C2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F3C0-5AA1-4A68-87DB-F5D3072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FA00-AA56-4FC6-8DDB-62755A5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2466-67BF-4C10-9011-74B778E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5F90-7CAA-4244-A84C-91365F8A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9631-A8F0-45FC-A9DB-E4FAA806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0788-E2F4-48AA-A80C-F7874ED1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4228-C83F-42EF-B597-31D149E0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45AE-671B-4BFB-9967-83B0E17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9EF3-3BED-4DCB-BBA8-A6EC1F0C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E94-7414-4DD7-A744-92ED50DE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D50D-675A-4C01-9A52-55E3358D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B111-6F9D-49A5-8369-926E34C2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FB79-8A56-40FD-BBC7-72AE3022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553B-05F7-4AEF-A9F8-DFB50D5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8011-774E-4790-A3B7-2C651376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CE74-6721-4836-9D93-22977B6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E65E-10FC-4BA8-8072-1414731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1F5C-2DE8-4558-A68A-884693D2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0EB9-01B4-47C8-A8AD-92722A4F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43CF-7939-4364-83CE-8E999730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6E9-43B0-4770-941E-85D9A86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758B-688B-40AE-9B29-C552A8C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1FE3-2532-4117-9F43-F727B531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3C7D-B9B7-4B98-9648-AC955D8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80E4-4FA5-4393-936B-A0159C8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514C-4DA7-41D8-9B8D-5DC70EB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8D12-B889-43ED-8456-E7B49B12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A467-ACC3-4C63-A981-318B743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CF40-BCD1-446E-9FB5-318CDA4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6BBF-5EC5-416C-8355-2D001E8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BBE6-F17E-418C-A080-8FEE4343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84C-3CC5-4C83-929C-BEDBF7DD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1DFC-D81A-41EC-8E26-94634CAD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7B08-E32E-417D-84DC-12CECDBD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BEF6-D494-4AD9-85AA-A9DB1A8F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77A5-ACCC-49CC-B786-0423482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F2104-9FCB-4872-9232-406C329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20E0-81B5-4C03-95CD-24CD088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FA8F-C09A-4494-96D4-05A30A2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F739-72A4-42B0-9D84-A845CB9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75BC8-3318-4CD7-9419-4E4FB16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D9A5-1ADD-4634-A635-2762F9A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B83-EAC0-4212-9FFB-7D51297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25F1-BAE1-43BE-AF5A-34FEF987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BDD3-D302-47D2-BC10-8C35DE8E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0C3B0-46DF-422B-960C-AE3521D5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679F-94E0-4B3C-A7B6-A2A7F544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DBF9-F7B9-4402-A116-F0DD3D99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D2C3-A7FB-42A5-AA5A-2D9C184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EB59-9A7B-4D67-A284-174AAF84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FE9D-5276-42B1-BDB0-A74298A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E890-5BD4-4A86-B335-E4FCA037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312C-DBF8-4BF7-BC34-B872DF4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15D-A63D-4497-BD88-337B1F9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67F25-92C4-4634-939C-CCBFCC2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C3D29-EA90-4FF2-B10E-54A4A99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5AF7-54CD-49FC-89E5-15F841B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2CD6-41D7-4207-B71D-17CAB782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6770-B005-492F-B0D7-B4EA28FF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C22E1-B544-4FFE-9116-E64AD4F6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0407E-194C-44CE-BE82-B36B83E2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3593-941C-4A95-99FC-25AF1C9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4A97-C2F5-402E-BD70-B6C09FC6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48CD-9E15-4220-ADEF-92B4C3F2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FE6-0A4C-41BF-84B6-F867C51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0AE3-332C-440B-A124-93DF6B0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D8AF-5CE7-430F-B579-E576FE1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B41C-2710-4548-B69E-66430EF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3460-A220-4053-BA12-17D35E1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6008-A405-47BC-BC7F-51DB7AF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5AEA-F073-442F-A00A-9370DF6F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08EB-5615-424A-AD84-2639E695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DF158-E0A4-42EF-B8AF-46E51C3E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C879E-4B26-4B4C-84E3-D11761E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81B5E-DD3A-40F2-9358-C3D0F4A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A00-D27D-404F-B3C6-D1BEB11A6C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2C85-F664-49F2-ADA3-974BF3FD5D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C1F-62A2-4AC2-A24B-399594F18D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339-D7FA-428C-B128-4C3E422FFC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6B2-17E9-45DD-BD1B-6329DF11B7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7C0F-3DCD-47FA-BA35-7027A13F02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8C9D-E4E8-4D41-ABFE-156D5399ED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43E-05A7-490E-BE02-70C63470D1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7C2-8AE7-4D93-A2C9-DD7CC412EC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ПК\Рабочий стол\62087150.png"/>
          <p:cNvPicPr/>
          <p:nvPr/>
        </p:nvPicPr>
        <p:blipFill>
          <a:blip r:embed="rId3"/>
          <a:stretch/>
        </p:blipFill>
        <p:spPr>
          <a:xfrm>
            <a:off x="1285920" y="1500120"/>
            <a:ext cx="6929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85680" y="689040"/>
            <a:ext cx="8979120" cy="5394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80520" y="856800"/>
            <a:ext cx="8458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садилось и косыми лучами освещало верхушку высокого дуба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ударил мороз, и цветы к утру замерзли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785880"/>
            <a:ext cx="86868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1. В ярком золоте день утопает, ручьи по оврагам шумят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2. Зацвели сады, и вся земля в саду побелела от лепестков яблонь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Franklin Gothic Book"/>
              </a:rPr>
              <a:t>3. Всю ночь земля вязала кружевные узоры, чтобы принарядилась земл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571320"/>
            <a:ext cx="86868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4e3b30"/>
                </a:solidFill>
                <a:uFillTx/>
                <a:latin typeface="Franklin Gothic Book"/>
              </a:rPr>
              <a:t>1. Укажите сложное предложение (знаки препинания не расставлены):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) Отшумела листва на деревьях и стала постепенно опадать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Б) Сад отцветал и темнел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) А дорога расстилается и шумит густая рожь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Г) Лучи солнца греют лицо и рук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4e3b30"/>
                </a:solidFill>
                <a:uFillTx/>
                <a:latin typeface="Franklin Gothic Book"/>
              </a:rPr>
              <a:t>2. Укажите сложное предложение, части которого связаны интонационно: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) Рванул ветер, и в воздухе закружилась пыль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Б) Дремлет лодочник у перевоза, обступила кругом тишин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) Все живое тянется к воде, и все вода дарит жизнь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Г) Солнце сияло и грело, но не пекло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4e3b30"/>
                </a:solidFill>
                <a:uFillTx/>
                <a:latin typeface="Franklin Gothic Book"/>
              </a:rPr>
              <a:t>3. Укажите предложение, в котором грамматическая основа выделена верно: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(знаки препинания не расставлены)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) Музыка в траве приутихл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Б) Егорушка приподнялся и посмотрел вокруг себя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) Летят над белым морем чайки, а даль туманная глух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Г) У кумушки глаза и зубы разгорелись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4e3b30"/>
                </a:solidFill>
                <a:uFillTx/>
                <a:latin typeface="Franklin Gothic Book"/>
              </a:rPr>
              <a:t>4 Укажите предложение, которое начинается со слов автора (знаки препинания не расставлены):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) Делайте, что хотите отвечал им сухо Дубровски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Б) Ты бледна, Маша, заметил отец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) Нет, я поеду решительно сказала Наташ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Г) Соседка поинтересовалась а когда у тебя начинаются каникулы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13:48Z</dcterms:created>
  <dc:creator>КОМП</dc:creator>
  <dc:description/>
  <dc:language>en-US</dc:language>
  <cp:lastModifiedBy>КОМП</cp:lastModifiedBy>
  <dcterms:modified xsi:type="dcterms:W3CDTF">2011-11-30T15:26:49Z</dcterms:modified>
  <cp:revision>2</cp:revision>
  <dc:subject/>
  <dc:title>Страна Синтаксиса и пунтуации</dc:title>
</cp:coreProperties>
</file>