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864-2D04-4DD2-8151-510C13CE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9C8-7522-4862-A0A9-7FD65CC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82E-EAA3-4409-81A2-62018970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96D-E788-463E-8531-718C6FB1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95F-7F48-452A-AE50-83001E1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039-41D6-4C4C-8841-3FF0DCD7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C00-FEFA-439F-AA8C-223F7D7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28A-0B23-4E00-A94B-5B52A7FF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C47-4A85-4E9C-A07C-68969216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553-D122-4F63-8F33-65F9CDD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A98-F87D-4D43-864F-353C994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695-F2CA-4C71-8F6C-27DA9FC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8FA0-F274-47D4-8EC0-01229D5C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 к логопедическому заня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жмите слово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У «Романов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– логопед: Кудрявцева Л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052640"/>
            <a:ext cx="6697800" cy="914400"/>
          </a:xfrm>
          <a:custGeom>
            <a:avLst/>
            <a:gdLst>
              <a:gd name="textAreaLeft" fmla="*/ 107640 w 6697800"/>
              <a:gd name="textAreaRight" fmla="*/ 6590160 w 669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581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4562" y="21600"/>
                </a:lnTo>
                <a:arcTo wR="3600" hR="3600" stAng="10800000" swAng="5400000"/>
                <a:lnTo>
                  <a:pt x="15816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втори попы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997360"/>
            <a:ext cx="6696360" cy="2160360"/>
          </a:xfrm>
          <a:prstGeom prst="upArrowCallout">
            <a:avLst>
              <a:gd name="adj1" fmla="val 77498"/>
              <a:gd name="adj2" fmla="val 7749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ись к вопросу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549360"/>
            <a:ext cx="7991280" cy="122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редели, какое слово нельзя перенос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133720"/>
            <a:ext cx="71640" cy="71280"/>
          </a:xfrm>
          <a:custGeom>
            <a:avLst/>
            <a:gdLst>
              <a:gd name="textAreaLeft" fmla="*/ 8280 w 71640"/>
              <a:gd name="textAreaRight" fmla="*/ 63360 w 71640"/>
              <a:gd name="textAreaTop" fmla="*/ 8280 h 71280"/>
              <a:gd name="textAreaBottom" fmla="*/ 63000 h 71280"/>
            </a:gdLst>
            <a:ahLst/>
            <a:rect l="textAreaLeft" t="textAreaTop" r="textAreaRight" b="textAreaBottom"/>
            <a:pathLst>
              <a:path w="21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109" y="21600"/>
                </a:lnTo>
                <a:arcTo wR="3600" hR="3600" stAng="10800000" swAng="5400000"/>
                <a:lnTo>
                  <a:pt x="2170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1916280"/>
            <a:ext cx="3240000" cy="914400"/>
          </a:xfrm>
          <a:custGeom>
            <a:avLst/>
            <a:gdLst>
              <a:gd name="textAreaLeft" fmla="*/ 107640 w 3240000"/>
              <a:gd name="textAreaRight" fmla="*/ 3132360 w 3240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65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2914" y="21600"/>
                </a:lnTo>
                <a:arcTo wR="3600" hR="3600" stAng="10800000" swAng="5400000"/>
                <a:lnTo>
                  <a:pt x="765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141720"/>
            <a:ext cx="3240000" cy="914400"/>
          </a:xfrm>
          <a:custGeom>
            <a:avLst/>
            <a:gdLst>
              <a:gd name="textAreaLeft" fmla="*/ 107640 w 3240000"/>
              <a:gd name="textAreaRight" fmla="*/ 3132360 w 3240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65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2914" y="21600"/>
                </a:lnTo>
                <a:arcTo wR="3600" hR="3600" stAng="10800000" swAng="5400000"/>
                <a:lnTo>
                  <a:pt x="765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й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4365720"/>
            <a:ext cx="3240000" cy="914400"/>
          </a:xfrm>
          <a:custGeom>
            <a:avLst/>
            <a:gdLst>
              <a:gd name="textAreaLeft" fmla="*/ 107640 w 3240000"/>
              <a:gd name="textAreaRight" fmla="*/ 3132360 w 3240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65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2914" y="21600"/>
                </a:lnTo>
                <a:arcTo wR="3600" hR="3600" stAng="10800000" swAng="5400000"/>
                <a:lnTo>
                  <a:pt x="765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5589720"/>
            <a:ext cx="3240000" cy="914400"/>
          </a:xfrm>
          <a:custGeom>
            <a:avLst/>
            <a:gdLst>
              <a:gd name="textAreaLeft" fmla="*/ 107640 w 3240000"/>
              <a:gd name="textAreaRight" fmla="*/ 3132360 w 3240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65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2914" y="21600"/>
                </a:lnTo>
                <a:arcTo wR="3600" hR="3600" stAng="10800000" swAng="5400000"/>
                <a:lnTo>
                  <a:pt x="765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836640"/>
            <a:ext cx="7920000" cy="76212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2565360"/>
            <a:ext cx="6624720" cy="2303640"/>
          </a:xfrm>
          <a:prstGeom prst="downArrowCallout">
            <a:avLst>
              <a:gd name="adj1" fmla="val 71901"/>
              <a:gd name="adj2" fmla="val 7189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ереходи к вопросу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03280" y="1052640"/>
            <a:ext cx="6697800" cy="914400"/>
          </a:xfrm>
          <a:custGeom>
            <a:avLst/>
            <a:gdLst>
              <a:gd name="textAreaLeft" fmla="*/ 107640 w 6697800"/>
              <a:gd name="textAreaRight" fmla="*/ 6590160 w 669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581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4562" y="21600"/>
                </a:lnTo>
                <a:arcTo wR="3600" hR="3600" stAng="10800000" swAng="5400000"/>
                <a:lnTo>
                  <a:pt x="15816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втори попы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2997360"/>
            <a:ext cx="6696360" cy="2160360"/>
          </a:xfrm>
          <a:prstGeom prst="upArrowCallout">
            <a:avLst>
              <a:gd name="adj1" fmla="val 77498"/>
              <a:gd name="adj2" fmla="val 7749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ись к вопросу №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549360"/>
            <a:ext cx="741672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 №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бери слово, которое пишется сли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1773360"/>
            <a:ext cx="3527280" cy="914400"/>
          </a:xfrm>
          <a:custGeom>
            <a:avLst/>
            <a:gdLst>
              <a:gd name="textAreaLeft" fmla="*/ 107640 w 3527280"/>
              <a:gd name="textAreaRight" fmla="*/ 3419640 w 352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32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697" y="21600"/>
                </a:lnTo>
                <a:arcTo wR="3600" hR="3600" stAng="10800000" swAng="5400000"/>
                <a:lnTo>
                  <a:pt x="8329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(в)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2997360"/>
            <a:ext cx="3527280" cy="914400"/>
          </a:xfrm>
          <a:custGeom>
            <a:avLst/>
            <a:gdLst>
              <a:gd name="textAreaLeft" fmla="*/ 107640 w 3527280"/>
              <a:gd name="textAreaRight" fmla="*/ 3419640 w 352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32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697" y="21600"/>
                </a:lnTo>
                <a:arcTo wR="3600" hR="3600" stAng="10800000" swAng="5400000"/>
                <a:lnTo>
                  <a:pt x="8329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в)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4221000"/>
            <a:ext cx="3527280" cy="914400"/>
          </a:xfrm>
          <a:custGeom>
            <a:avLst/>
            <a:gdLst>
              <a:gd name="textAreaLeft" fmla="*/ 107640 w 3527280"/>
              <a:gd name="textAreaRight" fmla="*/ 3419640 w 352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32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697" y="21600"/>
                </a:lnTo>
                <a:arcTo wR="3600" hR="3600" stAng="10800000" swAng="5400000"/>
                <a:lnTo>
                  <a:pt x="8329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на)го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5445000"/>
            <a:ext cx="3600360" cy="914400"/>
          </a:xfrm>
          <a:custGeom>
            <a:avLst/>
            <a:gdLst>
              <a:gd name="textAreaLeft" fmla="*/ 107640 w 3600360"/>
              <a:gd name="textAreaRight" fmla="*/ 3492720 w 36003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50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423" y="21600"/>
                </a:lnTo>
                <a:arcTo wR="3600" hR="3600" stAng="10800000" swAng="5400000"/>
                <a:lnTo>
                  <a:pt x="8502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под)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1052640"/>
            <a:ext cx="6697800" cy="914400"/>
          </a:xfrm>
          <a:custGeom>
            <a:avLst/>
            <a:gdLst>
              <a:gd name="textAreaLeft" fmla="*/ 107640 w 6697800"/>
              <a:gd name="textAreaRight" fmla="*/ 6590160 w 669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581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4562" y="21600"/>
                </a:lnTo>
                <a:arcTo wR="3600" hR="3600" stAng="10800000" swAng="5400000"/>
                <a:lnTo>
                  <a:pt x="15816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втори попы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2924280"/>
            <a:ext cx="6696360" cy="2160360"/>
          </a:xfrm>
          <a:prstGeom prst="upArrowCallout">
            <a:avLst>
              <a:gd name="adj1" fmla="val 77498"/>
              <a:gd name="adj2" fmla="val 7749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ись к вопросу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836640"/>
            <a:ext cx="7920000" cy="76212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205000"/>
            <a:ext cx="5545080" cy="4248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оздравля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 успеш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хожд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тест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692280"/>
            <a:ext cx="6335640" cy="115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аких случаях нужно писать сли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3284640"/>
            <a:ext cx="3456000" cy="914400"/>
          </a:xfrm>
          <a:custGeom>
            <a:avLst/>
            <a:gdLst>
              <a:gd name="textAreaLeft" fmla="*/ 107640 w 3456000"/>
              <a:gd name="textAreaRight" fmla="*/ 3348360 w 3456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16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014" y="21600"/>
                </a:lnTo>
                <a:arcTo wR="3600" hR="3600" stAng="10800000" swAng="5400000"/>
                <a:lnTo>
                  <a:pt x="816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(на)ре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4437000"/>
            <a:ext cx="3456000" cy="914400"/>
          </a:xfrm>
          <a:custGeom>
            <a:avLst/>
            <a:gdLst>
              <a:gd name="textAreaLeft" fmla="*/ 107640 w 3456000"/>
              <a:gd name="textAreaRight" fmla="*/ 3348360 w 3456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16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014" y="21600"/>
                </a:lnTo>
                <a:arcTo wR="3600" hR="3600" stAng="10800000" swAng="5400000"/>
                <a:lnTo>
                  <a:pt x="816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на)рис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5589720"/>
            <a:ext cx="3456000" cy="914400"/>
          </a:xfrm>
          <a:custGeom>
            <a:avLst/>
            <a:gdLst>
              <a:gd name="textAreaLeft" fmla="*/ 107640 w 3456000"/>
              <a:gd name="textAreaRight" fmla="*/ 3348360 w 3456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16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014" y="21600"/>
                </a:lnTo>
                <a:arcTo wR="3600" hR="3600" stAng="10800000" swAng="5400000"/>
                <a:lnTo>
                  <a:pt x="816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под)берё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2987640" y="2133720"/>
            <a:ext cx="3456000" cy="914400"/>
          </a:xfrm>
          <a:custGeom>
            <a:avLst/>
            <a:gdLst>
              <a:gd name="textAreaLeft" fmla="*/ 107640 w 3456000"/>
              <a:gd name="textAreaRight" fmla="*/ 3348360 w 34560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816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014" y="21600"/>
                </a:lnTo>
                <a:arcTo wR="3600" hR="3600" stAng="10800000" swAng="5400000"/>
                <a:lnTo>
                  <a:pt x="816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(с)друз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836640"/>
            <a:ext cx="7920000" cy="76212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565360"/>
            <a:ext cx="6624720" cy="2303640"/>
          </a:xfrm>
          <a:prstGeom prst="downArrowCallout">
            <a:avLst>
              <a:gd name="adj1" fmla="val 71901"/>
              <a:gd name="adj2" fmla="val 7189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ереходи к вопросу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981000"/>
            <a:ext cx="6697800" cy="914400"/>
          </a:xfrm>
          <a:custGeom>
            <a:avLst/>
            <a:gdLst>
              <a:gd name="textAreaLeft" fmla="*/ 107640 w 6697800"/>
              <a:gd name="textAreaRight" fmla="*/ 6590160 w 669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581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4562" y="21600"/>
                </a:lnTo>
                <a:arcTo wR="3600" hR="3600" stAng="10800000" swAng="5400000"/>
                <a:lnTo>
                  <a:pt x="15816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втори попы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997360"/>
            <a:ext cx="6696360" cy="2160360"/>
          </a:xfrm>
          <a:prstGeom prst="upArrowCallout">
            <a:avLst>
              <a:gd name="adj1" fmla="val 77498"/>
              <a:gd name="adj2" fmla="val 7749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ись к вопросу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692280"/>
            <a:ext cx="8351640" cy="1296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 №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ределите, какие слова перенесены неправиль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2133720"/>
            <a:ext cx="4176720" cy="914400"/>
          </a:xfrm>
          <a:custGeom>
            <a:avLst/>
            <a:gdLst>
              <a:gd name="textAreaLeft" fmla="*/ 107640 w 4176720"/>
              <a:gd name="textAreaRight" fmla="*/ 4069080 w 4176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986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5032" y="21600"/>
                </a:lnTo>
                <a:arcTo wR="3600" hR="3600" stAng="10800000" swAng="5400000"/>
                <a:lnTo>
                  <a:pt x="9863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и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-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213000"/>
            <a:ext cx="4249800" cy="914400"/>
          </a:xfrm>
          <a:custGeom>
            <a:avLst/>
            <a:gdLst>
              <a:gd name="textAreaLeft" fmla="*/ 107640 w 4249800"/>
              <a:gd name="textAreaRight" fmla="*/ 4142160 w 4249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035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6758" y="21600"/>
                </a:lnTo>
                <a:arcTo wR="3600" hR="3600" stAng="10800000" swAng="5400000"/>
                <a:lnTo>
                  <a:pt x="10035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 - рах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437000"/>
            <a:ext cx="4321440" cy="914400"/>
          </a:xfrm>
          <a:custGeom>
            <a:avLst/>
            <a:gdLst>
              <a:gd name="textAreaLeft" fmla="*/ 107640 w 4321440"/>
              <a:gd name="textAreaRight" fmla="*/ 4213800 w 43214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20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8450" y="21600"/>
                </a:lnTo>
                <a:arcTo wR="3600" hR="3600" stAng="10800000" swAng="5400000"/>
                <a:lnTo>
                  <a:pt x="10205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на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-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589720"/>
            <a:ext cx="4392720" cy="914400"/>
          </a:xfrm>
          <a:custGeom>
            <a:avLst/>
            <a:gdLst>
              <a:gd name="textAreaLeft" fmla="*/ 107640 w 4392720"/>
              <a:gd name="textAreaRight" fmla="*/ 4285080 w 4392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37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0133" y="21600"/>
                </a:lnTo>
                <a:arcTo wR="3600" hR="3600" stAng="10800000" swAng="5400000"/>
                <a:lnTo>
                  <a:pt x="10373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й - 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836640"/>
            <a:ext cx="7920000" cy="76212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2565360"/>
            <a:ext cx="6624720" cy="2303640"/>
          </a:xfrm>
          <a:prstGeom prst="downArrowCallout">
            <a:avLst>
              <a:gd name="adj1" fmla="val 71901"/>
              <a:gd name="adj2" fmla="val 7189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ереходи к вопросу №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3280" y="1052640"/>
            <a:ext cx="6697800" cy="914400"/>
          </a:xfrm>
          <a:custGeom>
            <a:avLst/>
            <a:gdLst>
              <a:gd name="textAreaLeft" fmla="*/ 107640 w 6697800"/>
              <a:gd name="textAreaRight" fmla="*/ 6590160 w 669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581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4562" y="21600"/>
                </a:lnTo>
                <a:arcTo wR="3600" hR="3600" stAng="10800000" swAng="5400000"/>
                <a:lnTo>
                  <a:pt x="15816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втори попы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2997360"/>
            <a:ext cx="6696360" cy="2160360"/>
          </a:xfrm>
          <a:prstGeom prst="upArrowCallout">
            <a:avLst>
              <a:gd name="adj1" fmla="val 77498"/>
              <a:gd name="adj2" fmla="val 7749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ись к вопросу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8920" y="260280"/>
            <a:ext cx="7058160" cy="1297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 №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бери слово, где нужно вставить букву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1844640"/>
            <a:ext cx="4608720" cy="914400"/>
          </a:xfrm>
          <a:custGeom>
            <a:avLst/>
            <a:gdLst>
              <a:gd name="textAreaLeft" fmla="*/ 107640 w 4608720"/>
              <a:gd name="textAreaRight" fmla="*/ 4501080 w 4608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88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233" y="21600"/>
                </a:lnTo>
                <a:arcTo wR="3600" hR="3600" stAng="10800000" swAng="5400000"/>
                <a:lnTo>
                  <a:pt x="10883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ка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…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3068640"/>
            <a:ext cx="4608720" cy="914400"/>
          </a:xfrm>
          <a:custGeom>
            <a:avLst/>
            <a:gdLst>
              <a:gd name="textAreaLeft" fmla="*/ 107640 w 4608720"/>
              <a:gd name="textAreaRight" fmla="*/ 4501080 w 4608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88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233" y="21600"/>
                </a:lnTo>
                <a:arcTo wR="3600" hR="3600" stAng="10800000" swAng="5400000"/>
                <a:lnTo>
                  <a:pt x="10883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рик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4292640"/>
            <a:ext cx="4608720" cy="914400"/>
          </a:xfrm>
          <a:custGeom>
            <a:avLst/>
            <a:gdLst>
              <a:gd name="textAreaLeft" fmla="*/ 107640 w 4608720"/>
              <a:gd name="textAreaRight" fmla="*/ 4501080 w 4608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88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233" y="21600"/>
                </a:lnTo>
                <a:arcTo wR="3600" hR="3600" stAng="10800000" swAng="5400000"/>
                <a:lnTo>
                  <a:pt x="10883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рб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516640"/>
            <a:ext cx="4608720" cy="914400"/>
          </a:xfrm>
          <a:custGeom>
            <a:avLst/>
            <a:gdLst>
              <a:gd name="textAreaLeft" fmla="*/ 107640 w 4608720"/>
              <a:gd name="textAreaRight" fmla="*/ 4501080 w 4608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88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233" y="21600"/>
                </a:lnTo>
                <a:arcTo wR="3600" hR="3600" stAng="10800000" swAng="5400000"/>
                <a:lnTo>
                  <a:pt x="10883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…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836640"/>
            <a:ext cx="7920000" cy="76212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565360"/>
            <a:ext cx="6624720" cy="2303640"/>
          </a:xfrm>
          <a:prstGeom prst="downArrowCallout">
            <a:avLst>
              <a:gd name="adj1" fmla="val 71901"/>
              <a:gd name="adj2" fmla="val 7189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ереходи к вопросу №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3:09:30Z</dcterms:created>
  <dc:creator>Лариса</dc:creator>
  <dc:description/>
  <dc:language>en-US</dc:language>
  <cp:lastModifiedBy>Лариса</cp:lastModifiedBy>
  <dcterms:modified xsi:type="dcterms:W3CDTF">2007-06-21T16:36:18Z</dcterms:modified>
  <cp:revision>8</cp:revision>
  <dc:subject/>
  <dc:title>Тест к логопедическому занятию</dc:title>
</cp:coreProperties>
</file>