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himes.wav" ContentType="audio/x-wav"/>
  <Override PartName="/ppt/media/voltage.wav" ContentType="audio/x-wav"/>
  <Override PartName="/ppt/media/image4.png" ContentType="image/png"/>
  <Override PartName="/ppt/media/laser.wav" ContentType="audio/x-wav"/>
  <Override PartName="/ppt/media/wind.wav" ContentType="audio/x-wav"/>
  <Override PartName="/ppt/media/arrow.wav" ContentType="audio/x-wav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24F-0462-45FE-BD03-1EBD523D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636-13A9-40CF-BC23-ABEA25BB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59A-57C5-4558-BCC9-4CBAA8F2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753-32EA-4B6C-AA44-FF7FF3CA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89C9-E3CE-4A2B-9A14-61A98EA3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1468-A3D8-4913-8EB3-226838D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2AE4-D28E-4D62-A01D-04839811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E5D5-1A4B-4D80-9C2C-B1ECE388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1E5A-1A1D-4762-925A-D6F29E69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EFF4-54AA-4E4D-8870-C462C332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136C-1D38-436C-8C54-31C64135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C35-7E35-4ABA-BE2F-92CFF49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3DFB-C931-4C9D-9B37-8D878267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78D8-3BA4-491A-8653-305E9531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9F8E-F419-4BBD-82AB-7611BDAA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995C-4228-4399-8B7A-B05C00E7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7392-3B5E-4B7A-AFF9-FCF7E8B0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868-F096-4738-973A-CBE271D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BAF-FC60-4F61-B2B5-F41F5CF7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BE2-1564-4737-9673-1BE5ED86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65E-984E-4FFB-AECD-0779A488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A82-132A-4C89-B2FB-EC60C520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899-5659-43BA-838B-FE69F7C5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2E3-6C88-4E05-B3B1-4C05F1A3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541-6824-4993-A3D2-4956346C1C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C4E5-8588-4309-8E6D-74E238B11E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wind.wav"/><Relationship Id="rId16" Type="http://schemas.openxmlformats.org/officeDocument/2006/relationships/audio" Target="../media/wind.wav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8.xml"/><Relationship Id="rId18" Type="http://schemas.openxmlformats.org/officeDocument/2006/relationships/slide" Target="slide8.xml"/><Relationship Id="rId19" Type="http://schemas.openxmlformats.org/officeDocument/2006/relationships/slide" Target="slide8.xml"/><Relationship Id="rId20" Type="http://schemas.openxmlformats.org/officeDocument/2006/relationships/slide" Target="slide8.xml"/><Relationship Id="rId21" Type="http://schemas.openxmlformats.org/officeDocument/2006/relationships/slide" Target="slide8.xml"/><Relationship Id="rId22" Type="http://schemas.openxmlformats.org/officeDocument/2006/relationships/slide" Target="slide8.xml"/><Relationship Id="rId23" Type="http://schemas.openxmlformats.org/officeDocument/2006/relationships/slide" Target="slide8.xml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8.xml"/><Relationship Id="rId27" Type="http://schemas.openxmlformats.org/officeDocument/2006/relationships/slide" Target="slide8.xml"/><Relationship Id="rId28" Type="http://schemas.openxmlformats.org/officeDocument/2006/relationships/slide" Target="slide8.xml"/><Relationship Id="rId29" Type="http://schemas.openxmlformats.org/officeDocument/2006/relationships/slide" Target="slide8.xml"/><Relationship Id="rId30" Type="http://schemas.openxmlformats.org/officeDocument/2006/relationships/slide" Target="slide8.xml"/><Relationship Id="rId31" Type="http://schemas.openxmlformats.org/officeDocument/2006/relationships/slide" Target="slide8.xml"/><Relationship Id="rId32" Type="http://schemas.openxmlformats.org/officeDocument/2006/relationships/slide" Target="slide8.xml"/><Relationship Id="rId33" Type="http://schemas.openxmlformats.org/officeDocument/2006/relationships/slide" Target="slide8.xml"/><Relationship Id="rId34" Type="http://schemas.openxmlformats.org/officeDocument/2006/relationships/slide" Target="slide8.xml"/><Relationship Id="rId35" Type="http://schemas.openxmlformats.org/officeDocument/2006/relationships/slide" Target="slide8.xml"/><Relationship Id="rId36" Type="http://schemas.openxmlformats.org/officeDocument/2006/relationships/slide" Target="slide8.xml"/><Relationship Id="rId37" Type="http://schemas.openxmlformats.org/officeDocument/2006/relationships/image" Target="../media/image2.png"/><Relationship Id="rId38" Type="http://schemas.openxmlformats.org/officeDocument/2006/relationships/audio" Target="../media/chimes.wav"/><Relationship Id="rId39" Type="http://schemas.openxmlformats.org/officeDocument/2006/relationships/audio" Target="../media/arrow.wav"/><Relationship Id="rId40" Type="http://schemas.openxmlformats.org/officeDocument/2006/relationships/audio" Target="../media/arrow.wav"/><Relationship Id="rId41" Type="http://schemas.openxmlformats.org/officeDocument/2006/relationships/audio" Target="../media/arrow.wav"/><Relationship Id="rId42" Type="http://schemas.openxmlformats.org/officeDocument/2006/relationships/audio" Target="../media/arrow.wav"/><Relationship Id="rId43" Type="http://schemas.openxmlformats.org/officeDocument/2006/relationships/audio" Target="../media/arrow.wav"/><Relationship Id="rId44" Type="http://schemas.openxmlformats.org/officeDocument/2006/relationships/audio" Target="../media/chimes.wav"/><Relationship Id="rId45" Type="http://schemas.openxmlformats.org/officeDocument/2006/relationships/audio" Target="../media/arrow.wav"/><Relationship Id="rId46" Type="http://schemas.openxmlformats.org/officeDocument/2006/relationships/audio" Target="../media/arrow.wav"/><Relationship Id="rId47" Type="http://schemas.openxmlformats.org/officeDocument/2006/relationships/audio" Target="../media/arrow.wav"/><Relationship Id="rId48" Type="http://schemas.openxmlformats.org/officeDocument/2006/relationships/audio" Target="../media/arrow.wav"/><Relationship Id="rId49" Type="http://schemas.openxmlformats.org/officeDocument/2006/relationships/audio" Target="../media/arrow.wav"/><Relationship Id="rId50" Type="http://schemas.openxmlformats.org/officeDocument/2006/relationships/audio" Target="../media/arrow.wav"/><Relationship Id="rId51" Type="http://schemas.openxmlformats.org/officeDocument/2006/relationships/audio" Target="../media/chimes.wav"/><Relationship Id="rId52" Type="http://schemas.openxmlformats.org/officeDocument/2006/relationships/audio" Target="../media/arrow.wav"/><Relationship Id="rId53" Type="http://schemas.openxmlformats.org/officeDocument/2006/relationships/audio" Target="../media/arrow.wav"/><Relationship Id="rId54" Type="http://schemas.openxmlformats.org/officeDocument/2006/relationships/audio" Target="../media/arrow.wav"/><Relationship Id="rId55" Type="http://schemas.openxmlformats.org/officeDocument/2006/relationships/audio" Target="../media/chimes.wav"/><Relationship Id="rId56" Type="http://schemas.openxmlformats.org/officeDocument/2006/relationships/audio" Target="../media/arrow.wav"/><Relationship Id="rId57" Type="http://schemas.openxmlformats.org/officeDocument/2006/relationships/audio" Target="../media/arrow.wav"/><Relationship Id="rId58" Type="http://schemas.openxmlformats.org/officeDocument/2006/relationships/audio" Target="../media/arrow.wav"/><Relationship Id="rId59" Type="http://schemas.openxmlformats.org/officeDocument/2006/relationships/audio" Target="../media/arrow.wav"/><Relationship Id="rId60" Type="http://schemas.openxmlformats.org/officeDocument/2006/relationships/audio" Target="../media/arrow.wav"/><Relationship Id="rId61" Type="http://schemas.openxmlformats.org/officeDocument/2006/relationships/audio" Target="../media/arrow.wav"/><Relationship Id="rId62" Type="http://schemas.openxmlformats.org/officeDocument/2006/relationships/audio" Target="../media/chimes.wav"/><Relationship Id="rId63" Type="http://schemas.openxmlformats.org/officeDocument/2006/relationships/audio" Target="../media/arrow.wav"/><Relationship Id="rId64" Type="http://schemas.openxmlformats.org/officeDocument/2006/relationships/audio" Target="../media/arrow.wav"/><Relationship Id="rId65" Type="http://schemas.openxmlformats.org/officeDocument/2006/relationships/audio" Target="../media/arrow.wav"/><Relationship Id="rId66" Type="http://schemas.openxmlformats.org/officeDocument/2006/relationships/audio" Target="../media/chimes.wav"/><Relationship Id="rId67" Type="http://schemas.openxmlformats.org/officeDocument/2006/relationships/audio" Target="../media/arrow.wav"/><Relationship Id="rId68" Type="http://schemas.openxmlformats.org/officeDocument/2006/relationships/audio" Target="../media/arrow.wav"/><Relationship Id="rId69" Type="http://schemas.openxmlformats.org/officeDocument/2006/relationships/audio" Target="../media/arrow.wav"/><Relationship Id="rId70" Type="http://schemas.openxmlformats.org/officeDocument/2006/relationships/audio" Target="../media/chimes.wav"/><Relationship Id="rId71" Type="http://schemas.openxmlformats.org/officeDocument/2006/relationships/audio" Target="../media/arrow.wav"/><Relationship Id="rId72" Type="http://schemas.openxmlformats.org/officeDocument/2006/relationships/audio" Target="../media/arrow.wav"/><Relationship Id="rId73" Type="http://schemas.openxmlformats.org/officeDocument/2006/relationships/audio" Target="../media/chimes.wav"/><Relationship Id="rId74" Type="http://schemas.openxmlformats.org/officeDocument/2006/relationships/audio" Target="../media/arrow.wav"/><Relationship Id="rId75" Type="http://schemas.openxmlformats.org/officeDocument/2006/relationships/audio" Target="../media/arrow.wav"/><Relationship Id="rId76" Type="http://schemas.openxmlformats.org/officeDocument/2006/relationships/audio" Target="../media/arrow.wav"/><Relationship Id="rId77" Type="http://schemas.openxmlformats.org/officeDocument/2006/relationships/audio" Target="../media/arrow.wav"/><Relationship Id="rId78" Type="http://schemas.openxmlformats.org/officeDocument/2006/relationships/audio" Target="../media/arrow.wav"/><Relationship Id="rId79" Type="http://schemas.openxmlformats.org/officeDocument/2006/relationships/audio" Target="../media/chimes.wav"/><Relationship Id="rId80" Type="http://schemas.openxmlformats.org/officeDocument/2006/relationships/audio" Target="../media/arrow.wav"/><Relationship Id="rId81" Type="http://schemas.openxmlformats.org/officeDocument/2006/relationships/audio" Target="../media/arrow.wav"/><Relationship Id="rId82" Type="http://schemas.openxmlformats.org/officeDocument/2006/relationships/audio" Target="../media/arrow.wav"/><Relationship Id="rId83" Type="http://schemas.openxmlformats.org/officeDocument/2006/relationships/audio" Target="../media/arrow.wav"/><Relationship Id="rId84" Type="http://schemas.openxmlformats.org/officeDocument/2006/relationships/audio" Target="../media/arrow.wav"/><Relationship Id="rId85" Type="http://schemas.openxmlformats.org/officeDocument/2006/relationships/audio" Target="../media/arrow.wav"/><Relationship Id="rId86" Type="http://schemas.openxmlformats.org/officeDocument/2006/relationships/audio" Target="../media/arrow.wav"/><Relationship Id="rId87" Type="http://schemas.openxmlformats.org/officeDocument/2006/relationships/audio" Target="../media/chimes.wav"/><Relationship Id="rId8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Урок русского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000" y="2492280"/>
            <a:ext cx="75596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ма урока. «Правописание безударных гласных в корне слов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класс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ОУ СОШ № 9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лыхалова Татьяна Василье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30872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4364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200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8000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4836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4072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0872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7708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200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8000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836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74072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08720" y="38606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7708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43640" y="38606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4072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0872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7708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000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836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7236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74072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087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7708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8000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836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48000" y="5734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1636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84360" y="5734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50920" y="5734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1928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564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8436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092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1928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8728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800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636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5092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1928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436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092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1928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564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4800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1636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8436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509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19280" y="198900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198900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9280" y="115920"/>
            <a:ext cx="8713800" cy="1727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Найди ошибки в написании безударной гласно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Исправь их – подбери проверочное слов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564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8728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092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8436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1636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1928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8436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64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92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8436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1636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4800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564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1928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5092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564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728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61928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5092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8436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1636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4800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4836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8000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1200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44364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7708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0872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74072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7236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14836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00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200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4364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0872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74072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1200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4364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7708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0872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74072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4836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8000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1200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7708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0872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4072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4836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8000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1200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4364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7708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0872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58920" y="2997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58920" y="206064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7280" y="1484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87280" y="2492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8728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1200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58920" y="5805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51640" y="393372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84720" y="2997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80000" y="342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348000" y="2349360"/>
            <a:ext cx="179388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6" dur="indefinite" restart="never" nodeType="tmRoot">
          <p:childTnLst>
            <p:seq>
              <p:cTn id="887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959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6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8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00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013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020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02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03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083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4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175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192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202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214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21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224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24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25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26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265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294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Р.31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93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971640" y="1268280"/>
            <a:ext cx="756108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ем 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2637000" cy="3276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4788000" y="3068640"/>
            <a:ext cx="325440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640" y="1752480"/>
            <a:ext cx="5050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Что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Где?      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Как?    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Чем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7480" y="1752480"/>
            <a:ext cx="4070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а,о,е,и,я,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в корне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подбирать однокоренные слова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ударением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3860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35280" y="1916280"/>
            <a:ext cx="280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4797360"/>
            <a:ext cx="2808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63640" y="3284640"/>
            <a:ext cx="2879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35280" y="2565360"/>
            <a:ext cx="28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938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3366"/>
                </a:solidFill>
                <a:latin typeface="Monotype Corsiva"/>
              </a:rPr>
              <a:t>Словарная  работа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89120" y="1968480"/>
            <a:ext cx="755784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Р…с…ия,  к…рова,  др…зды,  г…л…сок,  н…род, р…бята,  зд…ров…е, к…вёр,  св…ча,  сл…ва,  т…щил,  гл…дел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93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9800" y="318960"/>
            <a:ext cx="67201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66"/>
                </a:solidFill>
                <a:latin typeface="Verdana"/>
              </a:rPr>
              <a:t>Проверь  себя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484280"/>
            <a:ext cx="705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Рос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я,  к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ова,  др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ды,  г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,  н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о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  р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ята,  зд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ов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е,   к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ёр,  св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еч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 сл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а,  т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щил,  гл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Times New Roman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93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очитай слово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оставь ударение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Выдели корень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Определи безударную гласную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одбери проверочное слово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77080" y="1628640"/>
            <a:ext cx="1793880" cy="1657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26120" y="456840"/>
            <a:ext cx="7697160" cy="912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46200" y="404640"/>
            <a:ext cx="84978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Найди слова с безударной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128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нтя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сл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2852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о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2852640"/>
            <a:ext cx="2160360" cy="64764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дел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2852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3860640"/>
            <a:ext cx="2160720" cy="6480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им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3860640"/>
            <a:ext cx="2160720" cy="6480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3860640"/>
            <a:ext cx="2160360" cy="6480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229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50920" y="4938840"/>
            <a:ext cx="2016360" cy="795240"/>
            <a:chOff x="2050920" y="4938840"/>
            <a:chExt cx="2016360" cy="795240"/>
          </a:xfrm>
        </p:grpSpPr>
        <p:sp>
          <p:nvSpPr>
            <p:cNvPr id="117" name=""/>
            <p:cNvSpPr/>
            <p:nvPr/>
          </p:nvSpPr>
          <p:spPr>
            <a:xfrm>
              <a:off x="2050920" y="4941720"/>
              <a:ext cx="2016360" cy="792360"/>
            </a:xfrm>
            <a:prstGeom prst="foldedCorner">
              <a:avLst>
                <a:gd name="adj" fmla="val 125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е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тя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709600">
              <a:off x="2383560" y="5016600"/>
              <a:ext cx="68292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8" y="4431"/>
                  </a:moveTo>
                  <a:arcTo wR="10800" hR="10800" stAng="-8631920" swAng="861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8" y="4431"/>
                  </a:moveTo>
                  <a:arcTo wR="10800" hR="10800" stAng="-8631920" swAng="861674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254840" y="4920480"/>
            <a:ext cx="2117520" cy="813600"/>
            <a:chOff x="4254840" y="4920480"/>
            <a:chExt cx="2117520" cy="813600"/>
          </a:xfrm>
        </p:grpSpPr>
        <p:sp>
          <p:nvSpPr>
            <p:cNvPr id="120" name=""/>
            <p:cNvSpPr/>
            <p:nvPr/>
          </p:nvSpPr>
          <p:spPr>
            <a:xfrm>
              <a:off x="4356000" y="4941720"/>
              <a:ext cx="2016360" cy="792360"/>
            </a:xfrm>
            <a:prstGeom prst="foldedCorner">
              <a:avLst>
                <a:gd name="adj" fmla="val 125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лён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847600">
              <a:off x="4303800" y="5034600"/>
              <a:ext cx="11181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56" y="2060"/>
                  </a:moveTo>
                  <a:arcTo wR="10800" hR="10800" stAng="-7558504" swAng="72461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456" y="2060"/>
                  </a:moveTo>
                  <a:arcTo wR="10800" hR="10800" stAng="-7558504" swAng="7246113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050920" y="5844960"/>
            <a:ext cx="1944720" cy="906120"/>
            <a:chOff x="2050920" y="5844960"/>
            <a:chExt cx="1944720" cy="906120"/>
          </a:xfrm>
        </p:grpSpPr>
        <p:sp>
          <p:nvSpPr>
            <p:cNvPr id="123" name=""/>
            <p:cNvSpPr/>
            <p:nvPr/>
          </p:nvSpPr>
          <p:spPr>
            <a:xfrm>
              <a:off x="2050920" y="5877000"/>
              <a:ext cx="1944720" cy="720720"/>
            </a:xfrm>
            <a:prstGeom prst="foldedCorner">
              <a:avLst>
                <a:gd name="adj" fmla="val 125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и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л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9849200">
              <a:off x="2392920" y="6010560"/>
              <a:ext cx="8298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49" y="259"/>
                  </a:moveTo>
                  <a:arcTo wR="10800" hR="10800" stAng="-6154460" swAng="5937206"/>
                  <a:lnTo>
                    <a:pt x="10800" y="10800"/>
                  </a:lnTo>
                  <a:close/>
                </a:path>
                <a:path fill="none" w="21600" h="21600">
                  <a:moveTo>
                    <a:pt x="8449" y="259"/>
                  </a:moveTo>
                  <a:arcTo wR="10800" hR="10800" stAng="-6154460" swAng="593720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87280" y="4916160"/>
            <a:ext cx="2090160" cy="844560"/>
            <a:chOff x="6587280" y="4916160"/>
            <a:chExt cx="2090160" cy="844560"/>
          </a:xfrm>
        </p:grpSpPr>
        <p:sp>
          <p:nvSpPr>
            <p:cNvPr id="126" name=""/>
            <p:cNvSpPr/>
            <p:nvPr/>
          </p:nvSpPr>
          <p:spPr>
            <a:xfrm>
              <a:off x="6732720" y="4941720"/>
              <a:ext cx="1944720" cy="792360"/>
            </a:xfrm>
            <a:prstGeom prst="foldedCorner">
              <a:avLst>
                <a:gd name="adj" fmla="val 125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ре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756400">
              <a:off x="6639120" y="5051160"/>
              <a:ext cx="1183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75" y="948"/>
                  </a:moveTo>
                  <a:arcTo wR="10800" hR="10800" stAng="-6851402" swAng="663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75" y="948"/>
                  </a:moveTo>
                  <a:arcTo wR="10800" hR="10800" stAng="-6851402" swAng="663414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9280" y="115920"/>
            <a:ext cx="8713800" cy="1727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Найди слова с безударной гласной в корн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стно подбери проверочное сло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21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45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5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6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77080" y="2349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79898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2.В выделенных словах выдели безударные гласные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349360"/>
            <a:ext cx="57636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4720" y="2349360"/>
            <a:ext cx="57600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20720" y="2349360"/>
            <a:ext cx="57636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2349360"/>
            <a:ext cx="57456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2349360"/>
            <a:ext cx="57636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2349360"/>
            <a:ext cx="57636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29440" y="2349360"/>
            <a:ext cx="57636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349360"/>
            <a:ext cx="57636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2349360"/>
            <a:ext cx="57600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2349360"/>
            <a:ext cx="57636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2349360"/>
            <a:ext cx="57636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2349360"/>
            <a:ext cx="57636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2349360"/>
            <a:ext cx="57636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3141720"/>
            <a:ext cx="230364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789360"/>
            <a:ext cx="230364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ег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4437000"/>
            <a:ext cx="230364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ег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5084640"/>
            <a:ext cx="230364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5805360"/>
            <a:ext cx="230364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ег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5734080"/>
            <a:ext cx="230508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ляш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3141720"/>
            <a:ext cx="237636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ляш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3789360"/>
            <a:ext cx="237636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ляс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4437000"/>
            <a:ext cx="230508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ля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5084640"/>
            <a:ext cx="2305080" cy="50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ляс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1793880" cy="1657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 rot="181800">
            <a:off x="4212720" y="4076640"/>
            <a:ext cx="287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480840" y="3134520"/>
            <a:ext cx="1533960" cy="1022760"/>
            <a:chOff x="3480840" y="3134520"/>
            <a:chExt cx="1533960" cy="1022760"/>
          </a:xfrm>
        </p:grpSpPr>
        <p:sp>
          <p:nvSpPr>
            <p:cNvPr id="158" name=""/>
            <p:cNvSpPr txBox="1"/>
            <p:nvPr/>
          </p:nvSpPr>
          <p:spPr>
            <a:xfrm rot="181800">
              <a:off x="4211280" y="314172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 rot="181800">
              <a:off x="3492000" y="3716280"/>
              <a:ext cx="28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181800">
              <a:off x="4716000" y="350028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79280" y="115920"/>
            <a:ext cx="8713800" cy="1727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Выдели безударную гласную в слов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дчеркни в столбиках проверочные сл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71640" y="1844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 - м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292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6000" y="263700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...д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263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342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..ч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249228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263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од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342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4149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486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716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4437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5157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414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…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…с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5805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558972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…д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3429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164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0872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720" y="414972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6000" y="414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4149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р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4869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486900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486900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ст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558972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558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5589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5589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яд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263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58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956720" y="184464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342900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5589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4149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414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486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486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0"/>
            <a:ext cx="8713800" cy="1727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Подбери однокоренное сло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ударным гласным в корн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0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50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327" dur="50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328" dur="50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800"/>
                            </p:stCondLst>
                            <p:childTnLst>
                              <p:par>
                                <p:cTn id="3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20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342" dur="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343" dur="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0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357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358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600"/>
                            </p:stCondLst>
                            <p:childTnLst>
                              <p:par>
                                <p:cTn id="3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50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386" dur="50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387" dur="50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50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01" dur="50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02" dur="50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50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16" dur="50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17" dur="50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600"/>
                            </p:stCondLst>
                            <p:childTnLst>
                              <p:par>
                                <p:cTn id="4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59" dur="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60" dur="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50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71" dur="50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72" dur="50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700"/>
                            </p:stCondLst>
                            <p:childTnLst>
                              <p:par>
                                <p:cTn id="4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5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86" dur="5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487" dur="5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40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500" autoRev="1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515" dur="500" autoRev="1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516" dur="500" autoRev="1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600"/>
                            </p:stCondLst>
                            <p:childTnLst>
                              <p:par>
                                <p:cTn id="5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5508720" y="134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6227640" y="184644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1341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..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18446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...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2349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..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2854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..тн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3357720"/>
            <a:ext cx="23050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...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3862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...р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436572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..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870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...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37372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..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5878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…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981000"/>
            <a:ext cx="230508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981000"/>
            <a:ext cx="79200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981000"/>
            <a:ext cx="719280" cy="358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3276720" y="1341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4068720" y="1341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3276720" y="1846440"/>
            <a:ext cx="79200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3276720" y="2349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5508720" y="1846440"/>
            <a:ext cx="718920" cy="5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5508720" y="234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10" action="ppaction://hlinksldjump"/>
          </p:cNvPr>
          <p:cNvSpPr/>
          <p:nvPr/>
        </p:nvSpPr>
        <p:spPr>
          <a:xfrm>
            <a:off x="6227640" y="335772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11" action="ppaction://hlinksldjump"/>
          </p:cNvPr>
          <p:cNvSpPr/>
          <p:nvPr/>
        </p:nvSpPr>
        <p:spPr>
          <a:xfrm>
            <a:off x="4788000" y="38624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2" action="ppaction://hlinksldjump"/>
          </p:cNvPr>
          <p:cNvSpPr/>
          <p:nvPr/>
        </p:nvSpPr>
        <p:spPr>
          <a:xfrm>
            <a:off x="6227640" y="2854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13" action="ppaction://hlinksldjump"/>
          </p:cNvPr>
          <p:cNvSpPr/>
          <p:nvPr/>
        </p:nvSpPr>
        <p:spPr>
          <a:xfrm>
            <a:off x="5508720" y="3357720"/>
            <a:ext cx="718920" cy="5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14" action="ppaction://hlinksldjump"/>
          </p:cNvPr>
          <p:cNvSpPr/>
          <p:nvPr/>
        </p:nvSpPr>
        <p:spPr>
          <a:xfrm>
            <a:off x="4068720" y="2854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5" action="ppaction://hlinksldjump"/>
          </p:cNvPr>
          <p:cNvSpPr/>
          <p:nvPr/>
        </p:nvSpPr>
        <p:spPr>
          <a:xfrm>
            <a:off x="3276720" y="3357720"/>
            <a:ext cx="79200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6" action="ppaction://hlinksldjump"/>
          </p:cNvPr>
          <p:cNvSpPr/>
          <p:nvPr/>
        </p:nvSpPr>
        <p:spPr>
          <a:xfrm>
            <a:off x="4788000" y="3357720"/>
            <a:ext cx="720720" cy="50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7" action="ppaction://hlinksldjump"/>
          </p:cNvPr>
          <p:cNvSpPr/>
          <p:nvPr/>
        </p:nvSpPr>
        <p:spPr>
          <a:xfrm>
            <a:off x="4788000" y="1846440"/>
            <a:ext cx="720720" cy="50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18" action="ppaction://hlinksldjump"/>
          </p:cNvPr>
          <p:cNvSpPr/>
          <p:nvPr/>
        </p:nvSpPr>
        <p:spPr>
          <a:xfrm>
            <a:off x="4788000" y="234936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19" action="ppaction://hlinksldjump"/>
          </p:cNvPr>
          <p:cNvSpPr/>
          <p:nvPr/>
        </p:nvSpPr>
        <p:spPr>
          <a:xfrm>
            <a:off x="6227640" y="234936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20" action="ppaction://hlinksldjump"/>
          </p:cNvPr>
          <p:cNvSpPr/>
          <p:nvPr/>
        </p:nvSpPr>
        <p:spPr>
          <a:xfrm>
            <a:off x="4068720" y="3862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21" action="ppaction://hlinksldjump"/>
          </p:cNvPr>
          <p:cNvSpPr/>
          <p:nvPr/>
        </p:nvSpPr>
        <p:spPr>
          <a:xfrm>
            <a:off x="3276720" y="436572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2" action="ppaction://hlinksldjump"/>
          </p:cNvPr>
          <p:cNvSpPr/>
          <p:nvPr/>
        </p:nvSpPr>
        <p:spPr>
          <a:xfrm>
            <a:off x="4788000" y="134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23" action="ppaction://hlinksldjump"/>
          </p:cNvPr>
          <p:cNvSpPr/>
          <p:nvPr/>
        </p:nvSpPr>
        <p:spPr>
          <a:xfrm>
            <a:off x="4788000" y="2854440"/>
            <a:ext cx="7207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24" action="ppaction://hlinksldjump"/>
          </p:cNvPr>
          <p:cNvSpPr/>
          <p:nvPr/>
        </p:nvSpPr>
        <p:spPr>
          <a:xfrm>
            <a:off x="4068720" y="2349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25" action="ppaction://hlinksldjump"/>
          </p:cNvPr>
          <p:cNvSpPr/>
          <p:nvPr/>
        </p:nvSpPr>
        <p:spPr>
          <a:xfrm>
            <a:off x="3276720" y="3862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08720" y="386244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68720" y="1846440"/>
            <a:ext cx="7192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6" action="ppaction://hlinksldjump"/>
          </p:cNvPr>
          <p:cNvSpPr/>
          <p:nvPr/>
        </p:nvSpPr>
        <p:spPr>
          <a:xfrm>
            <a:off x="6227640" y="134136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27" action="ppaction://hlinksldjump"/>
          </p:cNvPr>
          <p:cNvSpPr/>
          <p:nvPr/>
        </p:nvSpPr>
        <p:spPr>
          <a:xfrm>
            <a:off x="3276720" y="2854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28" action="ppaction://hlinksldjump"/>
          </p:cNvPr>
          <p:cNvSpPr/>
          <p:nvPr/>
        </p:nvSpPr>
        <p:spPr>
          <a:xfrm>
            <a:off x="5508720" y="2854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29" action="ppaction://hlinksldjump"/>
          </p:cNvPr>
          <p:cNvSpPr/>
          <p:nvPr/>
        </p:nvSpPr>
        <p:spPr>
          <a:xfrm>
            <a:off x="4068720" y="3357720"/>
            <a:ext cx="719280" cy="502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8000" y="981000"/>
            <a:ext cx="718920" cy="3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981000"/>
            <a:ext cx="71892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27640" y="981000"/>
            <a:ext cx="79236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0" action="ppaction://hlinksldjump"/>
          </p:cNvPr>
          <p:cNvSpPr/>
          <p:nvPr/>
        </p:nvSpPr>
        <p:spPr>
          <a:xfrm>
            <a:off x="6227640" y="3862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8720" y="436572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31" action="ppaction://hlinksldjump"/>
          </p:cNvPr>
          <p:cNvSpPr/>
          <p:nvPr/>
        </p:nvSpPr>
        <p:spPr>
          <a:xfrm>
            <a:off x="550872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32" action="ppaction://hlinksldjump"/>
          </p:cNvPr>
          <p:cNvSpPr/>
          <p:nvPr/>
        </p:nvSpPr>
        <p:spPr>
          <a:xfrm>
            <a:off x="6227640" y="436572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4870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33" action="ppaction://hlinksldjump"/>
          </p:cNvPr>
          <p:cNvSpPr/>
          <p:nvPr/>
        </p:nvSpPr>
        <p:spPr>
          <a:xfrm>
            <a:off x="4068720" y="4870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4870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4" action="ppaction://hlinksldjump"/>
          </p:cNvPr>
          <p:cNvSpPr/>
          <p:nvPr/>
        </p:nvSpPr>
        <p:spPr>
          <a:xfrm>
            <a:off x="5508720" y="4870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35" action="ppaction://hlinksldjump"/>
          </p:cNvPr>
          <p:cNvSpPr/>
          <p:nvPr/>
        </p:nvSpPr>
        <p:spPr>
          <a:xfrm>
            <a:off x="6227640" y="4870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6" action="ppaction://hlinksldjump"/>
          </p:cNvPr>
          <p:cNvSpPr/>
          <p:nvPr/>
        </p:nvSpPr>
        <p:spPr>
          <a:xfrm>
            <a:off x="3276720" y="537372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68720" y="5373720"/>
            <a:ext cx="7192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27640" y="537372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5878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8720" y="5878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5878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08720" y="5878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7640" y="5878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1341360"/>
            <a:ext cx="7905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10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49440" y="134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184464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1016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2852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08720" y="234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28526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6720" y="3357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27640" y="335772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3708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08720" y="38606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3640" y="43657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8800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93800" y="486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486900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9416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6728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93800" y="5877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7640" y="587700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0"/>
            <a:ext cx="8713800" cy="907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Вставь пропущенну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7"/>
          <a:stretch/>
        </p:blipFill>
        <p:spPr>
          <a:xfrm>
            <a:off x="7020000" y="3141720"/>
            <a:ext cx="179388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5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8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801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83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13:13Z</dcterms:created>
  <dc:creator>Светик</dc:creator>
  <dc:description/>
  <dc:language>en-US</dc:language>
  <cp:lastModifiedBy>Светик</cp:lastModifiedBy>
  <dcterms:modified xsi:type="dcterms:W3CDTF">2009-03-17T17:34:16Z</dcterms:modified>
  <cp:revision>8</cp:revision>
  <dc:subject/>
  <dc:title>Слайд 1</dc:title>
</cp:coreProperties>
</file>