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EBE0-2942-4571-9B76-13C8396E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00FE-BA8A-4742-9C6E-8BDBC69B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A9C1-0E6B-4762-B6C4-E4A6549B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48E2-A8EE-4E83-9B96-69C920D1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CB82-B7AE-45F4-B5A0-51731410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384E-5654-4BC6-9F23-FEF52CF3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105D-D54D-40B9-885C-2B3CAA25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5D0B-A956-4E41-AD86-21A6CA23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D06A-6A3C-4D98-BEAB-422E7BC2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8647-FBA4-41E6-8E10-6685617B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26C0-AA84-40FA-B523-378D1A7B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B0B7-8569-404B-85B2-9F248E40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A4FB-2D60-4A69-BDE1-7D555E07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C423-4F33-4F72-B573-4011135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CF2F-5AFF-4B9D-83D4-A90BFA22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2B43-0175-4D77-BE5C-8220F4C5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56FA-8D4C-4464-8053-B75539EC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1B63-7938-4C72-B252-6B8E821E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C788-174D-4CAB-85B9-75AC7505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D439-BDF9-4D04-87E7-06C0A685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B7F0-48DE-42AB-9C78-33A013EB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A8EE-173E-4643-BB4C-B8D063C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66682-CC36-4ECD-8FD2-60178A5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32D5E-0F3E-4F8E-A5C5-6BD20647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3D78-89CF-4DF6-8720-6A0ADB48E3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BA11-D80F-4FD9-979D-0395D58271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66ff"/>
                </a:solidFill>
                <a:latin typeface="Garamond"/>
              </a:rPr>
              <a:t>Тема урока:</a:t>
            </a:r>
            <a:br>
              <a:rPr sz="6000"/>
            </a:br>
            <a:r>
              <a:rPr b="0" i="1" lang="en-US" sz="6000" spc="-1" strike="noStrike">
                <a:solidFill>
                  <a:srgbClr val="ffcc00"/>
                </a:solidFill>
                <a:latin typeface="Garamond"/>
              </a:rPr>
              <a:t>Юридическая ответственность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Garamond"/>
              </a:rPr>
              <a:t>Виды юридической ответственност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5e5ff"/>
                </a:solidFill>
                <a:latin typeface="Garamond"/>
              </a:rPr>
              <a:t>5. Индивидуальная ответственност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Характер правонаруш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ледств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обенности лица, совершившего правонарушения (смягчающие и отягчающие обстоятельств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18018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5e5ff"/>
                </a:solidFill>
                <a:latin typeface="Garamond"/>
              </a:rPr>
              <a:t>6. Состязательность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Активно участвовать в процесс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Прибегать к защите адвокат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5e5ff"/>
                </a:solidFill>
                <a:latin typeface="Garamond"/>
              </a:rPr>
              <a:t>7. Презумпция невиновности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Статья 49 Конституции Российской Федерации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e5e5ff"/>
                </a:solidFill>
                <a:latin typeface="Garamond"/>
              </a:rPr>
              <a:t>8. Справедливость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132000" y="4797360"/>
            <a:ext cx="1814760" cy="1528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«справедливо –       несправедливо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иды юридической ответствен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052640"/>
          <a:ext cx="8229600" cy="5983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ид ответствен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 что наступа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лага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каких форм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ализует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95280" y="115920"/>
          <a:ext cx="8086680" cy="6645240"/>
        </p:xfrm>
        <a:graphic>
          <a:graphicData uri="http://schemas.openxmlformats.org/drawingml/2006/table">
            <a:tbl>
              <a:tblPr/>
              <a:tblGrid>
                <a:gridCol w="1857240"/>
                <a:gridCol w="1854360"/>
                <a:gridCol w="1855800"/>
                <a:gridCol w="251928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ид ответств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 что наступа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т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лага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каких форм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ализу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ТЕРИ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 УЩЕР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ДМИНИСТР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ТРА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ИСЦИПЛИНА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РУШЕНИЕ ДИСЦИПЛИ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ПОЛНОМОЧЕННОЕ ЛИЦ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УПРЕЖДЕНИЕ,ВЫГОВОР,УВОЛЬНЕНИЕ(ИСКЛЮЧЕ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РАЖДАНСКО-ПРАВ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РУШЕНИЕ ДОГОВОРНЫХ ОБЯЗАТЕЛЬС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д, административный орга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ное возмещение вреда, штраф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дминистратив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 административные проступ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дминистративные комиссии, суды, органы внутренних де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упреждение, штраф, лишение п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голов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 пре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шение свободы, исправительные работ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бстоятельства, освобождающие от юридической ответственност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лан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нятие юридическая ответств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Цел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казани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ревоспитани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упрежд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ципы юридической ответстве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иды юридической ответствен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Ответственность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40384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Государства  за неправомерные действия ли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0" y="285228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Лица за свои неправомерные действ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23640" y="2349360"/>
            <a:ext cx="1368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234936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35280" y="1700280"/>
            <a:ext cx="127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тве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Юридическая ответственность-применение к лицу, совершившему правонарушение, предусмотренных законом мер принуждени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5e5ff"/>
                </a:solidFill>
                <a:latin typeface="Garamond"/>
              </a:rPr>
              <a:t>Цели: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Наказан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Перевоспитан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предупрежден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3456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5e5ff"/>
                </a:solidFill>
                <a:latin typeface="Garamond"/>
              </a:rPr>
              <a:t>Принципы юридической ответственности: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1. Законность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Только за деяние предусмотренное зако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В случае совершения правонарушения используется зак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32720" y="494172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e5e5ff"/>
                </a:solidFill>
                <a:latin typeface="Garamond"/>
              </a:rPr>
              <a:t>2.Обоснованность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Тщательность изучения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Правильная правовая оценка всех обстоятельств правонарушения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e5e5ff"/>
                </a:solidFill>
                <a:latin typeface="Garamond"/>
              </a:rPr>
              <a:t>3. Неотвратимость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Правонарушитель не останется безнаказанны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5e5ff"/>
                </a:solidFill>
                <a:latin typeface="Garamond"/>
              </a:rPr>
              <a:t>4. Своевременность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Возможность привлечения правонарушителя к ответственности в течение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4800" spc="-1" strike="noStrike">
                <a:solidFill>
                  <a:srgbClr val="ff66ff"/>
                </a:solidFill>
                <a:latin typeface="Garamond"/>
              </a:rPr>
              <a:t>срока давности</a:t>
            </a:r>
            <a:r>
              <a:rPr b="1" i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(установленный законом период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2:41:31Z</dcterms:created>
  <dc:creator>Бакиева Л.Е.</dc:creator>
  <dc:description/>
  <dc:language>en-US</dc:language>
  <cp:lastModifiedBy>Бакиева Л.Е.</cp:lastModifiedBy>
  <dcterms:modified xsi:type="dcterms:W3CDTF">2010-06-09T09:06:39Z</dcterms:modified>
  <cp:revision>15</cp:revision>
  <dc:subject/>
  <dc:title>Тема урока: Юридическая ответственность.</dc:title>
</cp:coreProperties>
</file>