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140-8650-464C-A161-D15C66EB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9D2-EB76-448B-8F6B-7A10C304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710-C87C-4318-B0CA-E80A4E14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C5E-1E0F-42B5-B9F1-71BB457F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DB7-587C-4B79-B8C1-80D5CDA6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DC9-DAF1-4A41-8A5B-DD4B8FA7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77A-2562-4A34-B13D-7FCE4D3F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FE7-23D1-4FF2-BF1F-34A54C44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D59-4F0F-47DD-B628-65D56AB4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BCE-1CDC-4862-A73E-FF4A1531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FBA-5CB2-4A75-997B-10C78320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95D-C5BE-4695-AC2A-66D1368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A47B-186B-4B39-B712-737F56F4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342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министрация Чкаловского района Нижегородской области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Муниципа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Соломатовская общеобразовательная школа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ческая разработка раздела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ой программы</a:t>
            </a: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378936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Россия в 1917 - 1927 год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р работы: учитель истории Балашов Серг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рис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апробации учебной программ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истории России для 9-го класса за 3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-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ржани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тупитель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Пояснительная зап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Учебно-тематическое планирование на 2009-2010 учебн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боснование выбора раздела учебной программы для методической разрабо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нов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Методическое обеспечение изучения раздела програм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Проект урока по теме «Гражданская война в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Психолого-педагогическое и методическое обоснование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онспект урока «Гражданская война в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амоанализ уро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езультаты апробации содержания учебной програм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ключительн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Методические рекомендации по изучению раз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Прило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и задачи методической разработки раз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– раскрытие форм, средств, методов обучения, элементов современных педагогических технологий обучения применительно к разделу «Россия в1917 – 1927 годах» учебной программы А.А. Данилова, Л.Г. Косулиной «Росс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» для 9-го класс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определить формы и методы изучения данного раз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раскрыть опыт проведения уроков по изучению этого раз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исать виды деятельности педагога 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описать методику использования элементов современных педагогически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осуществить связь теории с практикой на уроках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показать приемы использования информационных средств обучения на уроках ис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атическое планирование раздела «Россия в 1917 – 1927 гг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600440"/>
        </p:xfrm>
        <a:graphic>
          <a:graphicData uri="http://schemas.openxmlformats.org/drawingml/2006/table">
            <a:tbl>
              <a:tblPr/>
              <a:tblGrid>
                <a:gridCol w="801720"/>
                <a:gridCol w="5473800"/>
                <a:gridCol w="195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ы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Февраля к Октябр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вление Советской в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ская во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экономическ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ое развити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я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ная 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404640"/>
            <a:ext cx="8146800" cy="6047280"/>
            <a:chOff x="457200" y="404640"/>
            <a:chExt cx="8146800" cy="6047280"/>
          </a:xfrm>
        </p:grpSpPr>
        <p:cxnSp>
          <p:nvCxnSpPr>
            <p:cNvPr id="51" name="_s18453"/>
            <p:cNvCxnSpPr>
              <a:stCxn id="52" idx="0"/>
              <a:endCxn id="53" idx="2"/>
            </p:cNvCxnSpPr>
            <p:nvPr/>
          </p:nvCxnSpPr>
          <p:spPr>
            <a:xfrm flipV="1">
              <a:off x="4530240" y="4183560"/>
              <a:ext cx="324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8451"/>
            <p:cNvCxnSpPr>
              <a:stCxn id="55" idx="0"/>
              <a:endCxn id="56" idx="2"/>
            </p:cNvCxnSpPr>
            <p:nvPr/>
          </p:nvCxnSpPr>
          <p:spPr>
            <a:xfrm flipV="1">
              <a:off x="1678680" y="4183560"/>
              <a:ext cx="324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8449"/>
            <p:cNvCxnSpPr>
              <a:stCxn id="58" idx="0"/>
              <a:endCxn id="59" idx="2"/>
            </p:cNvCxnSpPr>
            <p:nvPr/>
          </p:nvCxnSpPr>
          <p:spPr>
            <a:xfrm flipV="1">
              <a:off x="7381440" y="4183560"/>
              <a:ext cx="324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8446"/>
            <p:cNvCxnSpPr>
              <a:stCxn id="59" idx="0"/>
              <a:endCxn id="61" idx="2"/>
            </p:cNvCxnSpPr>
            <p:nvPr/>
          </p:nvCxnSpPr>
          <p:spPr>
            <a:xfrm flipV="1" rot="16200000">
              <a:off x="5577840" y="867600"/>
              <a:ext cx="756360" cy="2851920"/>
            </a:xfrm>
            <a:prstGeom prst="bentConnector3">
              <a:avLst>
                <a:gd name="adj1" fmla="val 164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8445"/>
            <p:cNvCxnSpPr>
              <a:stCxn id="53" idx="0"/>
              <a:endCxn id="61" idx="2"/>
            </p:cNvCxnSpPr>
            <p:nvPr/>
          </p:nvCxnSpPr>
          <p:spPr>
            <a:xfrm flipV="1">
              <a:off x="4530240" y="1915560"/>
              <a:ext cx="324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8444"/>
            <p:cNvCxnSpPr>
              <a:stCxn id="56" idx="0"/>
              <a:endCxn id="61" idx="2"/>
            </p:cNvCxnSpPr>
            <p:nvPr/>
          </p:nvCxnSpPr>
          <p:spPr>
            <a:xfrm flipH="1" flipV="1" rot="5400000">
              <a:off x="2726640" y="867960"/>
              <a:ext cx="756360" cy="2851920"/>
            </a:xfrm>
            <a:prstGeom prst="bentConnector3">
              <a:avLst>
                <a:gd name="adj1" fmla="val 164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8440"/>
            <p:cNvSpPr/>
            <p:nvPr/>
          </p:nvSpPr>
          <p:spPr>
            <a:xfrm>
              <a:off x="3308400" y="40464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Цель изу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дела учеб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ограм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8441"/>
            <p:cNvSpPr/>
            <p:nvPr/>
          </p:nvSpPr>
          <p:spPr>
            <a:xfrm>
              <a:off x="457200" y="2672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знавате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8442"/>
            <p:cNvSpPr/>
            <p:nvPr/>
          </p:nvSpPr>
          <p:spPr>
            <a:xfrm>
              <a:off x="3308400" y="2672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виваю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8443"/>
            <p:cNvSpPr/>
            <p:nvPr/>
          </p:nvSpPr>
          <p:spPr>
            <a:xfrm>
              <a:off x="6159960" y="2672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оспитате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8448"/>
            <p:cNvSpPr/>
            <p:nvPr/>
          </p:nvSpPr>
          <p:spPr>
            <a:xfrm>
              <a:off x="6159960" y="4940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спитание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твенност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увства патриотиз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любви к свое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ечест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8450"/>
            <p:cNvSpPr/>
            <p:nvPr/>
          </p:nvSpPr>
          <p:spPr>
            <a:xfrm>
              <a:off x="457200" y="4940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ормирование зн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 основных этапах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лючевых события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стории России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ериод с 1917 по 19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8452"/>
            <p:cNvSpPr/>
            <p:nvPr/>
          </p:nvSpPr>
          <p:spPr>
            <a:xfrm>
              <a:off x="3308400" y="4940280"/>
              <a:ext cx="2444040" cy="151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 умений и нав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в поиска, системат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ции и комплекс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нализа историческ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ическое обеспечение изучения раздела учеб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 организации изучения раздела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лок проблемных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ный вопрос к изучаемому разде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Россия на перепутье – демократия или диктатура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приёмы препода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вристическая беседа, самостоятельн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элементами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приёмы у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амостоятельные обобщения по частным вопрос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ешение познавательных задач, участие в эвристической бесе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астичный мыслительный экспер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ческая карта изучения раздела «Россия в 1917 – 1927»</a:t>
            </a:r>
            <a:br>
              <a:rPr sz="20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765000"/>
          <a:ext cx="8785440" cy="591048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Февраля к Октябрю 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изучения нового материала на основе опорного консп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в 1917 г. п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дили большевик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события рев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ций, уметь разби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ться в причи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работ в тетрад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вление  советской власти 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 политический режим создали большевик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уметь характеризовать содержание декр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 по проблемному вопро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ская война 2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победил в гражданской войне и почем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причины и ход войны, уметь решать проблем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выполнения задания на карточ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экономическая политика 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НЭП не мог долго существовать в СССР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сущность и  уметь сравнивать с воен.коммунизм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сравнительной табл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ое развитие 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ем причины победы  в 20-е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ССР Стал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уметь анализировать процессы и я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, проверка решения проблемного в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я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способствовало прорыву международной блокады СССР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уметь анализировать внешнюю политику 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ы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ная жи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выработки навыков работы с исторически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ая власть и интеллигенция – в чем истоки конфликт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направления культурной политики и уметь объясн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табл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стижения и проблемы культур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 урока по истории России для 9-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«Гражданская война в Ро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урок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бин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 урока: 1) образовательная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рмирование и систематизация знаний об особенностях, ходе и результатах гражданской войны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развивающая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витие навыков решения проблем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воспитательная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питание уважения к истории своего От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организации урок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остоятельная работа, практическая работа эвристическая бесе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организации работы учащихся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ронтальная, групп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обучения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вристический, проблемно-поисковый, граф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рта «Гражданская война в России», компьютер и мультимедийный проектор, учебник Данилов А.А. История Росс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X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ческая карта урока  истории России по теме «Гражданская война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907920"/>
          <a:ext cx="8785440" cy="5921640"/>
        </p:xfrm>
        <a:graphic>
          <a:graphicData uri="http://schemas.openxmlformats.org/drawingml/2006/table">
            <a:tbl>
              <a:tblPr/>
              <a:tblGrid>
                <a:gridCol w="2835360"/>
                <a:gridCol w="2836800"/>
                <a:gridCol w="31132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, задачи, 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Организацио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деятель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внимания и внутренней готовности уче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Актуализация 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направление к цели деятельности уче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ация ранее полученных знаний и ум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Изучение нового   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основных знаний и умений по т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ного вопроса и организация поисковой рабо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онный материа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и периодизация гражданской вой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ного вопро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одержал победу в гражданской войне и почем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о схе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сил противоборствующих стор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по групп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 хода гражданской войны на карт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делают вывод о преимуществе «красны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Заключительный эта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воение умений пользоваться зн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блемного вопроса, рефлексивно-оценочный 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33:47Z</dcterms:created>
  <dc:creator>Пользователь</dc:creator>
  <dc:description/>
  <dc:language>en-US</dc:language>
  <cp:lastModifiedBy>Admin</cp:lastModifiedBy>
  <dcterms:modified xsi:type="dcterms:W3CDTF">2010-03-14T11:40:26Z</dcterms:modified>
  <cp:revision>19</cp:revision>
  <dc:subject/>
  <dc:title>Методическая разработка раздела учебной программы</dc:title>
</cp:coreProperties>
</file>