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C82-FC47-4A34-8A37-AF527AA3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340-119D-4D54-AC90-45FA17A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BF5-C88C-458A-BF31-818CCCDE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9AC-2EE8-45B5-92E8-952EEFCF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57-1538-4FBC-997D-87C96EDE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6D2-BFCD-436E-B2AD-ECC0EEC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3AC-DF2A-4B3D-90F0-A4E7C46D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743-A989-466D-A842-AD888001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271-1B47-4A54-9F3E-E8BE2869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CB6-24CA-43FE-995C-62D29BB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A93-791D-4A63-B1E9-6CBF3F4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195-9D91-40B7-B3AC-C5B00CA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94CC-B63F-4B28-BAB4-DC854083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42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инистрация Чкаловского района Нижегородской области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Муниципа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Соломатовская общеобразовательная школа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ая разработка раздела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й программы</a:t>
            </a: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78936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оссия в 1917 - 1927 год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 работы: учитель истории Балашов Серг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ис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апробации учебной програм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истории России для 9-го класса за 3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ни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туп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ояснительная 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Учебно-тематическое планирование на 2009-2010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боснование выбора раздела учебной программы для методической разрабо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етодическое обеспечение изучения раздела програм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оект урока по теме «Гражданская война в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сихолого-педагогическое и методическое обоснование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онспект урока «Гражданская война в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амоанализ ур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езультаты апробации содержания учебной програм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ключитель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етодические рекомендации по изучению раз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ило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и задачи методической разработки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– раскрытие форм, средств, методов обучения, элементов современных педагогических технологий обучения применительно к разделу «Россия в1917 – 1927 годах» учебной программы А.А. Данилова, Л.Г. Косулиной «Росс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» для 9-го класс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определить формы и методы изучения данного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раскрыть опыт проведения уроков по изучению этого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исать виды деятельности педагога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писать методику использования элементов современных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существить связь теории с практикой на уроках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оказать приемы использования информационных средств обучения на уроках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тическое планирование раздела «Россия в 1917 – 1927 г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600440"/>
        </p:xfrm>
        <a:graphic>
          <a:graphicData uri="http://schemas.openxmlformats.org/drawingml/2006/table">
            <a:tbl>
              <a:tblPr/>
              <a:tblGrid>
                <a:gridCol w="801720"/>
                <a:gridCol w="5473800"/>
                <a:gridCol w="195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ы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Февраля к Октябр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Советской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кая во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экономическ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ое развит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ая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404640"/>
            <a:ext cx="8146800" cy="6047280"/>
            <a:chOff x="457200" y="404640"/>
            <a:chExt cx="8146800" cy="6047280"/>
          </a:xfrm>
        </p:grpSpPr>
        <p:cxnSp>
          <p:nvCxnSpPr>
            <p:cNvPr id="51" name="_s18453"/>
            <p:cNvCxnSpPr>
              <a:stCxn id="52" idx="0"/>
              <a:endCxn id="53" idx="2"/>
            </p:cNvCxnSpPr>
            <p:nvPr/>
          </p:nvCxnSpPr>
          <p:spPr>
            <a:xfrm flipV="1">
              <a:off x="453024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8451"/>
            <p:cNvCxnSpPr>
              <a:stCxn id="55" idx="0"/>
              <a:endCxn id="56" idx="2"/>
            </p:cNvCxnSpPr>
            <p:nvPr/>
          </p:nvCxnSpPr>
          <p:spPr>
            <a:xfrm flipV="1">
              <a:off x="167868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8449"/>
            <p:cNvCxnSpPr>
              <a:stCxn id="58" idx="0"/>
              <a:endCxn id="59" idx="2"/>
            </p:cNvCxnSpPr>
            <p:nvPr/>
          </p:nvCxnSpPr>
          <p:spPr>
            <a:xfrm flipV="1">
              <a:off x="738144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8446"/>
            <p:cNvCxnSpPr>
              <a:stCxn id="59" idx="0"/>
              <a:endCxn id="61" idx="2"/>
            </p:cNvCxnSpPr>
            <p:nvPr/>
          </p:nvCxnSpPr>
          <p:spPr>
            <a:xfrm flipV="1" rot="16200000">
              <a:off x="5577840" y="867600"/>
              <a:ext cx="756360" cy="2851920"/>
            </a:xfrm>
            <a:prstGeom prst="bentConnector3">
              <a:avLst>
                <a:gd name="adj1" fmla="val 164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8445"/>
            <p:cNvCxnSpPr>
              <a:stCxn id="53" idx="0"/>
              <a:endCxn id="61" idx="2"/>
            </p:cNvCxnSpPr>
            <p:nvPr/>
          </p:nvCxnSpPr>
          <p:spPr>
            <a:xfrm flipV="1">
              <a:off x="4530240" y="1915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8444"/>
            <p:cNvCxnSpPr>
              <a:stCxn id="56" idx="0"/>
              <a:endCxn id="61" idx="2"/>
            </p:cNvCxnSpPr>
            <p:nvPr/>
          </p:nvCxnSpPr>
          <p:spPr>
            <a:xfrm flipH="1" flipV="1" rot="5400000">
              <a:off x="2726640" y="867960"/>
              <a:ext cx="756360" cy="2851920"/>
            </a:xfrm>
            <a:prstGeom prst="bentConnector3">
              <a:avLst>
                <a:gd name="adj1" fmla="val 164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8440"/>
            <p:cNvSpPr/>
            <p:nvPr/>
          </p:nvSpPr>
          <p:spPr>
            <a:xfrm>
              <a:off x="3308400" y="40464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ль изу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дела учеб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8441"/>
            <p:cNvSpPr/>
            <p:nvPr/>
          </p:nvSpPr>
          <p:spPr>
            <a:xfrm>
              <a:off x="45720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знав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8442"/>
            <p:cNvSpPr/>
            <p:nvPr/>
          </p:nvSpPr>
          <p:spPr>
            <a:xfrm>
              <a:off x="330840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виваю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8443"/>
            <p:cNvSpPr/>
            <p:nvPr/>
          </p:nvSpPr>
          <p:spPr>
            <a:xfrm>
              <a:off x="615996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пит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8448"/>
            <p:cNvSpPr/>
            <p:nvPr/>
          </p:nvSpPr>
          <p:spPr>
            <a:xfrm>
              <a:off x="615996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твенност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увства патриотиз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любви к свое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ечест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8450"/>
            <p:cNvSpPr/>
            <p:nvPr/>
          </p:nvSpPr>
          <p:spPr>
            <a:xfrm>
              <a:off x="45720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е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 основных этапах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лючевых события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рии России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иод с 1917 по 19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8452"/>
            <p:cNvSpPr/>
            <p:nvPr/>
          </p:nvSpPr>
          <p:spPr>
            <a:xfrm>
              <a:off x="330840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 умений и нав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в поиска, системат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ции и комплекс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нализа историческ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ическое обеспечение изучения раздела учеб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организации изучения раздела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лок проблемн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ый вопрос к изучаемому разде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Россия на перепутье – демократия или диктатур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приёмы препода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вристическая беседа, самостоятель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элементами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приёмы 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амостоятельные обобщения по частным вопрос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шение познавательных задач, участие в эвристической бесе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тичный мыслительный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карта изучения раздела «Россия в 1917 – 1927»</a:t>
            </a:r>
            <a:br>
              <a:rPr sz="20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765000"/>
          <a:ext cx="8785440" cy="59104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Февраля к Октябрю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изучения нового материала на основе опорного консп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 1917 г. п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или большевик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события рев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ций, уметь разб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ься в причи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работ в тетрад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 советской власти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 политический режим создали большевик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характеризовать содержание декр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по проблемному вопро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кая война 2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победил в гражданской войне и 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причины и ход войны, уметь решать проблем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выполнения задания на карточ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экономическая политика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НЭП не мог долго существовать в ССС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сущность и  уметь сравнивать с воен.коммунизм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сравнительной табл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ое развитие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причины победы  в 20-е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ССР Стал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анализировать процессы и я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, проверка решения проблемного в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пособствовало прорыву международной блокады ССС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анализировать внешнюю политику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ая жи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выработки навыков работы с исторически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ая власть и интеллигенция – в чем истоки конфликт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направления культурной политики и уметь объяс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табл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стижения и проблемы культу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 урока по истории России для 9-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«Гражданская война в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бин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урока: 1) образовательн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и систематизация знаний об особенностях, ходе и результатах гражданской войны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развивающ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тие навыков решения проблем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оспитательн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ание уважения к истории своего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организации урок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, практическая работа эвристическая бесе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организации работы учащихс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ронтальная, групп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бучени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вристический, проблемно-поисковый, 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рта «Гражданская война в России», компьютер и мультимедийный проектор, учебник Данилов А.А. История Росс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карта урока  истории России по теме «Гражданская война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907920"/>
          <a:ext cx="8785440" cy="5921640"/>
        </p:xfrm>
        <a:graphic>
          <a:graphicData uri="http://schemas.openxmlformats.org/drawingml/2006/table">
            <a:tbl>
              <a:tblPr/>
              <a:tblGrid>
                <a:gridCol w="2835360"/>
                <a:gridCol w="2836800"/>
                <a:gridCol w="31132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, задачи,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Организацио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внимания и внутренней готовности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Актуализация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направление к цели деятельности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 ранее полученных знаний и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Изучение нового   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сновных знаний и умений по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ного вопроса и организация поисковой раб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онный материа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и периодизация гражданской вой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ного вопр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одержал победу в гражданской войне и почем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о схе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сил противоборствующих сто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по групп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 хода гражданской войны на 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делают вывод о преимуществе «красн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ключительный 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умений пользоваться зн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ного вопроса, рефлексивно-оценочный 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33:47Z</dcterms:created>
  <dc:creator>Пользователь</dc:creator>
  <dc:description/>
  <dc:language>en-US</dc:language>
  <cp:lastModifiedBy>Admin</cp:lastModifiedBy>
  <dcterms:modified xsi:type="dcterms:W3CDTF">2010-03-14T11:40:26Z</dcterms:modified>
  <cp:revision>19</cp:revision>
  <dc:subject/>
  <dc:title>Методическая разработка раздела учебной программы</dc:title>
</cp:coreProperties>
</file>