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DAD-C0C8-4289-BEC3-401B71B3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9E2-6C82-40DA-B67B-7C4915D1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AB5-16E4-45F1-9C45-D035DA39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01B-7723-42A6-9CCC-29465E10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C4753-018F-460A-8D1E-996AB376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8CF87-B73B-47CD-B3E9-FCEA9F5F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E8A57-3638-4B97-A397-61B3BE4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C6A25-AE19-4FCC-A739-8C6B25F6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E6581-E701-44F1-BD3C-B5600EA4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6FCED-051D-4863-88DF-8FB7DAE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061DE-D276-43C0-BFDC-1BDDD36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612-6F76-41A4-9655-4009F434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AAB25-DD4A-4884-A3ED-04F8A4A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6819E-0979-4EA6-A83B-F3EA141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5024E-B8CB-4FB0-A20C-E3A38313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C82A1-5A53-4CA3-A4F8-616B7590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8C2AC-58D5-4E78-A666-45E7805D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AC0C-A3FB-4EF9-AE12-F541AFB4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9494-C12D-45AE-9C81-9382C39C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BDF8-A272-4684-A658-992EC964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D000-22B6-4C1C-B209-1FEAACE7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943D-4893-4F2E-8584-9C0FE03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D23-AF76-4963-99F1-1EC3737D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682D-B7CA-4730-95A6-E2F71EB0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5AD3-C7C2-4F60-8D55-33FFFEE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8E62-361A-4025-AEEA-0F02C59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A8A5-8BFE-4F89-873B-B70D837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801F-739C-47EE-AAF7-4C440FB2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5322-47BD-447B-9657-CF658CC7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D2BA-4A72-4F48-876F-CDFA6AC0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CB469-E801-43E9-86FA-C7A3292E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4642B-B98E-4F85-901A-7CBF150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7F219-D564-44BD-9149-3C7485F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FE3-6526-4BE3-8B10-8E5BE70D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6FB20-6516-4667-A81F-78E5B48D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BEC0D-7D97-4DFC-A2F4-516489D8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1DD82-16E2-4BE1-9ADC-3D13EAC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0427B-0417-484B-A1B5-97BF727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E5F0C-B572-46EA-A457-3F3C7790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D1051-A944-460F-ACCB-9610D0E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C3719-8A11-4B4C-A393-B4591712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1D278-B568-4C13-8A4E-B79755DF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F4BF3A-F5E9-47AF-A8E4-6A6BDC77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92883-C8C1-4FBE-9380-51CDF12A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4C2-9720-4763-A92B-491BAA16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F2DA2-8976-420D-9DB9-85DA403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6AE44-B8D8-40F9-A08B-7F7D80EE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01D0C-85C4-44E6-865F-CC60851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E3809-8D43-40EC-A52B-A042E78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9F8EA-5D77-4C4F-A212-D223B7C3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D005C-3723-46F8-9439-D681026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5E3B5-15DD-4C57-95CB-E1C29E8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89345-D2AD-42E8-96A0-592E0C2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87FA8-3F59-458A-B5B6-8436900A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EA8A0-CBBC-4005-A08B-C1224F0A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15E-1EA3-4A62-839C-19FFF24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F89E5-99EA-47F9-9B9A-376C1AE5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D7CCA-C466-4B66-87E3-8E5C1C0F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493F6-95D7-4688-8E8B-317AD779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2F0AB-8388-4CED-BE1A-DCA62A0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9C924-5A51-4756-81C0-B54DAAEC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CB214-626E-43BC-9CE2-3033A49B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693FE-73DE-449A-88BD-D9D304E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93EAA-3501-40E4-8D4E-2619CF45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2BE72-606D-490A-962E-D3949D45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FC7BE-1CC1-43A9-8660-052B999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9F6-AFC7-4D08-B8B0-2E0192A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FEB6D-42B6-4FE4-BEB2-B965470F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03190-CA4E-4FAB-8038-73CF2CF4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004A2-73A9-4349-9C00-838FEC20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C27-5E88-4600-B4D6-A402FDF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85B-6333-471B-A363-7B5513F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2B1-5DC6-46FC-A06E-76406060843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A8C0-03AE-4E70-86CB-4695D1FBAAC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BF7-436B-41C0-8F9C-576E70D5EA3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3C46-DCA2-4A0F-ACCE-37F0BC75911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1E17-6F67-4D87-9062-A8A9BCF375A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1E72-BD56-4540-B743-7F733311A98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26560" y="3884760"/>
            <a:ext cx="720108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6699"/>
                </a:solidFill>
                <a:latin typeface="Constantia"/>
              </a:rPr>
              <a:t>1812 </a:t>
            </a:r>
            <a:r>
              <a:rPr b="0" lang="en-US" sz="10000" spc="-1" strike="noStrike">
                <a:solidFill>
                  <a:srgbClr val="ff6699"/>
                </a:solidFill>
                <a:latin typeface="Arial"/>
              </a:rPr>
              <a:t>год</a:t>
            </a:r>
            <a:endParaRPr b="0" lang="en-US" sz="10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WordArt 5"/>
          <p:cNvSpPr txBox="1"/>
          <p:nvPr/>
        </p:nvSpPr>
        <p:spPr>
          <a:xfrm>
            <a:off x="1116000" y="836640"/>
            <a:ext cx="712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ЕЧЕСТВЕННА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Й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Последний троллейбус - Другу - Генералам 1812 года (М.Цветаева-А.Петров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395280" y="1171440"/>
            <a:ext cx="8280360" cy="5112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6" name="Picture 7" descr="http://magput.ru/pics/large/23122.jpg"/>
          <p:cNvPicPr/>
          <p:nvPr/>
        </p:nvPicPr>
        <p:blipFill>
          <a:blip r:embed="rId2"/>
          <a:stretch/>
        </p:blipFill>
        <p:spPr>
          <a:xfrm>
            <a:off x="324000" y="33336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8" name="Picture 7" descr="http://magput.ru/pics/large/231.JPG"/>
          <p:cNvPicPr/>
          <p:nvPr/>
        </p:nvPicPr>
        <p:blipFill>
          <a:blip r:embed="rId2"/>
          <a:stretch/>
        </p:blipFill>
        <p:spPr>
          <a:xfrm>
            <a:off x="1547640" y="260280"/>
            <a:ext cx="511200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0" name="Picture 6" descr="http://english.ruvr.ru/data/2011/06/22/1250600936/4RIAN_00317019.LR.en.jpg"/>
          <p:cNvPicPr/>
          <p:nvPr/>
        </p:nvPicPr>
        <p:blipFill>
          <a:blip r:embed="rId2"/>
          <a:stretch/>
        </p:blipFill>
        <p:spPr>
          <a:xfrm>
            <a:off x="826920" y="620640"/>
            <a:ext cx="7201080" cy="62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3" name="Picture 6" descr="http://content.foto.mail.ru/mail/yoska57/_blogs/i-1160.jpg"/>
          <p:cNvPicPr/>
          <p:nvPr/>
        </p:nvPicPr>
        <p:blipFill>
          <a:blip r:embed="rId3"/>
          <a:stretch/>
        </p:blipFill>
        <p:spPr>
          <a:xfrm>
            <a:off x="900000" y="115920"/>
            <a:ext cx="769320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6" name="Picture 6" descr="http://img1.liveinternet.ru/images/attach/c/0/48/455/48455554_6275af698841.jpg"/>
          <p:cNvPicPr/>
          <p:nvPr/>
        </p:nvPicPr>
        <p:blipFill>
          <a:blip r:embed="rId3"/>
          <a:stretch/>
        </p:blipFill>
        <p:spPr>
          <a:xfrm>
            <a:off x="1763640" y="200160"/>
            <a:ext cx="4819680" cy="66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8" name="Picture 7" descr="http://900igr.net/datai/istorija/Istorija-vojna-1812/0005-016-Borodinskoe-srazhenie.jpg"/>
          <p:cNvPicPr/>
          <p:nvPr/>
        </p:nvPicPr>
        <p:blipFill>
          <a:blip r:embed="rId2"/>
          <a:stretch/>
        </p:blipFill>
        <p:spPr>
          <a:xfrm>
            <a:off x="250920" y="333360"/>
            <a:ext cx="874872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0" name="Picture 7" descr="http://www.simvolika.org/images/borodino2012_04.gif"/>
          <p:cNvPicPr/>
          <p:nvPr/>
        </p:nvPicPr>
        <p:blipFill>
          <a:blip r:embed="rId2"/>
          <a:stretch/>
        </p:blipFill>
        <p:spPr>
          <a:xfrm>
            <a:off x="1187280" y="339840"/>
            <a:ext cx="6519960" cy="65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7" name="Picture 8" descr="http://anymy.ru/pic/news/i_n_b_184930.jpg"/>
          <p:cNvPicPr/>
          <p:nvPr/>
        </p:nvPicPr>
        <p:blipFill>
          <a:blip r:embed="rId2"/>
          <a:stretch/>
        </p:blipFill>
        <p:spPr>
          <a:xfrm>
            <a:off x="395280" y="476280"/>
            <a:ext cx="842472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Picture 5" descr="pt7726"/>
          <p:cNvPicPr/>
          <p:nvPr/>
        </p:nvPicPr>
        <p:blipFill>
          <a:blip r:embed="rId2"/>
          <a:stretch/>
        </p:blipFill>
        <p:spPr>
          <a:xfrm>
            <a:off x="1738440" y="260280"/>
            <a:ext cx="58579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2" name="Picture 7" descr="http://s52.radikal.ru/i137/1006/5c/bc6b49c0a0b7.jpg"/>
          <p:cNvPicPr/>
          <p:nvPr/>
        </p:nvPicPr>
        <p:blipFill>
          <a:blip r:embed="rId2"/>
          <a:stretch/>
        </p:blipFill>
        <p:spPr>
          <a:xfrm>
            <a:off x="250920" y="33336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4" name="Picture 5" descr="pb_005"/>
          <p:cNvPicPr/>
          <p:nvPr/>
        </p:nvPicPr>
        <p:blipFill>
          <a:blip r:embed="rId2"/>
          <a:stretch/>
        </p:blipFill>
        <p:spPr>
          <a:xfrm>
            <a:off x="1608120" y="333360"/>
            <a:ext cx="5562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www.museum.ru/1812/Library/Paskevich/pic/paskevich.jpg"/>
          <p:cNvPicPr/>
          <p:nvPr/>
        </p:nvPicPr>
        <p:blipFill>
          <a:blip r:embed="rId2"/>
          <a:stretch/>
        </p:blipFill>
        <p:spPr>
          <a:xfrm>
            <a:off x="1116000" y="404640"/>
            <a:ext cx="55436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8" name="Picture 4" descr="885867442"/>
          <p:cNvPicPr/>
          <p:nvPr/>
        </p:nvPicPr>
        <p:blipFill>
          <a:blip r:embed="rId3"/>
          <a:stretch/>
        </p:blipFill>
        <p:spPr>
          <a:xfrm>
            <a:off x="1876320" y="333360"/>
            <a:ext cx="63756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70" name="Picture 4" descr="G0040i"/>
          <p:cNvPicPr/>
          <p:nvPr/>
        </p:nvPicPr>
        <p:blipFill>
          <a:blip r:embed="rId2"/>
          <a:stretch/>
        </p:blipFill>
        <p:spPr>
          <a:xfrm>
            <a:off x="1979640" y="620640"/>
            <a:ext cx="463068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2" name="Picture 6" descr="http://kz44.narod.ru/5_mk.jpg"/>
          <p:cNvPicPr/>
          <p:nvPr/>
        </p:nvPicPr>
        <p:blipFill>
          <a:blip r:embed="rId2"/>
          <a:stretch/>
        </p:blipFill>
        <p:spPr>
          <a:xfrm>
            <a:off x="468360" y="333360"/>
            <a:ext cx="7991280" cy="633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3:08:30Z</dcterms:created>
  <dc:creator>User</dc:creator>
  <dc:description/>
  <dc:language>en-US</dc:language>
  <cp:lastModifiedBy>User</cp:lastModifiedBy>
  <dcterms:modified xsi:type="dcterms:W3CDTF">2012-01-11T09:52:35Z</dcterms:modified>
  <cp:revision>10</cp:revision>
  <dc:subject/>
  <dc:title>Слайд 1</dc:title>
</cp:coreProperties>
</file>