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20.png" ContentType="image/png"/>
  <Override PartName="/ppt/media/image19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3.png" ContentType="image/png"/>
  <Override PartName="/ppt/media/image17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C98B-4EBC-4A98-AE8E-FD650E38A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887D-C1E8-45A2-AF1E-8F241BAD0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EE2A-3887-4AAE-BB34-5E5F605A7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1BC9-A1CB-484B-B7AF-9632515A7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649DBE-339A-46DA-A68B-3BF361961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938C72-7152-44F8-860C-3E1A4FB3A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91367F-0FF2-47D6-9D41-9C6271B79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76F2DF-0D23-4197-9E70-9713BF75C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F1F7E4-61BB-44B8-8265-EF3976F30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179EA4-6122-4CCD-BD70-1557011DE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5680F3-76BD-4218-B000-BDB2BC1A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DC9D-46B8-48E8-86FC-BD1C28CC7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7B0B1B-555D-447D-AA46-99912CFA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D82A9E-2B0B-41C9-B41A-2638528B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4A6C18-D4D3-441D-80F8-3C150E3D0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026353-6634-4BCA-85A1-12E524AC1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72B867-860B-4AA3-BEF1-1E10D8A1C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811D3-BE3D-4FAC-B711-8409BE03C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EC0C4-1BC7-47FC-957C-BB98A6F44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9DDD2-6247-4877-AD29-47338B7F5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5AF11-2157-44BA-A2D9-9C3DFCA38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809DE-DFED-4F23-AFA4-2792EDF14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68A2-6219-4746-87CA-83DD1B23F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D2845-AF87-4B6A-AF90-E34D48609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2A83A-F73A-47AD-98CD-6BD36ADCA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4844F-E692-41FF-A6C6-840A4419C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D3CC7-690C-4880-A267-BD394C7C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B71DE-938B-4C42-BBDE-3C8ADA463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D741C-0771-438D-A528-A71E2FAEC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1E06A-1BAD-4F30-9C04-5D26C89C2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F63B10-E144-4D51-8A84-53F55BD4F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EF2C63-AE03-4EDA-AFEF-333C1D0E9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DF202F-FA76-4B74-A49F-6E28D8F9A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CDAB-8F2D-4434-B9F9-C442F3110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71C31F-DBD9-495D-874C-6688B9537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36205F-5BEA-4954-8C47-C98931EF5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92ABE8-86F8-4A89-9E3A-6A712166B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ADF6F8-DB5B-4072-BC7F-6D57003C7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BEDEA1-DC3E-4C77-AD8F-CACA5B455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FAB528-EBCD-4BF8-BDA1-0C75540FC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BC7B2D-F55F-4E3A-87CD-BC6DFD16C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A82551-A51F-4783-A4CA-C1FA83A49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89AC4F-F890-425A-999E-4BFD6E7F8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A57ABA-7F2B-4079-B58F-1FC916471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F228-13E8-44EA-B139-3E90A255E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0B9523-8B5B-479B-8A1F-1A7EAE776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E80996-1ADA-47EC-83EA-EC223883F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1FFC1F-EE4F-47C9-A64F-9B99818E7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BDC722-B369-479E-97AD-AFC93238A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4B8243-F1B2-4151-8F98-7EA9C86C1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71BD1A-1BE4-4765-A891-EE248234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D1A611-2F07-440E-A439-8494BAE7D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2654BB-DC8C-4D23-8DFB-C81F0431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1B55DE-6E21-4F05-92CD-008FC1AC6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3786FC-34EF-4111-8903-852FF0A61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8D3B-24D6-4A48-A61A-F8B227E2F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256A38-E2A5-429F-A280-5C0732C4A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AA52C0-ED2C-46E9-BD68-2C18EC1B9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60964C-7CA4-4F79-9F1F-EA398052A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960674-039C-4E70-B199-E5AFF108A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D1DF3A-5931-4A3A-9864-C38923E47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85FB58-892B-4234-9522-E34ADFDBE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C6398F-EE31-40CB-AABA-22394FF3F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BA1CA6-0D57-4204-A89F-7CA8B838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C5CFA3-A0DA-4216-986B-250682967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1A183C-3BF7-473D-BF38-CFA58585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756F-03CC-44B2-BE3C-DB94DE6FC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8C3C76-57C3-41E5-95ED-8525E7971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E41993-4E7B-4187-9C26-9A6B452ED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B8C256-F16F-4118-8DA6-BAED00021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EAD9-241E-4B4C-A796-DE4B7609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2EB3-AFA7-43FF-813A-F9F1F255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4601F-CF74-4A0A-8B27-C46F82AC5D28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Овал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F8739-AE01-45E1-B1BA-2FBEFD943071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F943C-DCCA-4E4D-B947-6CF6D644FC66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95DE9-C601-4A37-BB0E-1E850B183CC2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35A03-E275-47E6-9D53-936B033D3A16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3AE16-9134-4AC7-8AC1-89ED3B146947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826560" y="3884760"/>
            <a:ext cx="7201080" cy="17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6699"/>
                </a:solidFill>
                <a:latin typeface="Constantia"/>
              </a:rPr>
              <a:t>1812 </a:t>
            </a:r>
            <a:r>
              <a:rPr b="0" lang="en-US" sz="10000" spc="-1" strike="noStrike">
                <a:solidFill>
                  <a:srgbClr val="ff6699"/>
                </a:solidFill>
                <a:latin typeface="Arial"/>
              </a:rPr>
              <a:t>год</a:t>
            </a:r>
            <a:endParaRPr b="0" lang="en-US" sz="10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3" name="WordArt 5"/>
          <p:cNvSpPr txBox="1"/>
          <p:nvPr/>
        </p:nvSpPr>
        <p:spPr>
          <a:xfrm>
            <a:off x="1116000" y="836640"/>
            <a:ext cx="712800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ТЕЧЕСТВЕННАЯ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ОЙНА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54" name="Последний троллейбус - Другу - Генералам 1812 года (М.Цветаева-А.Петров).mp3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2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4" descr=""/>
          <p:cNvPicPr/>
          <p:nvPr/>
        </p:nvPicPr>
        <p:blipFill>
          <a:blip r:embed="rId2"/>
          <a:stretch/>
        </p:blipFill>
        <p:spPr>
          <a:xfrm>
            <a:off x="395280" y="1171440"/>
            <a:ext cx="8280360" cy="511200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76" name="Picture 7" descr="http://magput.ru/pics/large/23122.jpg"/>
          <p:cNvPicPr/>
          <p:nvPr/>
        </p:nvPicPr>
        <p:blipFill>
          <a:blip r:embed="rId2"/>
          <a:stretch/>
        </p:blipFill>
        <p:spPr>
          <a:xfrm>
            <a:off x="324000" y="333360"/>
            <a:ext cx="8424720" cy="64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78" name="Picture 7" descr="http://magput.ru/pics/large/231.JPG"/>
          <p:cNvPicPr/>
          <p:nvPr/>
        </p:nvPicPr>
        <p:blipFill>
          <a:blip r:embed="rId2"/>
          <a:stretch/>
        </p:blipFill>
        <p:spPr>
          <a:xfrm>
            <a:off x="1547640" y="260280"/>
            <a:ext cx="5112000" cy="659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80" name="Picture 6" descr="http://english.ruvr.ru/data/2011/06/22/1250600936/4RIAN_00317019.LR.en.jpg"/>
          <p:cNvPicPr/>
          <p:nvPr/>
        </p:nvPicPr>
        <p:blipFill>
          <a:blip r:embed="rId2"/>
          <a:stretch/>
        </p:blipFill>
        <p:spPr>
          <a:xfrm>
            <a:off x="826920" y="620640"/>
            <a:ext cx="7201080" cy="62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8229600" cy="457200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83" name="Picture 6" descr="http://content.foto.mail.ru/mail/yoska57/_blogs/i-1160.jpg"/>
          <p:cNvPicPr/>
          <p:nvPr/>
        </p:nvPicPr>
        <p:blipFill>
          <a:blip r:embed="rId3"/>
          <a:stretch/>
        </p:blipFill>
        <p:spPr>
          <a:xfrm>
            <a:off x="900000" y="115920"/>
            <a:ext cx="7693200" cy="674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8229600" cy="457200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86" name="Picture 6" descr="http://img1.liveinternet.ru/images/attach/c/0/48/455/48455554_6275af698841.jpg"/>
          <p:cNvPicPr/>
          <p:nvPr/>
        </p:nvPicPr>
        <p:blipFill>
          <a:blip r:embed="rId3"/>
          <a:stretch/>
        </p:blipFill>
        <p:spPr>
          <a:xfrm>
            <a:off x="1763640" y="200160"/>
            <a:ext cx="4819680" cy="665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88" name="Picture 7" descr="http://900igr.net/datai/istorija/Istorija-vojna-1812/0005-016-Borodinskoe-srazhenie.jpg"/>
          <p:cNvPicPr/>
          <p:nvPr/>
        </p:nvPicPr>
        <p:blipFill>
          <a:blip r:embed="rId2"/>
          <a:stretch/>
        </p:blipFill>
        <p:spPr>
          <a:xfrm>
            <a:off x="250920" y="333360"/>
            <a:ext cx="8748720" cy="597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90" name="Picture 7" descr="http://www.simvolika.org/images/borodino2012_04.gif"/>
          <p:cNvPicPr/>
          <p:nvPr/>
        </p:nvPicPr>
        <p:blipFill>
          <a:blip r:embed="rId2"/>
          <a:stretch/>
        </p:blipFill>
        <p:spPr>
          <a:xfrm>
            <a:off x="1187280" y="339840"/>
            <a:ext cx="6519960" cy="651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efac9"/>
              </a:solidFill>
              <a:latin typeface="Constanti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457200" y="1433160"/>
            <a:ext cx="83059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57" name="Picture 8" descr="http://anymy.ru/pic/news/i_n_b_184930.jpg"/>
          <p:cNvPicPr/>
          <p:nvPr/>
        </p:nvPicPr>
        <p:blipFill>
          <a:blip r:embed="rId2"/>
          <a:stretch/>
        </p:blipFill>
        <p:spPr>
          <a:xfrm>
            <a:off x="395280" y="476280"/>
            <a:ext cx="8424720" cy="626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efac9"/>
              </a:solidFill>
              <a:latin typeface="Constant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title"/>
          </p:nvPr>
        </p:nvSpPr>
        <p:spPr>
          <a:xfrm>
            <a:off x="457200" y="1433160"/>
            <a:ext cx="83059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60" name="Picture 5" descr="pt7726"/>
          <p:cNvPicPr/>
          <p:nvPr/>
        </p:nvPicPr>
        <p:blipFill>
          <a:blip r:embed="rId2"/>
          <a:stretch/>
        </p:blipFill>
        <p:spPr>
          <a:xfrm>
            <a:off x="1738440" y="260280"/>
            <a:ext cx="5857920" cy="62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62" name="Picture 7" descr="http://s52.radikal.ru/i137/1006/5c/bc6b49c0a0b7.jpg"/>
          <p:cNvPicPr/>
          <p:nvPr/>
        </p:nvPicPr>
        <p:blipFill>
          <a:blip r:embed="rId2"/>
          <a:stretch/>
        </p:blipFill>
        <p:spPr>
          <a:xfrm>
            <a:off x="250920" y="333360"/>
            <a:ext cx="84978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64" name="Picture 5" descr="pb_005"/>
          <p:cNvPicPr/>
          <p:nvPr/>
        </p:nvPicPr>
        <p:blipFill>
          <a:blip r:embed="rId2"/>
          <a:stretch/>
        </p:blipFill>
        <p:spPr>
          <a:xfrm>
            <a:off x="1608120" y="333360"/>
            <a:ext cx="5562720" cy="619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6" descr="http://www.museum.ru/1812/Library/Paskevich/pic/paskevich.jpg"/>
          <p:cNvPicPr/>
          <p:nvPr/>
        </p:nvPicPr>
        <p:blipFill>
          <a:blip r:embed="rId2"/>
          <a:stretch/>
        </p:blipFill>
        <p:spPr>
          <a:xfrm>
            <a:off x="1116000" y="404640"/>
            <a:ext cx="5543640" cy="61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8229600" cy="457200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68" name="Picture 4" descr="885867442"/>
          <p:cNvPicPr/>
          <p:nvPr/>
        </p:nvPicPr>
        <p:blipFill>
          <a:blip r:embed="rId3"/>
          <a:stretch/>
        </p:blipFill>
        <p:spPr>
          <a:xfrm>
            <a:off x="1876320" y="333360"/>
            <a:ext cx="6375600" cy="62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270" name="Picture 4" descr="G0040i"/>
          <p:cNvPicPr/>
          <p:nvPr/>
        </p:nvPicPr>
        <p:blipFill>
          <a:blip r:embed="rId2"/>
          <a:stretch/>
        </p:blipFill>
        <p:spPr>
          <a:xfrm>
            <a:off x="1979640" y="620640"/>
            <a:ext cx="4630680" cy="515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72" name="Picture 6" descr="http://kz44.narod.ru/5_mk.jpg"/>
          <p:cNvPicPr/>
          <p:nvPr/>
        </p:nvPicPr>
        <p:blipFill>
          <a:blip r:embed="rId2"/>
          <a:stretch/>
        </p:blipFill>
        <p:spPr>
          <a:xfrm>
            <a:off x="468360" y="333360"/>
            <a:ext cx="7991280" cy="6335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0T03:08:30Z</dcterms:created>
  <dc:creator>User</dc:creator>
  <dc:description/>
  <dc:language>en-US</dc:language>
  <cp:lastModifiedBy>User</cp:lastModifiedBy>
  <dcterms:modified xsi:type="dcterms:W3CDTF">2012-01-11T09:52:35Z</dcterms:modified>
  <cp:revision>10</cp:revision>
  <dc:subject/>
  <dc:title>Слайд 1</dc:title>
</cp:coreProperties>
</file>