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6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825-EF64-4F35-A5EA-AB89617C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29A-B9C1-46B9-9DA2-BA889E9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83C-F9B3-4B2B-BE02-A9A88BD0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51E-B4C1-46F1-9F8F-1862AF26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5A15-0B10-4A1D-B1C1-4D192CBD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348-3621-4B4E-A8FB-09B0B89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CB1F-9615-40F8-97A2-0193E5F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9AE-C650-4E88-8E74-0A0F659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28B0-0E8E-44CF-A735-87892DE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192F-3F33-4126-84D6-A51A5B93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B00-DB00-4913-9E43-5AED0BB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B3F-0E3E-47D7-9EA6-FE09D39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18F-9245-4922-AF61-B591ABB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410B-CDCA-440E-A5E5-9608623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734C-033F-4CEF-A475-DD09EC4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3214-AC89-425C-B2D6-F4F58333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3AA2-CC4E-43A1-9AF3-7992D4AC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3EB-5F8B-470C-B96C-63004AEE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5A3-A239-439B-8D17-F549C352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829-0B1B-49A3-A051-B3A678E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9F6-4617-48E0-87E2-AB50EDDA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C55-3846-465A-851D-506AE74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3F1-B82D-42EF-BF38-4F3EE11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A3D-0B2B-4933-BB0A-83A56D3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0881-486F-4072-AAEE-04CF79883F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862-A4CB-453E-9FBA-4AD42FEB82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ookmate.ru/books/91908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ookmate.ru/books/83955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hyperlink" Target="http://images.yandex.ru/yandsearch?p=24&amp;ed=1&amp;stype=simage&amp;text=&#1053;.%20&#1053;&#1086;&#1089;&#1086;&#1074;%20&#1055;&#1088;&#1080;&#1082;&#1083;&#1102;&#1095;&#1077;&#1085;&#1080;&#1103;%20&#1058;&#1086;&#1083;&#1080;%20&#1050;&#1083;&#1102;&#1082;&#1074;&#1080;&#1085;&#1072;%20&amp;spsite=www.char.ru&amp;img_url=www.char.ru%2Fbooks%2F_930627664.jpg" TargetMode="External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рилогия о Незнайк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Приключения Незнайки и его друзей"/>
          <p:cNvPicPr/>
          <p:nvPr/>
        </p:nvPicPr>
        <p:blipFill>
          <a:blip r:embed="rId2"/>
          <a:stretch/>
        </p:blipFill>
        <p:spPr>
          <a:xfrm>
            <a:off x="611280" y="1989000"/>
            <a:ext cx="2309760" cy="360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Незнайка на Луне. Части I - II"/>
          <p:cNvPicPr/>
          <p:nvPr/>
        </p:nvPicPr>
        <p:blipFill>
          <a:blip r:embed="rId3"/>
          <a:stretch/>
        </p:blipFill>
        <p:spPr>
          <a:xfrm>
            <a:off x="6300720" y="1989000"/>
            <a:ext cx="2732040" cy="360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203640" y="1989000"/>
            <a:ext cx="27129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екст читает заслуженный артист Лев Дур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63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832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2185" t="6961" r="2185" b="14137"/>
          <a:stretch/>
        </p:blipFill>
        <p:spPr>
          <a:xfrm>
            <a:off x="2771640" y="1700280"/>
            <a:ext cx="3927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Черты характе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исциплинирован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еленаправлен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ёткость выпол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мение преодолевать труд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рудолюби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Как автор относится к герою своего рассказ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смеивается над ни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уждает его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ли помогает ему что-то поня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это рассказ сатирический или  юмористический?  ( Работа в парах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.Н.Носов говорил, что юмор – это осмеивание с оттенком сочувствия, а сатира –  осмеивание с оттенком негодо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ифференцированная работа по карточка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 Чтение по рол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Найти отрывок для чтения, когда у Феди было хорошее настроение. Придать голосу окраску радости, удоволь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 Найти отрывок для чтения, где настроение очень изменилось, покажите голосом при чтении недовольство, негод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  Пересказ понравившегося отрыв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) Нарисовать портрет Феди Рыбки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)Составить синквей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33336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нквейн - стихотворение, состоящее  из пяти ст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5280" y="1773360"/>
            <a:ext cx="8280360" cy="4563720"/>
            <a:chOff x="395280" y="1773360"/>
            <a:chExt cx="8280360" cy="4563720"/>
          </a:xfrm>
        </p:grpSpPr>
        <p:sp>
          <p:nvSpPr>
            <p:cNvPr id="137" name=""/>
            <p:cNvSpPr/>
            <p:nvPr/>
          </p:nvSpPr>
          <p:spPr>
            <a:xfrm>
              <a:off x="743400" y="2602800"/>
              <a:ext cx="3479040" cy="65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0000" y="2602800"/>
              <a:ext cx="3548160" cy="65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20960" y="3432600"/>
              <a:ext cx="2157840" cy="65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720" y="3432600"/>
              <a:ext cx="2158200" cy="65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400" y="3432600"/>
              <a:ext cx="2157840" cy="65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2000" y="1773360"/>
              <a:ext cx="3825720" cy="71064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Кто? Чт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редм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5280" y="4262400"/>
              <a:ext cx="8209440" cy="9471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уть предмета, усиливающая предыдущие две стро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5388840"/>
              <a:ext cx="8280360" cy="94824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уществительное,  выступающее как ито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2160" y="2721600"/>
              <a:ext cx="7236000" cy="4741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Какой? Какая? Какое? Два прилагательны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раскрывающие характерные признаки предмета</a:t>
              </a:r>
              <a:r>
                <a:rPr b="1" lang="en-US" sz="1600" spc="-1" strike="noStrike">
                  <a:solidFill>
                    <a:srgbClr val="9900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69080" y="3491640"/>
              <a:ext cx="6332040" cy="7077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Что делает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Три глагола, раскрывающие действия предм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читать рассказы Н.Н.Носо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рисовать иллюстрации к рассказ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исать сочинение о Феде Рыбкин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 понравившихся рассказовН.Н.Носо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пробуйте сами написать смешной рассказ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92360" y="2133720"/>
            <a:ext cx="1368360" cy="18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2060640"/>
            <a:ext cx="1368360" cy="187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2133720"/>
            <a:ext cx="1368360" cy="1873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2637000"/>
            <a:ext cx="287280" cy="3585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2565360"/>
            <a:ext cx="288720" cy="432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2565360"/>
            <a:ext cx="288720" cy="432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2708280"/>
            <a:ext cx="73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2565360"/>
            <a:ext cx="360360" cy="358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2565360"/>
            <a:ext cx="360360" cy="358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0360" y="2637000"/>
            <a:ext cx="71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2637000"/>
            <a:ext cx="712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866560" y="3429000"/>
            <a:ext cx="720360" cy="55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4"/>
                </a:moveTo>
                <a:arcTo wR="10800" hR="10800" stAng="10645958" swAng="10954042"/>
                <a:lnTo>
                  <a:pt x="10800" y="10800"/>
                </a:lnTo>
                <a:close/>
              </a:path>
              <a:path fill="none" w="21600" h="21600">
                <a:moveTo>
                  <a:pt x="11" y="11284"/>
                </a:moveTo>
                <a:arcTo wR="10800" hR="10800" stAng="10645958" swAng="109540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/>
          <p:nvPr/>
        </p:nvCxnSpPr>
        <p:spPr>
          <a:xfrm flipH="1" rot="16200000">
            <a:off x="2014920" y="4257360"/>
            <a:ext cx="1513440" cy="1008720"/>
          </a:xfrm>
          <a:prstGeom prst="curvedConnector5">
            <a:avLst>
              <a:gd name="adj1" fmla="val 49940"/>
              <a:gd name="adj2" fmla="val 49982"/>
              <a:gd name="adj3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0" idx="4"/>
          </p:cNvCxnSpPr>
          <p:nvPr/>
        </p:nvCxnSpPr>
        <p:spPr>
          <a:xfrm flipH="1" rot="16200000">
            <a:off x="3510720" y="4670640"/>
            <a:ext cx="1728000" cy="253440"/>
          </a:xfrm>
          <a:prstGeom prst="curvedConnector5">
            <a:avLst>
              <a:gd name="adj1" fmla="val 49989"/>
              <a:gd name="adj2" fmla="val 49928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1" idx="4"/>
          </p:cNvCxnSpPr>
          <p:nvPr/>
        </p:nvCxnSpPr>
        <p:spPr>
          <a:xfrm rot="5400000">
            <a:off x="5166000" y="4275720"/>
            <a:ext cx="1367640" cy="829440"/>
          </a:xfrm>
          <a:prstGeom prst="curvedConnector5">
            <a:avLst>
              <a:gd name="adj1" fmla="val 49921"/>
              <a:gd name="adj2" fmla="val 49978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 flipH="1">
            <a:off x="4355280" y="2708280"/>
            <a:ext cx="71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979640" y="2637000"/>
            <a:ext cx="288720" cy="360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2708280"/>
            <a:ext cx="144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2708280"/>
            <a:ext cx="1429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62560" y="3357000"/>
            <a:ext cx="100908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79" y="1039"/>
                </a:moveTo>
                <a:arcTo wR="10800" hR="10800" stAng="-6920056" swAng="6920056"/>
                <a:lnTo>
                  <a:pt x="10800" y="10800"/>
                </a:lnTo>
                <a:close/>
              </a:path>
              <a:path fill="none" w="21600" h="21600">
                <a:moveTo>
                  <a:pt x="6179" y="1039"/>
                </a:moveTo>
                <a:arcTo wR="10800" hR="10800" stAng="-6920056" swAng="69200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78920" y="3237840"/>
            <a:ext cx="7916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" y="14839"/>
                </a:moveTo>
                <a:arcTo wR="10800" hR="10800" stAng="9482430" swAng="12117570"/>
                <a:lnTo>
                  <a:pt x="10800" y="10800"/>
                </a:lnTo>
                <a:close/>
              </a:path>
              <a:path fill="none" w="21600" h="21600">
                <a:moveTo>
                  <a:pt x="784" y="14839"/>
                </a:moveTo>
                <a:arcTo wR="10800" hR="10800" stAng="9482430" swAng="121175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425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Уходя с урока, выберите подходящий для своего настроения шари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иколай Николаевич Нос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329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моги Гномику вспомнить произведения Н.Нос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Фан…»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Жив… …»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Огу…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Миш… …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Ви… … в … и …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Ого…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Нез… на …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Фантазёры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Живая шляпа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Огурцы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Мишкина каша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Витя Малеев в школе и дома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Огородники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«Незнайка на Луне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4508640"/>
            <a:ext cx="1516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1000221544" descr="облож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404640"/>
            <a:ext cx="203832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80" y="153288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80" y="341712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lub_77922" descr="облож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404640"/>
            <a:ext cx="2001960" cy="2737080"/>
          </a:xfrm>
          <a:prstGeom prst="rect">
            <a:avLst/>
          </a:prstGeom>
          <a:ln w="0">
            <a:noFill/>
          </a:ln>
        </p:spPr>
      </p:pic>
      <p:pic>
        <p:nvPicPr>
          <p:cNvPr id="100" name="910214061" descr="Метро"/>
          <p:cNvPicPr/>
          <p:nvPr/>
        </p:nvPicPr>
        <p:blipFill>
          <a:blip r:embed="rId6"/>
          <a:stretch/>
        </p:blipFill>
        <p:spPr>
          <a:xfrm>
            <a:off x="7101000" y="3213000"/>
            <a:ext cx="204300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80" y="26568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1835280" y="2852640"/>
            <a:ext cx="190476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5364000" y="2852640"/>
            <a:ext cx="2019600" cy="268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42920" y="404640"/>
            <a:ext cx="2225520" cy="259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24000" y="3284640"/>
            <a:ext cx="1741320" cy="2759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Рис. Г.Юдина к рассказу Н.Носова «Огородники»"/>
          <p:cNvPicPr/>
          <p:nvPr/>
        </p:nvPicPr>
        <p:blipFill>
          <a:blip r:embed="rId11"/>
          <a:stretch/>
        </p:blipFill>
        <p:spPr>
          <a:xfrm>
            <a:off x="7020000" y="404640"/>
            <a:ext cx="18399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7093080" y="148428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Огурц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641760" y="3357720"/>
            <a:ext cx="17794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иколай Николаевич Но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«Ачадаз анидеф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02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Познакомить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 произведением Н.Н.Носова «Федина задача»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Научить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авильно, выразительно читать произведение  Н.Н.Носова «Федина задач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Анализи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изведение Н.Н.Носова «Федина задач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052640"/>
            <a:ext cx="3887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«Федина задач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3658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23 ноября 2011 год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исполнилось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103 год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со дня рождения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Николая Николаевича Носова (1908 - 1976)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русского поэта, писателя, переводчика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32479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иколай Николаевич с сыном Петр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2998800" cy="4392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. Н. Носов читает свои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оизведения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ученика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82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ловар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кочущим басом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низким мужским голос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итулярный советник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гражданский чин 9 класса (служащий в государственном учреждени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фтан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длинная верхняя одежда с длинными</a:t>
            </a: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рукава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орзая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ff"/>
                </a:solidFill>
                <a:latin typeface="Verdana"/>
              </a:rPr>
              <a:t>быстра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8:12:00Z</dcterms:created>
  <dc:creator>друг</dc:creator>
  <dc:description/>
  <dc:language>en-US</dc:language>
  <cp:lastModifiedBy>Ольга</cp:lastModifiedBy>
  <dcterms:modified xsi:type="dcterms:W3CDTF">2012-01-11T08:04:54Z</dcterms:modified>
  <cp:revision>39</cp:revision>
  <dc:subject/>
  <dc:title>Николай Николаевич Носов</dc:title>
</cp:coreProperties>
</file>