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78D-C002-4C49-9B83-79927B3C3B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D1B-D726-452C-A851-07A3AFCE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639-9E89-4280-89D2-B5F3EFF0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3CE-D805-4B7C-BE3D-65D4C45E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50A-1202-4052-989B-DEACBA49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B954-7DF0-4534-AF7F-3F7BB908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CF19-1305-4ED2-89D6-7EAB5CD5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9504-18C5-455D-95D3-F8043561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2F8A-073D-4832-9C00-84BF9709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DD5F-AD91-4CA9-914D-D0E30209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B3B5-15E3-4D44-BE73-8A68E26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D206-00A7-4BEA-8287-F3886C8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E1E-055F-4033-8181-DCC5B07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2D37-F8CD-4381-A646-7D34FF3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DFA9-B473-46E8-8F85-2187AF14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035D-B2C0-4DE0-92E6-049E58C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31DF-32FF-4D51-8536-ED4AABB3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47AE-6ACA-4D2B-867B-021B7893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8D9-14F0-4F3E-A8E8-A0EF581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9BD-1B93-4C93-8AA2-221EED98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C8B-C655-41C4-B18A-2C4988BD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F56-E671-49EC-B106-4BE719C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324-5787-41D7-BC28-A81CA78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B34-8D29-4B8F-993A-968F9170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147-5EBE-417A-96FA-E756FDCE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3653-6553-4087-A96E-1EA0D1708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1D6-ED4E-4A65-9B55-AEAA7B72D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orodino.ru/picture/picture269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4464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79640" y="260280"/>
            <a:ext cx="3743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е – русское п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е русской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90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b7"/>
                </a:solidFill>
                <a:uFillTx/>
                <a:latin typeface="Arial Black"/>
              </a:rPr>
              <a:t>8 сентября - День воинской славы России - День Бородинского сражения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215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ая армия на Бородинском поле одержала крупнейшую победу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олеон, стремившийся разбить русских в генеральном сражении и тем решить судьбу войны в свою пользу, не добился этой цели. Русская армия под командованием Кутузова исключительно упорно сражалась за занимаемую позицию при Бородине и нанесла тяжелый удар французским войскам. Потери противника достигли 58 тысяч солдат, 1600 офицеров и 47 генералов. Наполеон впоследствии называл Бородинское сражение самым кровопролитным и ужасным из всех пятидесяти данных им сраж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Бородинское сражение - яркий пример высокого полководческого искусства М.И.Кутузов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ая армия потеряла в сражении 38 тысяч солдат, 1500 офицеров и 29 генералов. Они проявили огромную стойкость и массовый героизм, покрыв себя неувядаемой сла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ачный выбор позиции, умелое размещение войск, а также наличие сильных резервов обеспечивали прочность обороны русской армии и давали возможность М.И.Кутузову искусно маневрировать войс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ценка соврем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овая Россия начинается с 1812 года».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. И. Герц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...Каждый горел усердием. Каждый превосходил себя». </a:t>
            </a:r>
            <a:br>
              <a:rPr sz="32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. П. Ермолов, генерал, участник войны 1812 г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«Самое страшное из всех моих сражений — это то, которое я дал под Москвой». 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Наполеон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ичто не устоит против русского оружия — мы сильны и уверены в себе».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. В. Сувор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это бы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Наполеон на Бородинских высотах. В.В. Верещагин. 1880-е г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54280"/>
            <a:ext cx="7632720" cy="47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 залпы тысячи оруд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7610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Классный час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туальные экскурсии в музей Бородинской бит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и- сочинения «Взгляд из будущего на войну 181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, посвященные 200- летию Отечественной войны 181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ение стихов –война 1812 года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нижная выставка «Недаром помнит вся Росс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иганты вой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4" descr="G0040i"/>
          <p:cNvPicPr/>
          <p:nvPr/>
        </p:nvPicPr>
        <p:blipFill>
          <a:blip r:embed="rId1"/>
          <a:stretch/>
        </p:blipFill>
        <p:spPr>
          <a:xfrm>
            <a:off x="863640" y="1916280"/>
            <a:ext cx="355896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42920" y="58053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8920" y="59482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тузов М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427640" cy="4033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2000" y="5950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 забыть тебя сердцу вов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вычный мирный пейза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лтая н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Холмы, перелески, белые церквуш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 ведь когда-то русские поля были охвачены дымом и огне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зрытая, исковерженная земля – арена крупнейших военных сраж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99"/>
                </a:solidFill>
                <a:latin typeface="Arial Black"/>
              </a:rPr>
              <a:t>В 2012 году будет отмечаться славная дата – 200-летие Победы России в Отечественной войне 1812 года.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стоящее время обращение к страницам славного прошлого нашей страны особенно актуально. Общество и государство ведут поиск путей преодоления кризиса нравственных ценностей и укрепления национального самосознания. В связи с этим огромное значение для воспитания патриотизма и гражданственности имеют знаменательные даты Отечественной истории, и одна из важнейших в их ряду – Отечественная война 1812 года, ведь именно в этот период произошёл подлинный подъём национального самосо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851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М.Ю. Лермон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14842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6699"/>
                </a:solidFill>
                <a:latin typeface="Arial"/>
              </a:rPr>
              <a:t>«Ну, ж был денек! Сквозь дым летучий </a:t>
            </a:r>
            <a:br>
              <a:rPr sz="2700"/>
            </a:br>
            <a:r>
              <a:rPr b="0" lang="en-US" sz="2700" spc="-1" strike="noStrike">
                <a:solidFill>
                  <a:srgbClr val="ff6699"/>
                </a:solidFill>
                <a:latin typeface="Arial"/>
              </a:rPr>
              <a:t>Французы двинулись, как тучи...» </a:t>
            </a:r>
            <a:br>
              <a:rPr sz="2700"/>
            </a:br>
            <a:r>
              <a:rPr b="0" lang="en-US" sz="27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2920" y="1773000"/>
            <a:ext cx="40388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Ребята! Не Москва ль за нами?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ремте ж под Москвой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наши братья умирали!»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«И ядрам пролетать мешала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Гора кровавых тел»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«И умереть мы обещали,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    И клятву верности сдержали» </a:t>
            </a:r>
            <a:br>
              <a:rPr sz="24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99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«Уж постоим мы головою     за Родину свою»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284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Изведал враг в тот день немало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Что значит русский бой удалый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37:41Z</dcterms:created>
  <dc:creator>User</dc:creator>
  <dc:description/>
  <dc:language>en-US</dc:language>
  <cp:lastModifiedBy>User</cp:lastModifiedBy>
  <dcterms:modified xsi:type="dcterms:W3CDTF">2012-01-11T09:48:35Z</dcterms:modified>
  <cp:revision>11</cp:revision>
  <dc:subject/>
  <dc:title>Слайд 1</dc:title>
</cp:coreProperties>
</file>