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AEF8-BFC7-41C8-8108-B04C81F65C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E78-E868-4433-9D78-8F4C8239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C93-6FD2-4445-8EF6-E50618D9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58D-F301-4E0E-B054-70BD2438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745-15E4-4449-A0FE-35924A91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A789-425D-447C-AD0B-05083DF5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53C1-0875-4F73-B7B3-AB3F9469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D97D-3B5F-44F8-840B-FF90AC52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F1F9-6D33-4975-B203-CD11754B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4498-9E33-4063-81DC-AC9B0DF0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8BD9-C119-498C-80EA-46B99A2D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BCEF-FBCF-4975-B992-99484F38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58B-9DA2-445B-B8CF-BEE86ADC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30C6-C6AC-4942-B87F-1CE9EC81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D006-9059-4380-8833-4B39641F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E9B2-CFE9-4BD0-831D-E4842648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9D0E-D6E3-4A94-8B14-48458387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ED6C-DD69-4BD2-883D-B9C7E32F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1AB-88B0-4874-A50C-E4608CA3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5D3-6A45-4E44-B249-B77C15C9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737-D7E8-4177-B3EF-0E496A57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120-9E1A-4820-827C-2609465C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EC4-011D-4DD5-B6C1-81535A25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97F-D608-4EBF-9685-8544532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AAA-7DB9-40D1-8ED5-F6221E6B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8279-74A8-46EB-B547-AF9E148DA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7C97-B60E-4B61-84B9-584CBE7BF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orodino.ru/picture/picture269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4464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979640" y="260280"/>
            <a:ext cx="3743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е – русское по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е русской сла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905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85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b7"/>
                </a:solidFill>
                <a:uFillTx/>
                <a:latin typeface="Arial Black"/>
              </a:rPr>
              <a:t>8 сентября - День воинской славы России - День Бородинского сражения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215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сская армия на Бородинском поле одержала крупнейшую победу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олеон, стремившийся разбить русских в генеральном сражении и тем решить судьбу войны в свою пользу, не добился этой цели. Русская армия под командованием Кутузова исключительно упорно сражалась за занимаемую позицию при Бородине и нанесла тяжелый удар французским войскам. Потери противника достигли 58 тысяч солдат, 1600 офицеров и 47 генералов. Наполеон впоследствии называл Бородинское сражение самым кровопролитным и ужасным из всех пятидесяти данных им сраже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Бородинское сражение - яркий пример высокого полководческого искусства М.И.Кутузова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сская армия потеряла в сражении 38 тысяч солдат, 1500 офицеров и 29 генералов. Они проявили огромную стойкость и массовый героизм, покрыв себя неувядаемой слав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дачный выбор позиции, умелое размещение войск, а также наличие сильных резервов обеспечивали прочность обороны русской армии и давали возможность М.И.Кутузову искусно маневрировать войск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ценка современни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74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Новая Россия начинается с 1812 года».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А. И. Герце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...Каждый горел усердием. Каждый превосходил себя». </a:t>
            </a:r>
            <a:br>
              <a:rPr sz="32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. П. Ермолов, генерал, участник войны 1812 г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«Самое страшное из всех моих сражений — это то, которое я дал под Москвой». </a:t>
            </a:r>
            <a:br>
              <a:rPr sz="2800"/>
            </a:b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Наполеон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Ничто не устоит против русского оружия — мы сильны и уверены в себе».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А. В. Суворо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ак это бы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Наполеон на Бородинских высотах. В.В. Верещагин. 1880-е г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54280"/>
            <a:ext cx="7632720" cy="47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 залпы тысячи оруд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76108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Классный час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ртуальные экскурсии в музей Бородинской бит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и- сочинения «Взгляд из будущего на войну 1812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унки, посвященные 200- летию Отечественной войны 1812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ение стихов –война 1812 года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нижная выставка «Недаром помнит вся Росс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»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иганты вой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4" descr="G0040i"/>
          <p:cNvPicPr/>
          <p:nvPr/>
        </p:nvPicPr>
        <p:blipFill>
          <a:blip r:embed="rId1"/>
          <a:stretch/>
        </p:blipFill>
        <p:spPr>
          <a:xfrm>
            <a:off x="863640" y="1916280"/>
            <a:ext cx="355896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42920" y="580536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8920" y="59482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утузов М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4427640" cy="4033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12000" y="59500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 забыть тебя сердцу вов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ивычный мирный пейзаж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елтая ни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Холмы, перелески, белые церквушк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29600" cy="53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А ведь когда-то русские поля были охвачены дымом и огне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Изрытая, исковерженная земля – арена крупнейших военных сражен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99"/>
                </a:solidFill>
                <a:latin typeface="Arial Black"/>
              </a:rPr>
              <a:t>В 2012 году будет отмечаться славная дата – 200-летие Победы России в Отечественной войне 1812 года.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стоящее время обращение к страницам славного прошлого нашей страны особенно актуально. Общество и государство ведут поиск путей преодоления кризиса нравственных ценностей и укрепления национального самосознания. В связи с этим огромное значение для воспитания патриотизма и гражданственности имеют знаменательные даты Отечественной истории, и одна из важнейших в их ряду – Отечественная война 1812 года, ведь именно в этот период произошёл подлинный подъём национального самосозн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851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Black"/>
              </a:rPr>
              <a:t>М.Ю. Лермонт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4000" y="14842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6699"/>
                </a:solidFill>
                <a:latin typeface="Arial"/>
              </a:rPr>
              <a:t>«Ну, ж был денек! Сквозь дым летучий </a:t>
            </a:r>
            <a:br>
              <a:rPr sz="2700"/>
            </a:br>
            <a:r>
              <a:rPr b="0" lang="en-US" sz="2700" spc="-1" strike="noStrike">
                <a:solidFill>
                  <a:srgbClr val="ff6699"/>
                </a:solidFill>
                <a:latin typeface="Arial"/>
              </a:rPr>
              <a:t>Французы двинулись, как тучи...» </a:t>
            </a:r>
            <a:br>
              <a:rPr sz="2700"/>
            </a:br>
            <a:r>
              <a:rPr b="0" lang="en-US" sz="27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2920" y="1773000"/>
            <a:ext cx="40388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Ребята! Не Москва ль за нами?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мремте ж под Москвой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наши братья умирали!»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«И ядрам пролетать мешала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Гора кровавых тел».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«И умереть мы обещали, 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     И клятву верности сдержали» </a:t>
            </a:r>
            <a:br>
              <a:rPr sz="24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99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«Уж постоим мы головою     за Родину свою»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3284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Изведал враг в тот день немало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Что значит русский бой удалый»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1:37:41Z</dcterms:created>
  <dc:creator>User</dc:creator>
  <dc:description/>
  <dc:language>en-US</dc:language>
  <cp:lastModifiedBy>User</cp:lastModifiedBy>
  <dcterms:modified xsi:type="dcterms:W3CDTF">2012-01-11T09:48:35Z</dcterms:modified>
  <cp:revision>11</cp:revision>
  <dc:subject/>
  <dc:title>Слайд 1</dc:title>
</cp:coreProperties>
</file>