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16E9-7610-47A9-A8BD-1308D621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135-254D-4E38-8270-E0A39EE5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F96-3A77-4470-BE63-26977208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181-D79F-454F-B9E4-971FD199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9E102-1DC5-406E-98AB-D38344F9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16379-8E76-4901-A44A-5147E6DA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5012A-34A2-42B8-AB1F-5AC24781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B6E02-4FDD-4A33-905F-36D4F83E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B7290-3473-46F1-A7CD-4834835D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FF58C-E8E2-48AC-A71D-74EC6EA6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678AD-45A8-4609-BE9B-F23E077B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9B2-FC71-4EB5-BC78-1D0BA915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AB3AB-B73B-4D29-97D8-16FA8C11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0DF81-8F88-496D-B461-D98EB807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943B9-EE6A-4309-A80F-B44AE0AB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FAB2E-3F56-4F31-84AB-99FC107A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6AC26-B72D-4E71-8BC1-0E3EA108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702-3413-4331-BB6E-C5B06CD0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32B-240C-4E32-8995-AD04BDB2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EE1-689B-449A-8A70-89D586D0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F1E-DDB6-4458-93E4-639A60F2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565-A179-4C84-A3F0-714D15AD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58D-2F14-463D-A175-AEDF9724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374-2AD0-4830-9E19-4342AB9B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C369-CE72-45A4-B525-F9ADF9C6DF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51CB-6A4E-4549-A7E1-D13691AF8B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3edff"/>
                </a:solidFill>
                <a:latin typeface="Arial"/>
              </a:rPr>
              <a:t>«Методика организации слушания фонем на уроках обучения грамоте в 1 классе»</a:t>
            </a:r>
            <a:endParaRPr b="0" lang="en-US" sz="48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опыта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edff"/>
                </a:solidFill>
                <a:latin typeface="Arial"/>
              </a:rPr>
              <a:t>Диагностика.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30319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год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ец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Звуки ре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Деление на сло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8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Удар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Фонетический разб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Результаты дикта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809296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edff"/>
                </a:solidFill>
                <a:latin typeface="Arial"/>
              </a:rPr>
              <a:t>Система тренировочных упражнений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grpSp>
        <p:nvGrpSpPr>
          <p:cNvPr id="143" name="Organization Chart 5"/>
          <p:cNvGrpSpPr/>
          <p:nvPr/>
        </p:nvGrpSpPr>
        <p:grpSpPr>
          <a:xfrm>
            <a:off x="431640" y="1571760"/>
            <a:ext cx="8208360" cy="4462560"/>
            <a:chOff x="431640" y="1571760"/>
            <a:chExt cx="8208360" cy="4462560"/>
          </a:xfrm>
        </p:grpSpPr>
        <p:cxnSp>
          <p:nvCxnSpPr>
            <p:cNvPr id="144" name="_s1028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5525640" y="23655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1029"/>
            <p:cNvCxnSpPr>
              <a:stCxn id="148" idx="0"/>
              <a:endCxn id="146" idx="2"/>
            </p:cNvCxnSpPr>
            <p:nvPr/>
          </p:nvCxnSpPr>
          <p:spPr>
            <a:xfrm flipV="1">
              <a:off x="4536000" y="3355920"/>
              <a:ext cx="360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030"/>
            <p:cNvCxnSpPr>
              <a:stCxn id="150" idx="0"/>
              <a:endCxn id="146" idx="2"/>
            </p:cNvCxnSpPr>
            <p:nvPr/>
          </p:nvCxnSpPr>
          <p:spPr>
            <a:xfrm flipH="1" flipV="1" rot="5400000">
              <a:off x="2652840" y="236592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6" name="_s1031"/>
            <p:cNvSpPr/>
            <p:nvPr/>
          </p:nvSpPr>
          <p:spPr>
            <a:xfrm>
              <a:off x="3304440" y="157176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ропедевти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короговорки чистоговор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Артикуляционные упражне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Речевые пятиминут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Физминутки со стиха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 движения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1032"/>
            <p:cNvSpPr/>
            <p:nvPr/>
          </p:nvSpPr>
          <p:spPr>
            <a:xfrm>
              <a:off x="431640" y="42494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Основной перио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Упражнения учебн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роговарива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Дидактический материа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ес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1033"/>
            <p:cNvSpPr/>
            <p:nvPr/>
          </p:nvSpPr>
          <p:spPr>
            <a:xfrm>
              <a:off x="3304440" y="42494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Коррек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ставить букву, слог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Слов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тветы на вопрос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Зрительно-слуховой диктан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исьмо по памят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1034"/>
            <p:cNvSpPr/>
            <p:nvPr/>
          </p:nvSpPr>
          <p:spPr>
            <a:xfrm>
              <a:off x="6177600" y="42494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Развит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Кроссворд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награм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Спрятанные слов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ed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работанная система упражнений помогла повысить фонематическую  грамотнос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ики усваивают основные виды орфограм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должить работу в этом направлении для дальнейшего совершенствования грамо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edff"/>
                </a:solidFill>
                <a:latin typeface="Arial"/>
              </a:rPr>
              <a:t>Кусмарова Светлана Николаевна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У «Галиле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УО   г.Москвы ,  2011г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edff"/>
                </a:solidFill>
                <a:latin typeface="Arial"/>
              </a:rPr>
              <a:t>Возможные причины несформированности фонетико-фонематического слуха</a:t>
            </a:r>
            <a:br>
              <a:rPr sz="4000"/>
            </a:b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63280" y="2923920"/>
            <a:ext cx="828036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нарушение звукового  воспри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неумение находить место звука в звучащей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edff"/>
                </a:solidFill>
                <a:latin typeface="Arial"/>
              </a:rPr>
              <a:t>Проблема</a:t>
            </a:r>
            <a:br>
              <a:rPr sz="4000"/>
            </a:b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ропуск букв (гласных, согласных), слог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 различают твердое и мягкое звучание соглас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мешивание звонких и глухих соглас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дописывание с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ed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формировать  навык  обозначения графически звука через слушание фон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edff"/>
                </a:solidFill>
                <a:latin typeface="Arial"/>
              </a:rPr>
              <a:t>Задачи: 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анализировать звучащую реч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развить фонематическое восприятие с помощью игр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пределить особенности звуков в сильной и слабой позиции(у гласных постановкой ударения, у согласных – тактильно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научить детей обозначать фонемы графичес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edff"/>
                </a:solidFill>
                <a:latin typeface="Arial"/>
              </a:rPr>
              <a:t>Пути решения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разнообразить иг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именять тренажеры и презент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работать со схем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edff"/>
                </a:solidFill>
                <a:latin typeface="Arial"/>
              </a:rPr>
              <a:t>Планируемый результат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ать зву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овать звуки(гласные- ударные, безударные; согласные- твердые, мягкие; звонкие- глухие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ь фонетический разбор слова и оценивать его правиль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исывать слово в транскрип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edff"/>
                </a:solidFill>
                <a:latin typeface="Arial"/>
              </a:rPr>
              <a:t>Реализация</a:t>
            </a:r>
            <a:br>
              <a:rPr sz="4000"/>
            </a:b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пользовала 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добрала дидактический материал, составила систему упраж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авала ежедневные и дополнительные упражнения на развитие фонематического сл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7:12:21Z</dcterms:created>
  <dc:creator>Natasha</dc:creator>
  <dc:description/>
  <dc:language>en-US</dc:language>
  <cp:lastModifiedBy>kusmarova</cp:lastModifiedBy>
  <dcterms:modified xsi:type="dcterms:W3CDTF">2011-05-09T11:57:46Z</dcterms:modified>
  <cp:revision>17</cp:revision>
  <dc:subject/>
  <dc:title>Формирование и совершенствование фонетико-фонематического слуха учащихся 2 класса при изучении темы «Звонкие и глухие согласные в конце и в середине слова»</dc:title>
</cp:coreProperties>
</file>