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13.gif" ContentType="image/gif"/>
  <Override PartName="/ppt/media/image16.jpeg" ContentType="image/jpeg"/>
  <Override PartName="/ppt/media/image20.jpeg" ContentType="image/jpeg"/>
  <Override PartName="/ppt/media/image18.jpeg" ContentType="image/jpeg"/>
  <Override PartName="/ppt/media/image1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C30-2B7C-46DC-B9E6-FC1C7430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3B4-5FEA-48BD-98F8-6CBF097F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330-CFA6-4E07-BCA8-35801B68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001-FD66-4282-95D9-3D14FA40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D82D-970B-4F06-A030-71B11C2A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672F-E7F3-41FD-BC03-17159A85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26F0-DA42-4CD0-A925-7BCF91C1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EE0C-7B37-4979-9FAB-763947C4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502E-B4B4-4927-B280-E6AF2107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5C3B-D000-41A1-8A9D-E478EAEC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C90A-0A72-49E2-A42E-04F1BA32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8D4-F915-4446-B513-D4E80B07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B3F0-0869-4AB7-B22F-F43D00BA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C48E-6369-4AED-AFC8-8E71B8E2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ACFD-44EA-4A32-B01E-1479DB72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258D-4392-4FCC-A29D-A4145CCF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FD10-15FA-49C4-84E7-DDF967FF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54A-A0D3-4251-A9BA-245DB0D4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45C-070B-480E-973E-291E4E69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DB3-B571-4773-8C87-2B0C46EC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BA2-702C-4DA4-BD00-626845FC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A2B-ACC8-47CF-BA78-1382A884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A90-B81E-47CF-8D4F-CD33C9C7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98E-140D-4129-B8C3-73BF4027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C0C1-07F1-4C2E-99C6-B7B443A34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DA33-CD82-4FA1-B55F-390253C89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ff"/>
                </a:solidFill>
                <a:latin typeface="Comic Sans MS"/>
              </a:rPr>
              <a:t>Муниципальное общеобразовательное учреждение</a:t>
            </a:r>
            <a:br>
              <a:rPr sz="3600"/>
            </a:br>
            <a:r>
              <a:rPr b="0" i="1" lang="en-US" sz="3600" spc="-1" strike="noStrike">
                <a:solidFill>
                  <a:srgbClr val="ff99ff"/>
                </a:solidFill>
                <a:latin typeface="Comic Sans MS"/>
              </a:rPr>
              <a:t>«Таксимовская средняя общеобразовательная школа №3»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920" y="2852640"/>
            <a:ext cx="7561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Автор: Разумов Андр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Ученик 3 «Б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Научный руковод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Кропотова Маргарита Иванов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248292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ff"/>
                </a:solidFill>
                <a:latin typeface="Comic Sans MS"/>
              </a:rPr>
              <a:t>Анкетирование показало, что ребята знают подвижные игр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1. Какие подвижные игры ты знаеш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3 «А»                                      3 «Б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Лапта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                                   </a:t>
            </a:r>
            <a:r>
              <a:rPr b="0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                        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Разные (Салки, Прятки, «Крас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«Вышибала», «Жмурки»)                     7                                        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Спортивные                                          7                                       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Не знаю                                                3                                       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Comic Sans MS"/>
              </a:rPr>
              <a:t>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2. В какие подвижные игры ты играеш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                                                         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3 «А»                                    3 «Б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В лапту                                               -                                              4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В разные  (спортивные)                   17                                           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Не играю                                           3                                         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08720" y="5229360"/>
            <a:ext cx="129528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Comic Sans MS"/>
              </a:rPr>
              <a:t>На вопрос «Какие игры ты предпочитаешь: компьютерные, настольные, подвижные»? Ребята ответили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5071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9" descr="people1"/>
          <p:cNvPicPr/>
          <p:nvPr/>
        </p:nvPicPr>
        <p:blipFill>
          <a:blip r:embed="rId2"/>
          <a:stretch/>
        </p:blipFill>
        <p:spPr>
          <a:xfrm>
            <a:off x="468360" y="407664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11 (54)"/>
          <p:cNvPicPr/>
          <p:nvPr/>
        </p:nvPicPr>
        <p:blipFill>
          <a:blip r:embed="rId3"/>
          <a:stretch/>
        </p:blipFill>
        <p:spPr>
          <a:xfrm>
            <a:off x="6948360" y="4365720"/>
            <a:ext cx="1656000" cy="18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b37"/>
          <p:cNvPicPr/>
          <p:nvPr/>
        </p:nvPicPr>
        <p:blipFill>
          <a:blip r:embed="rId4"/>
          <a:stretch/>
        </p:blipFill>
        <p:spPr>
          <a:xfrm>
            <a:off x="3708360" y="4508640"/>
            <a:ext cx="19432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ff"/>
                </a:solidFill>
                <a:latin typeface="Comic Sans MS"/>
              </a:rPr>
              <a:t>3 «А»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5640" y="1197000"/>
          <a:ext cx="7704000" cy="396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197000"/>
                    <a:ext cx="77040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Comic Sans MS"/>
              </a:rPr>
              <a:t>1. Насто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66"/>
                </a:solidFill>
                <a:latin typeface="Comic Sans MS"/>
              </a:rPr>
              <a:t>2. Компьютер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</a:rPr>
              <a:t>3. Подвижные и спортив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ff"/>
                </a:solidFill>
                <a:latin typeface="Comic Sans MS"/>
              </a:rPr>
              <a:t>3 «Б»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907920"/>
          <a:ext cx="7272360" cy="4033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907920"/>
                    <a:ext cx="727236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1. Насто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Comic Sans MS"/>
              </a:rPr>
              <a:t>2. Компьютер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Comic Sans MS"/>
              </a:rPr>
              <a:t>3. Подвижные и спортив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ff"/>
                </a:solidFill>
                <a:latin typeface="Tahoma"/>
              </a:rPr>
              <a:t>Результаты анкетирования показывают, что ребята предпочитают играть в современные компьютерные игры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3040" y="2784600"/>
            <a:ext cx="3021120" cy="1876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3075120" cy="180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995640" y="2708280"/>
            <a:ext cx="46800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ahoma"/>
              </a:rPr>
              <a:t>На Руси считалось, что детство – это время, отведенное для игр 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532908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3714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В Древней Руси маленькие дети играли в деревянные игруш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392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Tahoma"/>
              </a:rPr>
              <a:t>Зимой дети катались на коньках и санках, играли в снежки, брали штурмом снежные крепости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185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ahoma"/>
              </a:rPr>
              <a:t>Подвижные игры укрепляют здоровь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465800" cy="4248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87640" y="1699920"/>
            <a:ext cx="410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движные игры  развивают двигательные качества, совершенствуют ритмичность и точность движений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ЭКРАННОЕ ВРЕМ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392360" cy="4824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жейсон в компьютерных   играх  всемогущ и практически неуязвим, но е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талось жить всего несколько лет, да и те он проведёт в инвалидном кресле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ff"/>
                </a:solidFill>
                <a:latin typeface="Comic Sans MS"/>
              </a:rPr>
              <a:t>Негативные влияния, которые оказывает компьютер на организм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Искривление позвоночника из-за неправильной позы во время си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худшение зр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Общее ослабление организма из-за влияния невидимых электрических и магнитных полей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6880" y="2206800"/>
            <a:ext cx="3454560" cy="189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03640" y="4281480"/>
            <a:ext cx="352908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ff99ff"/>
                </a:solidFill>
                <a:latin typeface="Tahoma"/>
              </a:rPr>
              <a:t>Компьютерные или подвижные игры для детей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ff"/>
                </a:solidFill>
                <a:latin typeface="Comic Sans MS"/>
              </a:rPr>
              <a:t>Подвижные игры укрепляют здоровь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572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643640" cy="388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1841400"/>
            <a:ext cx="3961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движные игры имеют оздоровительное воспитательное и образовательное значе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Comic Sans MS"/>
              </a:rPr>
              <a:t>Цель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ru-RU" sz="4000" spc="-1" strike="noStrike">
                <a:solidFill>
                  <a:srgbClr val="e5ffff"/>
                </a:solidFill>
                <a:latin typeface="Comic Sans MS"/>
              </a:rPr>
              <a:t>выяснить, в какие игры предпочитают играть ребята:</a:t>
            </a:r>
            <a:r>
              <a:rPr b="0" i="1" lang="en-US" sz="4000" spc="-1" strike="noStrike">
                <a:solidFill>
                  <a:srgbClr val="e5ffff"/>
                </a:solidFill>
                <a:latin typeface="Comic Sans MS"/>
              </a:rPr>
              <a:t> </a:t>
            </a:r>
            <a:r>
              <a:rPr b="0" i="1" lang="ru-RU" sz="4000" spc="-1" strike="noStrike">
                <a:solidFill>
                  <a:srgbClr val="e5ffff"/>
                </a:solidFill>
                <a:latin typeface="Comic Sans MS"/>
              </a:rPr>
              <a:t>в подвижные или компьютерные?</a:t>
            </a:r>
            <a:r>
              <a:rPr b="0" i="1" lang="ru-RU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168720" cy="2406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2881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Comic Sans MS"/>
              </a:rPr>
              <a:t>Задачи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40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1. Провести исследование среди учащихся начальных классов по предпочтению ими видов иг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2. Изучить историю  русских подвижных иг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3. Выяснить влияние подвижных и компьютерных игр на здоровье де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4. Заинтересовать учащихся начальных классов подвижными игра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Comic Sans MS"/>
              </a:rPr>
              <a:t>Объект исследования: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русские подвижные игры и современные игры де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ff"/>
                </a:solidFill>
                <a:latin typeface="Comic Sans MS"/>
              </a:rPr>
              <a:t>Предмет исследования:</a:t>
            </a:r>
            <a:r>
              <a:rPr b="0" i="1" lang="ru-RU" sz="44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влияние  подвижных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 и компьютерных игр  на здоровье де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ff"/>
                </a:solidFill>
                <a:latin typeface="Comic Sans MS"/>
              </a:rPr>
              <a:t>Методы исследования:</a:t>
            </a:r>
            <a:r>
              <a:rPr b="0" i="1" lang="ru-RU" sz="44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наблюдение, анкетирование, изучение литературы, интервьюирование, опрос, игров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ff"/>
                </a:solidFill>
                <a:latin typeface="Tahoma"/>
              </a:rPr>
              <a:t>Гипотеза: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предполагаю, что ребята отдают предпочтение компьютерным играм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03640" y="429264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2:44:07Z</dcterms:created>
  <dc:creator>Сергей</dc:creator>
  <dc:description/>
  <dc:language>en-US</dc:language>
  <cp:lastModifiedBy>SamLab.ws</cp:lastModifiedBy>
  <dcterms:modified xsi:type="dcterms:W3CDTF">2003-04-15T22:04:57Z</dcterms:modified>
  <cp:revision>41</cp:revision>
  <dc:subject/>
  <dc:title>Научно – исследовательская работа на тему:  Русские подвижные игры и современные игры детей</dc:title>
</cp:coreProperties>
</file>