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10.jpeg" ContentType="image/jpeg"/>
  <Override PartName="/ppt/media/image7.gif" ContentType="image/gif"/>
  <Override PartName="/ppt/media/image8.jpeg" ContentType="image/jpeg"/>
  <Override PartName="/ppt/media/image13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94E1-47BA-4957-9DA9-037B9D68A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7F65-7BA8-469E-9A6A-7DA372F0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FACE-AF1B-4E39-BCC2-C0B424510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F6D5-1716-46CE-BF39-F7F95526E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7FA3-3A4B-473F-9EC0-411216774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DA8F-25FA-4EB8-8B2B-C879C481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98B3-4B86-41C2-9E05-D0873A6C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D17F-3157-47FF-9613-7E9D31D6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0539-E8B4-4575-A356-0976886B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BDEA-6AC0-499E-B61A-3F4968C5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3FAD-1049-4E10-8736-17E4F3D8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9187-EA46-4611-B319-46E71E81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9E3C-D5E7-4E42-82BF-115180A9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5C6B-1EB1-4102-B6FD-E091CD6D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5680-E8F0-45FC-BB68-1EBEB9A2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A265-B4BE-4BFA-A6C7-7D80703C0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EE8B-603F-4EE7-B1C2-37097FAB0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5F44-8A8B-4D49-AC62-E78CF90A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AE8A-D5EE-4581-ADFA-89C19DEB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CB1F-2B2C-48E2-AA77-BAD62DB0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0697-E3D1-4638-A228-423DF908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0120-05F2-40F4-8F17-34B5D7D8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71E9-FB01-4446-818F-C1753D13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C26E-03EC-42F5-A2C6-87EC4829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8E0B-7D68-4706-A161-4F99582C9BB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D87A-583B-4E73-802A-FDAD4FCE105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064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Муниципальное общеобразовательное учреждение</a:t>
            </a:r>
            <a:br>
              <a:rPr sz="3600"/>
            </a:b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«Таксимовская средняя общеобразовательная школа №3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19280" y="2852280"/>
            <a:ext cx="57243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втор: Дауткина Анастасия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ученица 5 «Б» класс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-25380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аучный руководитель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-25380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Кропотов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-25380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Маргарита Ивановна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-25380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учитель начальных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-25380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класс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908000" y="2997360"/>
            <a:ext cx="230508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5400" y="534600"/>
            <a:ext cx="57355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Состав жевательной резин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116000" y="1268280"/>
          <a:ext cx="7696080" cy="5394600"/>
        </p:xfrm>
        <a:graphic>
          <a:graphicData uri="http://schemas.openxmlformats.org/drawingml/2006/table">
            <a:tbl>
              <a:tblPr/>
              <a:tblGrid>
                <a:gridCol w="4032360"/>
                <a:gridCol w="366372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ирол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рби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дсластители (сорбит, мальтит, ксилит, маннит, аспартам, ацесульфам-к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дсластители (аспартам Е951, ацесульфам К950, глазурь Е903, маннит Е421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ислоты Е330, Е29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рбит Е420  Мальтит Е96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езиновая основа Стабилизатор Е4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езиновая основа Стабилизатор Е42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лазирователь Е90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агуститель Е4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роматизаторы, идентичные натуральным и искусственные Эмульгатор Е47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атуральные, идентичные натуральным и искусственные ароматизатор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нтиоксидант Е321, Краситель Е17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Эмульгатор соевый лецитин Краситель Е171 Антиоксидант Е32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Фенилалани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Фенилалани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780000" cy="36576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601880" y="1828440"/>
            <a:ext cx="3779640" cy="17636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4601880" y="3722400"/>
            <a:ext cx="3779640" cy="17636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116000" y="549360"/>
            <a:ext cx="7704000" cy="543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41520" y="1052640"/>
            <a:ext cx="8502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Советы любителям жевательной резинк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Жевательная резинка не должна содержать сахар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Употреблять только белую (без красителей) жвачк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Жевать её надо только после еды в течение 10-15 мину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Нельзя заглатывать резинк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Жевательная резинка должна быть произведена известной фирмой, положительно зарекомендовавшей себя на рынке и строго следящей за качеством  своей продук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Жевать её следует аккуратно, желательно не в общественных места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Использованную жвачку выбрасывать в мусорные урн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835280" y="981000"/>
            <a:ext cx="5653080" cy="42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Жевательная резинка: польза или вред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295960" y="2997360"/>
            <a:ext cx="295200" cy="2905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Жевательная резинка с логотипом"/>
          <p:cNvPicPr/>
          <p:nvPr/>
        </p:nvPicPr>
        <p:blipFill>
          <a:blip r:embed="rId2"/>
          <a:stretch/>
        </p:blipFill>
        <p:spPr>
          <a:xfrm>
            <a:off x="0" y="1579680"/>
            <a:ext cx="9144000" cy="50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7524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Люди верят рекламе, не задумываясь о вреде жвачки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467240" y="2765520"/>
            <a:ext cx="133200" cy="131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 (418x431, 35Kb)"/>
          <p:cNvPicPr/>
          <p:nvPr/>
        </p:nvPicPr>
        <p:blipFill>
          <a:blip r:embed="rId2"/>
          <a:stretch/>
        </p:blipFill>
        <p:spPr>
          <a:xfrm>
            <a:off x="1619280" y="1700280"/>
            <a:ext cx="640872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Цель исследования: 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выяснить, какое влияние оказывает жевательная резинка на здоровье челове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Задачи исследовани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Изучить историю возникновения жевательной резин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Провести исследование среди учащихся начальных классов по употреблению жевательной резин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Исследовать состав жевательной резинки и её вредное воздействие на здоровье челове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-681480"/>
            <a:ext cx="6870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7848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Объект исследования: жевательная резинка и здоровье человека.</a:t>
            </a:r>
            <a:br>
              <a:rPr sz="3200"/>
            </a:b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Предмет исследования: влияние жевательной резинки на здоровье человека.</a:t>
            </a:r>
            <a:br>
              <a:rPr sz="3200"/>
            </a:b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Методы исследования: наблюдение, изучение литературы, анкетирование, интервьюирование, опрос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В эпоху неолита берёзовый дёготь использовали как антисептик полости рт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050920" y="1916280"/>
            <a:ext cx="554544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549000"/>
            <a:ext cx="8218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В 60-х годах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XIX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 века в качестве основы для жвачки стали использовать каучук, получаемый из сока деревьев гевеи, саподилл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470480" y="3598920"/>
            <a:ext cx="129960" cy="117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195640" y="2367000"/>
            <a:ext cx="5689440" cy="424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2637000"/>
            <a:ext cx="868680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Анкетирование показало,чт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из 37 опрошенных учащихс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11 ребят жуют часто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иногда – 22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а не жуют – 4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0404360" y="443700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Весь день жуют – 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после еды – 21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в любое время – 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764640"/>
            <a:ext cx="687060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5280" y="765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Весь день жуют – 5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после еды – 21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в любое время – 11. </a:t>
            </a:r>
            <a:br>
              <a:rPr sz="2800"/>
            </a:b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2843280" y="227664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Для освежения дыхания жуют – 13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нравится вкус – 18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для очищения полости рта – 3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просто так –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35280" y="5084640"/>
            <a:ext cx="6265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Большинство детей предпочитает «Орбит», «Дирол» или любую жвач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859280" y="549360"/>
            <a:ext cx="27370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1:34:44Z</dcterms:created>
  <dc:creator>Misha</dc:creator>
  <dc:description/>
  <dc:language>en-US</dc:language>
  <cp:lastModifiedBy>SamLab.ws</cp:lastModifiedBy>
  <dcterms:modified xsi:type="dcterms:W3CDTF">2003-04-15T22:45:33Z</dcterms:modified>
  <cp:revision>20</cp:revision>
  <dc:subject/>
  <dc:title>Муниципальное общеобразовательное учреждение «Таксимовская средняя общеобразовательная школа №3» </dc:title>
</cp:coreProperties>
</file>