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5.png" ContentType="image/png"/>
  <Override PartName="/ppt/media/image24.jpeg" ContentType="image/jpeg"/>
  <Override PartName="/ppt/media/image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2067-5DC3-4317-BAA6-DC0F6086A0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912-2421-447A-9979-F260409D4E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CB1-EE38-4AD7-98A1-B5A6D79C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8D0-CD27-40A3-8008-8B6E4686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DC9-A1DC-4FB5-B461-054AD922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CA5-343B-4783-9076-EF557530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F96-8581-44A7-BB6F-A728283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79C-0D7D-4E7B-9934-29D5DC18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A68-0AB7-4D52-B3B4-A3F3CED0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F0F-266F-4358-AC06-8228AB0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A14-B068-4C58-A246-F7D5EEC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AAF-E4D2-42B6-BC8E-49A0226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184-BE68-4E1D-B236-C701B7DA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445-BBF8-464B-BB6D-DA005E8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407E-22EE-4894-97EC-B959991B5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659880 w 9144000"/>
              <a:gd name="textAreaRight" fmla="*/ 8484120 w 9144000"/>
              <a:gd name="textAreaTop" fmla="*/ 659880 h 6858000"/>
              <a:gd name="textAreaBottom" fmla="*/ 619812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660014" y="660014"/>
                </a:moveTo>
                <a:lnTo>
                  <a:pt x="660014" y="6197986"/>
                </a:lnTo>
                <a:lnTo>
                  <a:pt x="8483986" y="6197986"/>
                </a:lnTo>
                <a:lnTo>
                  <a:pt x="8483986" y="66001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65040" y="1138320"/>
            <a:ext cx="841392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8" descr="C:\Documents and Settings\Администратор\Мои документы\Шаг в будущее 2008 год\Растительные ткани\Микрофотографии\Рыльце пестика фиалки.jpg"/>
          <p:cNvPicPr/>
          <p:nvPr/>
        </p:nvPicPr>
        <p:blipFill>
          <a:blip r:embed="rId1"/>
          <a:stretch/>
        </p:blipFill>
        <p:spPr>
          <a:xfrm>
            <a:off x="928800" y="696960"/>
            <a:ext cx="7286400" cy="5464080"/>
          </a:xfrm>
          <a:prstGeom prst="rect">
            <a:avLst/>
          </a:prstGeom>
          <a:ln w="0">
            <a:noFill/>
          </a:ln>
        </p:spPr>
      </p:pic>
      <p:sp>
        <p:nvSpPr>
          <p:cNvPr id="98" name="Рамка 20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1"/>
          <p:cNvSpPr/>
          <p:nvPr/>
        </p:nvSpPr>
        <p:spPr>
          <a:xfrm>
            <a:off x="928800" y="6143760"/>
            <a:ext cx="7286400" cy="42840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Рыльце пестика фиалки узумбар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93240 w 9144000"/>
              <a:gd name="textAreaRight" fmla="*/ 8150760 w 9144000"/>
              <a:gd name="textAreaTop" fmla="*/ 993240 h 6858000"/>
              <a:gd name="textAreaBottom" fmla="*/ 58647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93450" y="993450"/>
                </a:moveTo>
                <a:lnTo>
                  <a:pt x="993450" y="5864550"/>
                </a:lnTo>
                <a:lnTo>
                  <a:pt x="8150550" y="5864550"/>
                </a:lnTo>
                <a:lnTo>
                  <a:pt x="8150550" y="993450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57120" y="6215040"/>
            <a:ext cx="8429760" cy="50004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Поперечный срез листа фиалки узумбар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7" descr="C:\Documents and Settings\Администратор\Мои документы\Шаг в будущее 2008 год\Растительные ткани\Микрофотографии\Проводящий пучок.jpg"/>
          <p:cNvPicPr/>
          <p:nvPr/>
        </p:nvPicPr>
        <p:blipFill>
          <a:blip r:embed="rId1"/>
          <a:stretch/>
        </p:blipFill>
        <p:spPr>
          <a:xfrm>
            <a:off x="1000080" y="749160"/>
            <a:ext cx="71438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C:\Documents and Settings\Администратор\Мои документы\Шаг в будущее 2008 год\Растительные ткани\Микрофотографии\Лист.jpg"/>
          <p:cNvPicPr/>
          <p:nvPr/>
        </p:nvPicPr>
        <p:blipFill>
          <a:blip r:embed="rId1"/>
          <a:stretch/>
        </p:blipFill>
        <p:spPr>
          <a:xfrm>
            <a:off x="785880" y="588960"/>
            <a:ext cx="7572240" cy="5680080"/>
          </a:xfrm>
          <a:prstGeom prst="rect">
            <a:avLst/>
          </a:prstGeom>
          <a:ln w="0">
            <a:noFill/>
          </a:ln>
        </p:spPr>
      </p:pic>
      <p:sp>
        <p:nvSpPr>
          <p:cNvPr id="104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928800" y="6143760"/>
            <a:ext cx="7286400" cy="42840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Поперечный срез листа пепер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Documents and Settings\Администратор\Мои документы\Шаг в будущее 2008 год\Растительные ткани\Микрофотографии\Стебель пеперонии.jpg"/>
          <p:cNvPicPr/>
          <p:nvPr/>
        </p:nvPicPr>
        <p:blipFill>
          <a:blip r:embed="rId1"/>
          <a:stretch/>
        </p:blipFill>
        <p:spPr>
          <a:xfrm>
            <a:off x="928800" y="696960"/>
            <a:ext cx="7286400" cy="5464080"/>
          </a:xfrm>
          <a:prstGeom prst="rect">
            <a:avLst/>
          </a:prstGeom>
          <a:ln w="0">
            <a:noFill/>
          </a:ln>
        </p:spPr>
      </p:pic>
      <p:sp>
        <p:nvSpPr>
          <p:cNvPr id="107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928800" y="6143760"/>
            <a:ext cx="7286400" cy="42840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Поперечный срез стебля пеперо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C:\Documents and Settings\Администратор\Мои документы\Шаг в будущее 2008 год\Растительные ткани\Микрофотографии\Морковь.jpg"/>
          <p:cNvPicPr/>
          <p:nvPr/>
        </p:nvPicPr>
        <p:blipFill>
          <a:blip r:embed="rId1"/>
          <a:stretch/>
        </p:blipFill>
        <p:spPr>
          <a:xfrm>
            <a:off x="714240" y="534960"/>
            <a:ext cx="7715520" cy="5788080"/>
          </a:xfrm>
          <a:prstGeom prst="rect">
            <a:avLst/>
          </a:prstGeom>
          <a:ln w="0">
            <a:noFill/>
          </a:ln>
        </p:spPr>
      </p:pic>
      <p:sp>
        <p:nvSpPr>
          <p:cNvPr id="110" name="Рамка 9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928800" y="6143760"/>
            <a:ext cx="7286400" cy="42840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Клетки корнеплода морк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C:\Documents and Settings\Администратор\Мои документы\Шаг в будущее 2008 год\Растительные ткани\Микрофотографии\Кробщий лист спатифилума.jpg"/>
          <p:cNvPicPr/>
          <p:nvPr/>
        </p:nvPicPr>
        <p:blipFill>
          <a:blip r:embed="rId1"/>
          <a:stretch/>
        </p:blipFill>
        <p:spPr>
          <a:xfrm>
            <a:off x="820800" y="615960"/>
            <a:ext cx="7502400" cy="5626080"/>
          </a:xfrm>
          <a:prstGeom prst="rect">
            <a:avLst/>
          </a:prstGeom>
          <a:ln w="0">
            <a:noFill/>
          </a:ln>
        </p:spPr>
      </p:pic>
      <p:sp>
        <p:nvSpPr>
          <p:cNvPr id="113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71680" y="6000840"/>
            <a:ext cx="8001000" cy="85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Пигментные клетки кроющего листа спатифилл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Documents and Settings\Администратор\Мои документы\Шаг в будущее 2008 год\Растительные ткани\Микрофотографии\Кожица апельсина.jpg"/>
          <p:cNvPicPr/>
          <p:nvPr/>
        </p:nvPicPr>
        <p:blipFill>
          <a:blip r:embed="rId1"/>
          <a:stretch/>
        </p:blipFill>
        <p:spPr>
          <a:xfrm>
            <a:off x="785880" y="588960"/>
            <a:ext cx="7572240" cy="5680080"/>
          </a:xfrm>
          <a:prstGeom prst="rect">
            <a:avLst/>
          </a:prstGeom>
          <a:ln w="0">
            <a:noFill/>
          </a:ln>
        </p:spPr>
      </p:pic>
      <p:sp>
        <p:nvSpPr>
          <p:cNvPr id="116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571680" y="6000840"/>
            <a:ext cx="8001000" cy="85716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Вместилище эфирного масла в кожице апель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928800" y="830160"/>
            <a:ext cx="7286400" cy="5197680"/>
          </a:xfrm>
          <a:prstGeom prst="rect">
            <a:avLst/>
          </a:prstGeom>
          <a:ln w="0">
            <a:noFill/>
          </a:ln>
        </p:spPr>
      </p:pic>
      <p:sp>
        <p:nvSpPr>
          <p:cNvPr id="119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928800" y="6143760"/>
            <a:ext cx="7286400" cy="42840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Клетки лепестка бег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06480" y="428760"/>
            <a:ext cx="7331040" cy="5499000"/>
          </a:xfrm>
          <a:prstGeom prst="rect">
            <a:avLst/>
          </a:prstGeom>
          <a:ln w="0">
            <a:noFill/>
          </a:ln>
        </p:spPr>
      </p:pic>
      <p:sp>
        <p:nvSpPr>
          <p:cNvPr id="122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943560 w 9144000"/>
              <a:gd name="textAreaRight" fmla="*/ 8200440 w 9144000"/>
              <a:gd name="textAreaTop" fmla="*/ 943560 h 6858000"/>
              <a:gd name="textAreaBottom" fmla="*/ 59144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943592" y="943592"/>
                </a:moveTo>
                <a:lnTo>
                  <a:pt x="943592" y="5914408"/>
                </a:lnTo>
                <a:lnTo>
                  <a:pt x="8200408" y="5914408"/>
                </a:lnTo>
                <a:lnTo>
                  <a:pt x="8200408" y="943592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16200000"/>
          </a:grad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928800" y="6143760"/>
            <a:ext cx="7286400" cy="42840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Тычинки бег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mixcope"/>
          <p:cNvPicPr/>
          <p:nvPr/>
        </p:nvPicPr>
        <p:blipFill>
          <a:blip r:embed="rId2"/>
          <a:stretch/>
        </p:blipFill>
        <p:spPr>
          <a:xfrm>
            <a:off x="428760" y="1500120"/>
            <a:ext cx="2904840" cy="4537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6" descr=""/>
          <p:cNvPicPr/>
          <p:nvPr/>
        </p:nvPicPr>
        <p:blipFill>
          <a:blip r:embed="rId3"/>
          <a:stretch/>
        </p:blipFill>
        <p:spPr>
          <a:xfrm>
            <a:off x="2706840" y="487440"/>
            <a:ext cx="6443640" cy="1165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3143160" y="1571760"/>
            <a:ext cx="5500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Цифровой микроскоп - Intel Play tm QX3+ tm Computer Micros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препарировальные и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предметные и покровные стёк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фильтровальная бума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пипет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раствор й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928800" y="857160"/>
            <a:ext cx="2520720" cy="1366920"/>
          </a:xfrm>
          <a:prstGeom prst="flowChartAlternateProcess">
            <a:avLst/>
          </a:prstGeom>
          <a:gradFill rotWithShape="0">
            <a:gsLst>
              <a:gs pos="0">
                <a:srgbClr val="ffeac1"/>
              </a:gs>
              <a:gs pos="100000">
                <a:srgbClr val="e2e2e6"/>
              </a:gs>
            </a:gsLst>
            <a:lin ang="16200000"/>
          </a:gra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6329520" y="2657520"/>
            <a:ext cx="2520720" cy="1366920"/>
          </a:xfrm>
          <a:prstGeom prst="flowChartAlternateProcess">
            <a:avLst/>
          </a:prstGeom>
          <a:gradFill rotWithShape="0">
            <a:gsLst>
              <a:gs pos="0">
                <a:srgbClr val="ffeac1"/>
              </a:gs>
              <a:gs pos="100000">
                <a:srgbClr val="e2e2e6"/>
              </a:gs>
            </a:gsLst>
            <a:lin ang="0"/>
          </a:gra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Пров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608800" y="857160"/>
            <a:ext cx="2520720" cy="1366920"/>
          </a:xfrm>
          <a:prstGeom prst="flowChartAlternateProcess">
            <a:avLst/>
          </a:prstGeom>
          <a:gradFill rotWithShape="0">
            <a:gsLst>
              <a:gs pos="0">
                <a:srgbClr val="ffeac1"/>
              </a:gs>
              <a:gs pos="100000">
                <a:srgbClr val="e2e2e6"/>
              </a:gs>
            </a:gsLst>
            <a:lin ang="16200000"/>
          </a:gra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еха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252360" y="2657520"/>
            <a:ext cx="2521080" cy="1366920"/>
          </a:xfrm>
          <a:prstGeom prst="flowChartAlternateProcess">
            <a:avLst/>
          </a:prstGeom>
          <a:gradFill rotWithShape="0">
            <a:gsLst>
              <a:gs pos="0">
                <a:srgbClr val="ffeac1"/>
              </a:gs>
              <a:gs pos="100000">
                <a:srgbClr val="e2e2e6"/>
              </a:gs>
            </a:gsLst>
            <a:lin ang="10800000"/>
          </a:gra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Покр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714240" y="4673520"/>
            <a:ext cx="3238560" cy="1366920"/>
          </a:xfrm>
          <a:prstGeom prst="flowChartAlternateProcess">
            <a:avLst/>
          </a:prstGeom>
          <a:gradFill rotWithShape="0">
            <a:gsLst>
              <a:gs pos="0">
                <a:srgbClr val="ffeac1"/>
              </a:gs>
              <a:gs pos="100000">
                <a:srgbClr val="e2e2e6"/>
              </a:gs>
            </a:gsLst>
            <a:lin ang="5400000"/>
          </a:gra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бразов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5214960" y="4643280"/>
            <a:ext cx="3184560" cy="1428840"/>
          </a:xfrm>
          <a:prstGeom prst="flowChartAlternateProcess">
            <a:avLst/>
          </a:prstGeom>
          <a:gradFill rotWithShape="0">
            <a:gsLst>
              <a:gs pos="0">
                <a:srgbClr val="ffeac1"/>
              </a:gs>
              <a:gs pos="100000">
                <a:srgbClr val="e2e2e6"/>
              </a:gs>
            </a:gsLst>
            <a:lin ang="5400000"/>
          </a:gra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Выдел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065040" y="3929040"/>
            <a:ext cx="863640" cy="72540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5211720" y="3921120"/>
            <a:ext cx="863640" cy="73188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5445000" y="3429000"/>
            <a:ext cx="865440" cy="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2786040" y="3429000"/>
            <a:ext cx="720720" cy="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 flipV="1">
            <a:off x="3394080" y="2162160"/>
            <a:ext cx="892080" cy="76680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V="1">
            <a:off x="4857840" y="2142720"/>
            <a:ext cx="785880" cy="79236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utoShape 12"/>
          <p:cNvGrpSpPr/>
          <p:nvPr/>
        </p:nvGrpSpPr>
        <p:grpSpPr>
          <a:xfrm>
            <a:off x="3413160" y="2871720"/>
            <a:ext cx="2317680" cy="1114560"/>
            <a:chOff x="3413160" y="2871720"/>
            <a:chExt cx="2317680" cy="1114560"/>
          </a:xfrm>
        </p:grpSpPr>
        <p:pic>
          <p:nvPicPr>
            <p:cNvPr id="68" name="AutoShape 12" descr=""/>
            <p:cNvPicPr/>
            <p:nvPr/>
          </p:nvPicPr>
          <p:blipFill>
            <a:blip r:embed="rId2"/>
            <a:stretch/>
          </p:blipFill>
          <p:spPr>
            <a:xfrm>
              <a:off x="3413160" y="2871720"/>
              <a:ext cx="2317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487680" y="2944800"/>
              <a:ext cx="21686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00000"/>
                  </a:solidFill>
                  <a:latin typeface="Calibri"/>
                </a:rPr>
                <a:t>Групп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00000"/>
                  </a:solidFill>
                  <a:latin typeface="Calibri"/>
                </a:rPr>
                <a:t>раститель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00000"/>
                  </a:solidFill>
                  <a:latin typeface="Calibri"/>
                </a:rPr>
                <a:t>тка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extBox 2" descr=""/>
          <p:cNvPicPr/>
          <p:nvPr/>
        </p:nvPicPr>
        <p:blipFill>
          <a:blip r:embed="rId2"/>
          <a:stretch/>
        </p:blipFill>
        <p:spPr>
          <a:xfrm>
            <a:off x="1292400" y="476280"/>
            <a:ext cx="655308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42960" y="1397160"/>
          <a:ext cx="7858080" cy="4674960"/>
        </p:xfrm>
        <a:graphic>
          <a:graphicData uri="http://schemas.openxmlformats.org/drawingml/2006/table">
            <a:tbl>
              <a:tblPr/>
              <a:tblGrid>
                <a:gridCol w="2357280"/>
                <a:gridCol w="550080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унк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ост, образование всех остальных ткан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обенно-сти 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летки живые, мелкие, тонкостенные, вакуоли мелкие или отсутствую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рас-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а верхушках побегов, в почках, на верхушке корня, камб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pSp>
        <p:nvGrpSpPr>
          <p:cNvPr id="73" name="Группа 10"/>
          <p:cNvGrpSpPr/>
          <p:nvPr/>
        </p:nvGrpSpPr>
        <p:grpSpPr>
          <a:xfrm>
            <a:off x="677880" y="2071800"/>
            <a:ext cx="7788240" cy="3332160"/>
            <a:chOff x="677880" y="2071800"/>
            <a:chExt cx="7788240" cy="3332160"/>
          </a:xfrm>
        </p:grpSpPr>
        <p:pic>
          <p:nvPicPr>
            <p:cNvPr id="74" name="Picture 1" descr=""/>
            <p:cNvPicPr/>
            <p:nvPr/>
          </p:nvPicPr>
          <p:blipFill>
            <a:blip r:embed="rId3"/>
            <a:stretch/>
          </p:blipFill>
          <p:spPr>
            <a:xfrm>
              <a:off x="677880" y="2071800"/>
              <a:ext cx="4289400" cy="323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" descr=""/>
            <p:cNvPicPr/>
            <p:nvPr/>
          </p:nvPicPr>
          <p:blipFill>
            <a:blip r:embed="rId4"/>
            <a:stretch/>
          </p:blipFill>
          <p:spPr>
            <a:xfrm>
              <a:off x="4893480" y="2115720"/>
              <a:ext cx="3572640" cy="328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2" descr=""/>
          <p:cNvPicPr/>
          <p:nvPr/>
        </p:nvPicPr>
        <p:blipFill>
          <a:blip r:embed="rId2"/>
          <a:stretch/>
        </p:blipFill>
        <p:spPr>
          <a:xfrm>
            <a:off x="1352520" y="476280"/>
            <a:ext cx="64389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642960" y="1397160"/>
          <a:ext cx="7858080" cy="4674960"/>
        </p:xfrm>
        <a:graphic>
          <a:graphicData uri="http://schemas.openxmlformats.org/drawingml/2006/table">
            <a:tbl>
              <a:tblPr/>
              <a:tblGrid>
                <a:gridCol w="2357280"/>
                <a:gridCol w="550080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унк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ащита, связь растения с внешней сред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обенно-сти 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летки живые или мёртвые, плотно прилегают друг к друг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рас-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жица, проб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11" descr=""/>
          <p:cNvPicPr/>
          <p:nvPr/>
        </p:nvPicPr>
        <p:blipFill>
          <a:blip r:embed="rId3"/>
          <a:stretch/>
        </p:blipFill>
        <p:spPr>
          <a:xfrm>
            <a:off x="2065320" y="1500120"/>
            <a:ext cx="5013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1352520" y="476280"/>
            <a:ext cx="64389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642960" y="1397160"/>
          <a:ext cx="7858080" cy="4674960"/>
        </p:xfrm>
        <a:graphic>
          <a:graphicData uri="http://schemas.openxmlformats.org/drawingml/2006/table">
            <a:tbl>
              <a:tblPr/>
              <a:tblGrid>
                <a:gridCol w="2357280"/>
                <a:gridCol w="550080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унк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разование и накопление питательных вещест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обенно-сти 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летки живые, крупные, расположены рыхло, имеются вакуо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рас-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якоть листа, стеблей, корн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pSp>
        <p:nvGrpSpPr>
          <p:cNvPr id="83" name="Группа 6"/>
          <p:cNvGrpSpPr/>
          <p:nvPr/>
        </p:nvGrpSpPr>
        <p:grpSpPr>
          <a:xfrm>
            <a:off x="928800" y="1643040"/>
            <a:ext cx="7286400" cy="4143240"/>
            <a:chOff x="928800" y="1643040"/>
            <a:chExt cx="7286400" cy="4143240"/>
          </a:xfrm>
        </p:grpSpPr>
        <p:pic>
          <p:nvPicPr>
            <p:cNvPr id="84" name="Picture 6" descr="09020105"/>
            <p:cNvPicPr/>
            <p:nvPr/>
          </p:nvPicPr>
          <p:blipFill>
            <a:blip r:embed="rId3"/>
            <a:stretch/>
          </p:blipFill>
          <p:spPr>
            <a:xfrm>
              <a:off x="4785840" y="1643040"/>
              <a:ext cx="3429360" cy="41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8" descr=""/>
            <p:cNvPicPr/>
            <p:nvPr/>
          </p:nvPicPr>
          <p:blipFill>
            <a:blip r:embed="rId4"/>
            <a:stretch/>
          </p:blipFill>
          <p:spPr>
            <a:xfrm>
              <a:off x="928800" y="1643040"/>
              <a:ext cx="3857040" cy="411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2" descr=""/>
          <p:cNvPicPr/>
          <p:nvPr/>
        </p:nvPicPr>
        <p:blipFill>
          <a:blip r:embed="rId2"/>
          <a:stretch/>
        </p:blipFill>
        <p:spPr>
          <a:xfrm>
            <a:off x="1352520" y="476280"/>
            <a:ext cx="64389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642960" y="1143000"/>
          <a:ext cx="7858080" cy="5159520"/>
        </p:xfrm>
        <a:graphic>
          <a:graphicData uri="http://schemas.openxmlformats.org/drawingml/2006/table">
            <a:tbl>
              <a:tblPr/>
              <a:tblGrid>
                <a:gridCol w="2357280"/>
                <a:gridCol w="5500800"/>
              </a:tblGrid>
              <a:tr h="155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унк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пор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обенно-сти 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летки живые и мёртвые с одревесневшими утолщенными стенками, каменистые клет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рас-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ханические волокна сопровождают проводящую тка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pic>
        <p:nvPicPr>
          <p:cNvPr id="89" name="Picture 7" descr="09020105"/>
          <p:cNvPicPr/>
          <p:nvPr/>
        </p:nvPicPr>
        <p:blipFill>
          <a:blip r:embed="rId3"/>
          <a:stretch/>
        </p:blipFill>
        <p:spPr>
          <a:xfrm>
            <a:off x="1951200" y="1500120"/>
            <a:ext cx="5241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Box 2" descr=""/>
          <p:cNvPicPr/>
          <p:nvPr/>
        </p:nvPicPr>
        <p:blipFill>
          <a:blip r:embed="rId1"/>
          <a:stretch/>
        </p:blipFill>
        <p:spPr>
          <a:xfrm>
            <a:off x="1352520" y="407880"/>
            <a:ext cx="6438960" cy="74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42960" y="1071720"/>
          <a:ext cx="7858080" cy="5341680"/>
        </p:xfrm>
        <a:graphic>
          <a:graphicData uri="http://schemas.openxmlformats.org/drawingml/2006/table">
            <a:tbl>
              <a:tblPr/>
              <a:tblGrid>
                <a:gridCol w="2357280"/>
                <a:gridCol w="5500800"/>
              </a:tblGrid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унк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ранспорт воды, минеральных и органических вещест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обенно-сти 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осуды – мёртвые клетки вытянутой формы с толстыми стенками; ситовидные трубки – живые клетки, без ядра, пластид, вакуо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рас-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Древесина, лу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sp>
        <p:nvSpPr>
          <p:cNvPr id="92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827440" y="1357200"/>
            <a:ext cx="348912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Рамка 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600 w 9144000"/>
              <a:gd name="textAreaRight" fmla="*/ 8699400 w 9144000"/>
              <a:gd name="textAreaTop" fmla="*/ 444600 h 6858000"/>
              <a:gd name="textAreaBottom" fmla="*/ 64134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44878" y="444878"/>
                </a:moveTo>
                <a:lnTo>
                  <a:pt x="444878" y="6413122"/>
                </a:lnTo>
                <a:lnTo>
                  <a:pt x="8699122" y="6413122"/>
                </a:lnTo>
                <a:lnTo>
                  <a:pt x="8699122" y="4448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2" descr=""/>
          <p:cNvPicPr/>
          <p:nvPr/>
        </p:nvPicPr>
        <p:blipFill>
          <a:blip r:embed="rId2"/>
          <a:stretch/>
        </p:blipFill>
        <p:spPr>
          <a:xfrm>
            <a:off x="1352520" y="476280"/>
            <a:ext cx="64389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642960" y="1397160"/>
          <a:ext cx="7858080" cy="4674960"/>
        </p:xfrm>
        <a:graphic>
          <a:graphicData uri="http://schemas.openxmlformats.org/drawingml/2006/table">
            <a:tbl>
              <a:tblPr/>
              <a:tblGrid>
                <a:gridCol w="2357280"/>
                <a:gridCol w="550080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унк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акопление и выделение продуктов обм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обенно-сти 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меют вид каналов, связанных между соб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рас-по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ктарники, смоляные ходы, мле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04a7b"/>
                      </a:solidFill>
                    </a:lnL>
                    <a:lnR w="18720">
                      <a:solidFill>
                        <a:srgbClr val="604a7b"/>
                      </a:solidFill>
                    </a:lnR>
                    <a:lnT w="18720">
                      <a:solidFill>
                        <a:srgbClr val="604a7b"/>
                      </a:solidFill>
                    </a:lnT>
                    <a:lnB w="18720">
                      <a:solidFill>
                        <a:srgbClr val="604a7b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2:44:20Z</dcterms:created>
  <dc:creator>Елена</dc:creator>
  <dc:description/>
  <dc:language>en-US</dc:language>
  <cp:lastModifiedBy>Елена</cp:lastModifiedBy>
  <dcterms:modified xsi:type="dcterms:W3CDTF">2012-01-11T10:19:58Z</dcterms:modified>
  <cp:revision>30</cp:revision>
  <dc:subject/>
  <dc:title>Слайд 1</dc:title>
</cp:coreProperties>
</file>