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2.jpeg" ContentType="image/jpeg"/>
  <Override PartName="/ppt/media/image8.wmf" ContentType="image/x-wmf"/>
  <Override PartName="/ppt/media/image9.gif" ContentType="image/gif"/>
  <Override PartName="/ppt/media/image7.gif" ContentType="image/gif"/>
  <Override PartName="/ppt/media/image5.jpeg" ContentType="image/jpeg"/>
  <Override PartName="/ppt/media/image11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4.gif" ContentType="image/gif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1D3-A36E-4B27-978C-96283A64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C52-889C-4882-865F-51DF19A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CED-1965-4CB4-9FD6-31F14AD7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8F1-DAD1-4265-8BEE-0D9339FC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28D-45D6-4ED0-9CD1-F0F77058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DC4-034A-4EC6-883F-FEF78A45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F7A-C534-4832-9B21-4828839F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F88-ED5D-4652-BE13-D8497A5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587-2502-419F-AC46-CC6F9B43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781-E52B-4A05-A855-C71E2FDB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9D4-BE08-4D90-A1E5-2B140C01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48C-BC0B-4C94-BBCE-BC100A06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A8CE-5780-452A-BED1-D0228121D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&amp;imgurl=http%3A%2F%2Figz.ilmeny.ac.ru%2FRED_BOOK%2Fimages%2Fjiv_mlek_hishnik_norka_evropeika_02.gif&amp;pageurl=http%3A%2F%2Figz.ilmeny.ac.ru%2FRED_BOOK%2Fjiv_mlek_hishnik_norka_evropeika_02.html&amp;id=21702132&amp;iid=2&amp;imgwidth=800&amp;imgheight=490&amp;imgsize=125078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go.mail.ru/frame.html?&amp;imgurl=http%3A%2F%2Ffion.ru%2Fimages%2Fphoto%2Fdd4332af6c751def468066b3b397ea52.jpg&amp;pageurl=http%3A%2F%2Fmaskas.ru%2Fmaska%2Fagapov&amp;id=5310528&amp;iid=6&amp;imgwidth=600&amp;imgheight=416&amp;imgsize=214514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&amp;imgurl=http%3A%2F%2Fdeetroy.users.photofile.ru%2Fphoto%2Fdeetroy%2F96036986%2Fxlarge%2F106494238.jpg&amp;pageurl=http%3A%2F%2Fwww.liveinternet.ru%2Fphoto%2F1509960%2Fpost4128056%2F&amp;id=102547883&amp;iid=0&amp;imgwidth=640&amp;imgheight=480&amp;imgsize=185585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&amp;imgurl=http%3A%2F%2Fimg-fotki.yandex.ru%2Fget%2F2%2Fmarina142.0%2F0_1ab1_2206d49e_XL&amp;pageurl=http%3A%2F%2Ffotki.yandex.ru%2Fusers%2Fmarina142%2Fview%2F6833%2F&amp;id=53056481&amp;iid=2&amp;imgwidth=800&amp;imgheight=524&amp;imgsize=121879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&amp;imgurl=http%3A%2F%2Fs51.radikal.ru%2Fi132%2F0903%2F64%2Fac4d8514a8fb.jpg&amp;pageurl=http%3A%2F%2Fwww.vidumshiki.ru%2Fitem169.html&amp;id=19212165&amp;iid=4&amp;imgwidth=550&amp;imgheight=412&amp;imgsize=167882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go.mail.ru/frame.html?&amp;imgurl=http%3A%2F%2Ftkanioptom.ru%2Fimages%2Fnitki_gamma_iris.JPG&amp;pageurl=http%3A%2F%2Ftkanioptom.ru%2Findex.php%3Fmain_page%3Dindex%26cPath%3D2%26zenid%3D0867f4d56ebca18b84cfab0fda31a320&amp;id=145787133&amp;iid=4&amp;imgwidth=2551&amp;imgheight=1795&amp;imgsize=181993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go.mail.ru/frame.html?&amp;imgurl=http%3A%2F%2Fwww.advmedia.ru%2Fuploads%2Fx250ad345fee44c882f072e0559534c4219d.jpg&amp;pageurl=http%3A%2F%2Fwww.advmedia.ru%2Fportfolio%2F43&amp;id=93834389&amp;iid=7&amp;imgwidth=800&amp;imgheight=598&amp;imgsize=33783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go.mail.ru/frame.html?&amp;imgurl=http%3A%2F%2Fimg.66.ru%2Fnews%2F0%2F43%2F64%2F43642.jpg&amp;pageurl=http%3A%2F%2Fwww.museum.ru%2Falb%2Fimage.asp%3F6871&amp;id=32987446&amp;iid=7&amp;imgwidth=600&amp;imgheight=395&amp;imgsize=72678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828720" y="328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2l3"/>
          <p:cNvPicPr/>
          <p:nvPr/>
        </p:nvPicPr>
        <p:blipFill>
          <a:blip r:embed="rId2"/>
          <a:stretch/>
        </p:blipFill>
        <p:spPr>
          <a:xfrm>
            <a:off x="1042920" y="189000"/>
            <a:ext cx="7632720" cy="100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2"/>
          <p:cNvSpPr/>
          <p:nvPr/>
        </p:nvSpPr>
        <p:spPr>
          <a:xfrm>
            <a:off x="611280" y="184464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0000"/>
                </a:solidFill>
                <a:latin typeface="Monotype Corsiva"/>
              </a:rPr>
              <a:t>Чем отличаются друг от друга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0000"/>
                </a:solidFill>
                <a:latin typeface="Monotype Corsiva"/>
              </a:rPr>
              <a:t>слова-омоним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" descr="Рисунок73"/>
          <p:cNvPicPr/>
          <p:nvPr/>
        </p:nvPicPr>
        <p:blipFill>
          <a:blip r:embed="rId3"/>
          <a:stretch/>
        </p:blipFill>
        <p:spPr>
          <a:xfrm>
            <a:off x="900000" y="580536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 - зам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Анатолий\Мои документы\анимашки\5\Рисунок2.gif"/>
          <p:cNvPicPr/>
          <p:nvPr/>
        </p:nvPicPr>
        <p:blipFill>
          <a:blip r:embed="rId2"/>
          <a:stretch/>
        </p:blipFill>
        <p:spPr>
          <a:xfrm>
            <a:off x="758880" y="2143080"/>
            <a:ext cx="374184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im7-tub.mail.ru/i?id=81278114&amp;tov=7"/>
          <p:cNvPicPr/>
          <p:nvPr/>
        </p:nvPicPr>
        <p:blipFill>
          <a:blip r:embed="rId3"/>
          <a:stretch/>
        </p:blipFill>
        <p:spPr>
          <a:xfrm>
            <a:off x="5429160" y="2357280"/>
            <a:ext cx="2548080" cy="2548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ая соединительная линия 6"/>
          <p:cNvSpPr/>
          <p:nvPr/>
        </p:nvSpPr>
        <p:spPr>
          <a:xfrm flipH="1">
            <a:off x="3285720" y="500040"/>
            <a:ext cx="7164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ая соединительная линия 7"/>
          <p:cNvSpPr/>
          <p:nvPr/>
        </p:nvSpPr>
        <p:spPr>
          <a:xfrm flipH="1">
            <a:off x="6000840" y="500040"/>
            <a:ext cx="7128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- 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pl7_3"/>
          <p:cNvPicPr/>
          <p:nvPr/>
        </p:nvPicPr>
        <p:blipFill>
          <a:blip r:embed="rId2"/>
          <a:stretch/>
        </p:blipFill>
        <p:spPr>
          <a:xfrm>
            <a:off x="5572080" y="278604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onion1-bw"/>
          <p:cNvPicPr/>
          <p:nvPr/>
        </p:nvPicPr>
        <p:blipFill>
          <a:blip r:embed="rId3"/>
          <a:stretch/>
        </p:blipFill>
        <p:spPr>
          <a:xfrm>
            <a:off x="1285920" y="2428920"/>
            <a:ext cx="278604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Monotype Corsiva"/>
              </a:rPr>
              <a:t>Сделаем вывод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285840" y="1428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-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914400" y="2714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 - зам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Заголовок 1"/>
          <p:cNvSpPr/>
          <p:nvPr/>
        </p:nvSpPr>
        <p:spPr>
          <a:xfrm>
            <a:off x="1214280" y="3929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лу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ая соединительная линия 20"/>
          <p:cNvSpPr/>
          <p:nvPr/>
        </p:nvSpPr>
        <p:spPr>
          <a:xfrm flipH="1">
            <a:off x="3714840" y="2928960"/>
            <a:ext cx="7128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ая соединительная линия 21"/>
          <p:cNvSpPr/>
          <p:nvPr/>
        </p:nvSpPr>
        <p:spPr>
          <a:xfrm flipH="1">
            <a:off x="6357960" y="2928960"/>
            <a:ext cx="7128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диол"/>
          <p:cNvPicPr/>
          <p:nvPr/>
        </p:nvPicPr>
        <p:blipFill>
          <a:blip r:embed="rId2"/>
          <a:stretch/>
        </p:blipFill>
        <p:spPr>
          <a:xfrm>
            <a:off x="428760" y="5214960"/>
            <a:ext cx="8532720" cy="1440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4"/>
          <p:cNvSpPr/>
          <p:nvPr/>
        </p:nvSpPr>
        <p:spPr>
          <a:xfrm>
            <a:off x="3500280" y="57150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такое омоним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2857680" y="550080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отличаются омонимы друг от друг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Documents and Settings\Анатолий\Мои документы\анимашки\4\ob06.gif"/>
          <p:cNvPicPr/>
          <p:nvPr/>
        </p:nvPicPr>
        <p:blipFill>
          <a:blip r:embed="rId2"/>
          <a:stretch/>
        </p:blipFill>
        <p:spPr>
          <a:xfrm>
            <a:off x="5643720" y="3724200"/>
            <a:ext cx="172872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рк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езла из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рк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http://im2-tub.mail.ru/i?id=21702132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4280" y="2500200"/>
            <a:ext cx="35308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http://im6-tub.mail.ru/i?id=531052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72080" y="2500200"/>
            <a:ext cx="30924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611280" y="0"/>
            <a:ext cx="853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143000" y="1857240"/>
            <a:ext cx="757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Узнать, что такое омони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Узнать, чем омонимы отличаются друг от дру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4" descr="2c4"/>
          <p:cNvPicPr/>
          <p:nvPr/>
        </p:nvPicPr>
        <p:blipFill>
          <a:blip r:embed="rId2"/>
          <a:stretch/>
        </p:blipFill>
        <p:spPr>
          <a:xfrm>
            <a:off x="1857240" y="4572000"/>
            <a:ext cx="4896000" cy="1547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124080" y="54100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684360" y="0"/>
            <a:ext cx="845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Отгадай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84360" y="1341360"/>
            <a:ext cx="6959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 мной ходи стрелять уч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а грядке меня поищ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гу попасть я метко в птиц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чаще попадаю в щи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7" descr="диол"/>
          <p:cNvPicPr/>
          <p:nvPr/>
        </p:nvPicPr>
        <p:blipFill>
          <a:blip r:embed="rId2"/>
          <a:stretch/>
        </p:blipFill>
        <p:spPr>
          <a:xfrm>
            <a:off x="3276720" y="3141720"/>
            <a:ext cx="5867280" cy="3716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5143680" y="435780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чём идёт речь в этой загадк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1" descr="ob33"/>
          <p:cNvPicPr/>
          <p:nvPr/>
        </p:nvPicPr>
        <p:blipFill>
          <a:blip r:embed="rId3"/>
          <a:stretch/>
        </p:blipFill>
        <p:spPr>
          <a:xfrm>
            <a:off x="1258920" y="3789360"/>
            <a:ext cx="201600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Monotype Corsiva"/>
              </a:rPr>
              <a:t>Лу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onion1-bw"/>
          <p:cNvPicPr/>
          <p:nvPr/>
        </p:nvPicPr>
        <p:blipFill>
          <a:blip r:embed="rId2"/>
          <a:stretch/>
        </p:blipFill>
        <p:spPr>
          <a:xfrm>
            <a:off x="1357200" y="2857680"/>
            <a:ext cx="2786040" cy="320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9"/>
          <p:cNvPicPr/>
          <p:nvPr/>
        </p:nvPicPr>
        <p:blipFill>
          <a:blip r:embed="rId3"/>
          <a:stretch/>
        </p:blipFill>
        <p:spPr>
          <a:xfrm>
            <a:off x="5500800" y="3143160"/>
            <a:ext cx="3138480" cy="2857680"/>
          </a:xfrm>
          <a:prstGeom prst="rect">
            <a:avLst/>
          </a:prstGeom>
          <a:ln w="0">
            <a:noFill/>
          </a:ln>
        </p:spPr>
      </p:pic>
      <p:cxnSp>
        <p:nvCxnSpPr>
          <p:cNvPr id="65" name="Прямая со стрелкой 8"/>
          <p:cNvCxnSpPr/>
          <p:nvPr/>
        </p:nvCxnSpPr>
        <p:spPr>
          <a:xfrm flipH="1">
            <a:off x="3142800" y="1356840"/>
            <a:ext cx="85824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Прямая со стрелкой 11"/>
          <p:cNvCxnSpPr/>
          <p:nvPr/>
        </p:nvCxnSpPr>
        <p:spPr>
          <a:xfrm>
            <a:off x="5357880" y="1356840"/>
            <a:ext cx="92952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1714680"/>
            <a:ext cx="8229600" cy="45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мос – «одинаковый»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нима – «имя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611280" y="0"/>
            <a:ext cx="85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Monotype Corsiva"/>
              </a:rPr>
              <a:t>Омонимы – это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и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m0-tub.mail.ru/i?id=102547883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28800" y="221472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im2-tub.mail.ru/i?id=53056481&amp;tov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67280" y="2357280"/>
            <a:ext cx="373716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рис - ир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im4-tub.mail.ru/i?id=19212165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2357280"/>
            <a:ext cx="3365640" cy="2500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http://im4-tub.mail.ru/i?id=145787133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29120" y="2357280"/>
            <a:ext cx="3684600" cy="25797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ая соединительная линия 6"/>
          <p:cNvSpPr/>
          <p:nvPr/>
        </p:nvSpPr>
        <p:spPr>
          <a:xfrm flipH="1">
            <a:off x="3928680" y="500040"/>
            <a:ext cx="7164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ая соединительная линия 7"/>
          <p:cNvSpPr/>
          <p:nvPr/>
        </p:nvSpPr>
        <p:spPr>
          <a:xfrm flipH="1">
            <a:off x="5000760" y="500040"/>
            <a:ext cx="6192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MG_0022"/>
          <p:cNvPicPr/>
          <p:nvPr/>
        </p:nvPicPr>
        <p:blipFill>
          <a:blip r:embed="rId1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http://im7-tub.mail.ru/i?id=93834389&amp;tov=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85920" y="2592360"/>
            <a:ext cx="3049560" cy="226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im7-tub.mail.ru/i?id=32987446&amp;tov=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3680" y="2666880"/>
            <a:ext cx="3224160" cy="2119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5:44:28Z</dcterms:created>
  <dc:creator>Анатолий</dc:creator>
  <dc:description/>
  <dc:language>en-US</dc:language>
  <cp:lastModifiedBy>компьютер</cp:lastModifiedBy>
  <dcterms:modified xsi:type="dcterms:W3CDTF">2009-12-08T19:38:18Z</dcterms:modified>
  <cp:revision>39</cp:revision>
  <dc:subject>Омонимы</dc:subject>
  <dc:title>Омонимы</dc:title>
</cp:coreProperties>
</file>