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C25-B46E-4A59-889F-C84AC87D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80A-55A0-45E8-BA7F-005847F4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699-8C13-4FE5-AF5E-27B94751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514-F200-4D3F-B1AE-698F5F61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A1BD-2746-4710-9887-D4D7BF39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1C31-9044-48A9-99EF-3E9465F6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4896-7321-4CAC-883E-D0A894E0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B2AD-49E3-4341-990B-DD29A151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6ED3-75D0-4EF9-9471-DCB29799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3050-07AC-4BE7-A559-7E6D0A82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449-C321-4E4F-A3B9-B109129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8EF-F4B9-4B02-90A6-783CAA89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D84D-ED64-4692-B144-60B0650D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06CE-3A9B-4155-8640-36DC70A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E1D2-264B-4AE2-ADD6-C32E8DB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658-2018-4C4C-92C6-098B52D9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03E4-0D19-4B1A-8977-5DB72C88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886E-5536-4A78-BC40-56459FB8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3C19-1153-4FBB-80FE-9AEB15D4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8684-9673-4F0B-9410-BDA3AD51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4942-7C23-41CE-B77F-42F40094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E5C1-172B-451E-96AC-D18C874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C39-5A7D-4885-BD5A-F6B73C3C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E8F0-D482-4180-8E3E-F0866E69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EF33-C45F-478F-854F-59BBA03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B066-AF93-4D60-9024-3C73D80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63E8-1B0E-4EC1-84B2-3164F44E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34C0-DCDA-4867-AD62-AFF2D512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09E7-1B8D-43D9-9B21-31E7BC29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DD50-F6A4-4731-880D-F568764F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24E6-E05F-4EBB-B489-432292A6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E733-897E-4AEB-8D13-A6BB797E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9B55-FD1E-4DCE-94CD-AEA6C1ED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F7E-CF2D-4632-84DC-DA11C19E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69DD-59A7-4307-AF67-E8F16212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CAE4-AB6C-432E-B4CF-F68B1464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52AF-1FD3-43A2-9629-1C6EA11C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253F-A155-454E-BC00-77687188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B8BC-CE29-4A5A-8BA3-46D27F8F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ECF2-53FA-40E4-8B3A-E618909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2AE6-1F57-42E0-9194-B3B686FD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CC851-9D59-429E-85B9-59B83DC5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B617-C03F-41A9-A8BF-B139F90E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090-84BC-43B5-9BB2-60AF596D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6E3-DEA0-4619-92DC-63331BA2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F6F-C9F2-4B62-BE17-7DF46AD6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0FC-DED5-48A5-86F5-8F8489F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7FF-229A-42BC-9F59-E8A9D44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FDEA-7875-420C-9FAF-FA48063BB72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E707-2F20-4780-8F8A-C628CF63C57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EEFC-216E-4F70-B860-383ECAB4BCE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B0E7-545A-40C2-9EF4-71A672284CB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jpeg"/><Relationship Id="rId3" Type="http://schemas.openxmlformats.org/officeDocument/2006/relationships/image" Target="../media/image21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2986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креплять правильное произношение звуков [з], [ж] в слогах, словах, чистоговорках, во фразовой реч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ь детей различать эти звуки на слух и в произношени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wallpaper_25_19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2" descr="4813-b-Kukla_Gnomik_Trolya.jpg"/>
          <p:cNvPicPr/>
          <p:nvPr/>
        </p:nvPicPr>
        <p:blipFill>
          <a:blip r:embed="rId2"/>
          <a:stretch/>
        </p:blipFill>
        <p:spPr>
          <a:xfrm>
            <a:off x="0" y="3772080"/>
            <a:ext cx="2630520" cy="30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5" descr="275px-Brachinus_spPCCA20060328-2821B.jpg"/>
          <p:cNvPicPr/>
          <p:nvPr/>
        </p:nvPicPr>
        <p:blipFill>
          <a:blip r:embed="rId1"/>
          <a:stretch/>
        </p:blipFill>
        <p:spPr>
          <a:xfrm>
            <a:off x="4286160" y="2428920"/>
            <a:ext cx="4579920" cy="3281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гадай загад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4" descr="d0bad0bed0bcd0b0d180.jpg"/>
          <p:cNvPicPr/>
          <p:nvPr/>
        </p:nvPicPr>
        <p:blipFill>
          <a:blip r:embed="rId2"/>
          <a:stretch/>
        </p:blipFill>
        <p:spPr>
          <a:xfrm>
            <a:off x="457200" y="2119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одержимое 5" descr="275px-Brachinus_spPCCA20060328-2821B.jpg"/>
          <p:cNvPicPr/>
          <p:nvPr/>
        </p:nvPicPr>
        <p:blipFill>
          <a:blip r:embed="rId1"/>
          <a:stretch/>
        </p:blipFill>
        <p:spPr>
          <a:xfrm>
            <a:off x="5643720" y="1643040"/>
            <a:ext cx="2792160" cy="2000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дели на команд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4" descr="d0bad0bed0bcd0b0d180.jpg"/>
          <p:cNvPicPr/>
          <p:nvPr/>
        </p:nvPicPr>
        <p:blipFill>
          <a:blip r:embed="rId2"/>
          <a:stretch/>
        </p:blipFill>
        <p:spPr>
          <a:xfrm>
            <a:off x="500040" y="1571760"/>
            <a:ext cx="2614680" cy="26143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67132_preview3.jpg"/>
          <p:cNvPicPr/>
          <p:nvPr/>
        </p:nvPicPr>
        <p:blipFill>
          <a:blip r:embed="rId3"/>
          <a:stretch/>
        </p:blipFill>
        <p:spPr>
          <a:xfrm>
            <a:off x="3000240" y="3357720"/>
            <a:ext cx="2941920" cy="31431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26974.jpg"/>
          <p:cNvPicPr/>
          <p:nvPr/>
        </p:nvPicPr>
        <p:blipFill>
          <a:blip r:embed="rId4"/>
          <a:stretch/>
        </p:blipFill>
        <p:spPr>
          <a:xfrm>
            <a:off x="2786040" y="4000680"/>
            <a:ext cx="3068640" cy="22381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9" descr="0_55ddb_d8d6a8dd_XL.jpeg"/>
          <p:cNvPicPr/>
          <p:nvPr/>
        </p:nvPicPr>
        <p:blipFill>
          <a:blip r:embed="rId5"/>
          <a:stretch/>
        </p:blipFill>
        <p:spPr>
          <a:xfrm>
            <a:off x="3143160" y="3429000"/>
            <a:ext cx="2424240" cy="31510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0" descr="t_-576330287_body.jpg"/>
          <p:cNvPicPr/>
          <p:nvPr/>
        </p:nvPicPr>
        <p:blipFill>
          <a:blip r:embed="rId6"/>
          <a:stretch/>
        </p:blipFill>
        <p:spPr>
          <a:xfrm>
            <a:off x="2857680" y="385776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2" descr="0018764b.jpg"/>
          <p:cNvPicPr/>
          <p:nvPr/>
        </p:nvPicPr>
        <p:blipFill>
          <a:blip r:embed="rId7"/>
          <a:stretch/>
        </p:blipFill>
        <p:spPr>
          <a:xfrm>
            <a:off x="3000240" y="3976560"/>
            <a:ext cx="2792520" cy="2881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1" descr="PGV4201_05_A.jpg"/>
          <p:cNvPicPr/>
          <p:nvPr/>
        </p:nvPicPr>
        <p:blipFill>
          <a:blip r:embed="rId8"/>
          <a:stretch/>
        </p:blipFill>
        <p:spPr>
          <a:xfrm>
            <a:off x="3000240" y="3714840"/>
            <a:ext cx="290520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37413 -0.00509 E">
                                      <p:cBhvr>
                                        <p:cTn id="32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9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твертый лишн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4" descr="0018764b.jpg"/>
          <p:cNvPicPr/>
          <p:nvPr/>
        </p:nvPicPr>
        <p:blipFill>
          <a:blip r:embed="rId1"/>
          <a:stretch/>
        </p:blipFill>
        <p:spPr>
          <a:xfrm>
            <a:off x="1285920" y="1714680"/>
            <a:ext cx="1914480" cy="197460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5" descr="t_-576330287_body.jpg"/>
          <p:cNvPicPr/>
          <p:nvPr/>
        </p:nvPicPr>
        <p:blipFill>
          <a:blip r:embed="rId2"/>
          <a:stretch/>
        </p:blipFill>
        <p:spPr>
          <a:xfrm>
            <a:off x="5072040" y="177624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melinaofsweden-323.jpg"/>
          <p:cNvPicPr/>
          <p:nvPr/>
        </p:nvPicPr>
        <p:blipFill>
          <a:blip r:embed="rId3"/>
          <a:stretch/>
        </p:blipFill>
        <p:spPr>
          <a:xfrm>
            <a:off x="1071720" y="3929040"/>
            <a:ext cx="2143080" cy="2451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01labgi0l1238705044.jpg"/>
          <p:cNvPicPr/>
          <p:nvPr/>
        </p:nvPicPr>
        <p:blipFill>
          <a:blip r:embed="rId4"/>
          <a:stretch/>
        </p:blipFill>
        <p:spPr>
          <a:xfrm>
            <a:off x="5357880" y="3786120"/>
            <a:ext cx="1927080" cy="242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твертый лишн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4" descr="0018764b.jpg"/>
          <p:cNvPicPr/>
          <p:nvPr/>
        </p:nvPicPr>
        <p:blipFill>
          <a:blip r:embed="rId1"/>
          <a:stretch/>
        </p:blipFill>
        <p:spPr>
          <a:xfrm>
            <a:off x="1501920" y="1714680"/>
            <a:ext cx="1481040" cy="197460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5" descr="t_-576330287_body.jpg"/>
          <p:cNvPicPr/>
          <p:nvPr/>
        </p:nvPicPr>
        <p:blipFill>
          <a:blip r:embed="rId2"/>
          <a:stretch/>
        </p:blipFill>
        <p:spPr>
          <a:xfrm>
            <a:off x="5384880" y="1776240"/>
            <a:ext cx="1874880" cy="1874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melinaofsweden-323.jpg"/>
          <p:cNvPicPr/>
          <p:nvPr/>
        </p:nvPicPr>
        <p:blipFill>
          <a:blip r:embed="rId3"/>
          <a:stretch/>
        </p:blipFill>
        <p:spPr>
          <a:xfrm>
            <a:off x="1071720" y="4083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01labgi0l1238705044.jpg"/>
          <p:cNvPicPr/>
          <p:nvPr/>
        </p:nvPicPr>
        <p:blipFill>
          <a:blip r:embed="rId4"/>
          <a:stretch/>
        </p:blipFill>
        <p:spPr>
          <a:xfrm>
            <a:off x="5386320" y="3786120"/>
            <a:ext cx="1870200" cy="242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твертый лишн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4" descr="0018764b.jpg"/>
          <p:cNvPicPr/>
          <p:nvPr/>
        </p:nvPicPr>
        <p:blipFill>
          <a:blip r:embed="rId1"/>
          <a:stretch/>
        </p:blipFill>
        <p:spPr>
          <a:xfrm>
            <a:off x="1285920" y="2003400"/>
            <a:ext cx="1914480" cy="139716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5" descr="t_-576330287_body.jpg"/>
          <p:cNvPicPr/>
          <p:nvPr/>
        </p:nvPicPr>
        <p:blipFill>
          <a:blip r:embed="rId2"/>
          <a:stretch/>
        </p:blipFill>
        <p:spPr>
          <a:xfrm>
            <a:off x="5072040" y="1819440"/>
            <a:ext cx="2500200" cy="17906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melinaofsweden-323.jpg"/>
          <p:cNvPicPr/>
          <p:nvPr/>
        </p:nvPicPr>
        <p:blipFill>
          <a:blip r:embed="rId3"/>
          <a:stretch/>
        </p:blipFill>
        <p:spPr>
          <a:xfrm>
            <a:off x="5357880" y="3714840"/>
            <a:ext cx="1635120" cy="24508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7" descr="01labgi0l1238705044.jpg"/>
          <p:cNvPicPr/>
          <p:nvPr/>
        </p:nvPicPr>
        <p:blipFill>
          <a:blip r:embed="rId4"/>
          <a:stretch/>
        </p:blipFill>
        <p:spPr>
          <a:xfrm>
            <a:off x="1428840" y="4071960"/>
            <a:ext cx="1927080" cy="170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Содержимое 3" descr="_obshestvo_2500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4813-b-Kukla_Gnomik_Trolya.jpg"/>
          <p:cNvPicPr/>
          <p:nvPr/>
        </p:nvPicPr>
        <p:blipFill>
          <a:blip r:embed="rId2"/>
          <a:stretch/>
        </p:blipFill>
        <p:spPr>
          <a:xfrm>
            <a:off x="6643800" y="3929040"/>
            <a:ext cx="22525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7:23:01Z</dcterms:created>
  <dc:creator>Ириша</dc:creator>
  <dc:description/>
  <dc:language>en-US</dc:language>
  <cp:lastModifiedBy>Ириша</cp:lastModifiedBy>
  <dcterms:modified xsi:type="dcterms:W3CDTF">2011-12-17T17:51:50Z</dcterms:modified>
  <cp:revision>4</cp:revision>
  <dc:subject/>
  <dc:title>Дифференциация звуков з-ж</dc:title>
</cp:coreProperties>
</file>