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69A1-2583-4299-AB0C-5613A03B0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1CB4-3E4A-4DDF-97AD-9152CB244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BC0C-7C51-429D-8F31-C826ACB92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BB8A-4DF0-4790-BCD5-4EFFF528D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B553E-29F2-44A3-A01B-B44BB01B5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75600-5F96-473E-9275-ED75F54DA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2046A-0C5E-46BD-A291-4FDD0827B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68853-DBDD-4A53-9A03-85023AA02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FF143-20DD-4D49-B007-7656CA1E0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8699D-2183-47BE-A117-FF79D41AF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B7C8A-9546-4677-8F4E-3F9A3B72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E226-16A7-4C7A-B481-9388176DD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79218-13B2-4B75-A116-234E55B7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89B6C-580A-4ACC-897A-A2C52CB5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1116B-43B7-492C-9C56-0B0A189D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52843-B03E-4698-9258-BD0C97886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1925B-A68E-4870-8B87-4E84E26D6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FB86-90B0-45DA-8BD9-2F00B6BE6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7042-00B5-4F00-9148-E52D40817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2F22-03AB-4038-A475-20CAFB411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CBCD-8DFF-4806-AA77-F4E128287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4B6B-52A7-4577-B249-52AF988A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A01E-13A7-4538-B62F-0771D081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E711-3F2A-43F8-A3B2-0BD9C3D6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>
                    <a:gd name="textAreaLeft" fmla="*/ 360 w 473760"/>
                    <a:gd name="textAreaRight" fmla="*/ 474480 w 473760"/>
                    <a:gd name="textAreaTop" fmla="*/ 0 h 1215000"/>
                    <a:gd name="textAreaBottom" fmla="*/ 1215360 h 12150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498960"/>
                    <a:gd name="textAreaBottom" fmla="*/ 499320 h 49896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3880"/>
                    <a:gd name="textAreaBottom" fmla="*/ 84240 h 8388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2360"/>
                  <a:gd name="textAreaBottom" fmla="*/ 252720 h 2523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B92FA-065F-4BC2-B75C-2BFCB2BB116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>
                  <a:gd name="textAreaLeft" fmla="*/ 0 w 2116080"/>
                  <a:gd name="textAreaRight" fmla="*/ 2116440 w 2116080"/>
                  <a:gd name="textAreaTop" fmla="*/ 360 h 2357280"/>
                  <a:gd name="textAreaBottom" fmla="*/ 2358000 h 235728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843480"/>
                  <a:gd name="textAreaBottom" fmla="*/ 843480 h 84348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>
                  <a:gd name="textAreaLeft" fmla="*/ 0 w 439560"/>
                  <a:gd name="textAreaRight" fmla="*/ 439920 w 439560"/>
                  <a:gd name="textAreaTop" fmla="*/ 360 h 395280"/>
                  <a:gd name="textAreaBottom" fmla="*/ 396000 h 39528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>
                  <a:gd name="textAreaLeft" fmla="*/ 0 w 389160"/>
                  <a:gd name="textAreaRight" fmla="*/ 389520 w 389160"/>
                  <a:gd name="textAreaTop" fmla="*/ 360 h 550800"/>
                  <a:gd name="textAreaBottom" fmla="*/ 551520 h 55080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-360 h 142920"/>
                  <a:gd name="textAreaBottom" fmla="*/ 142920 h 14292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>
                  <a:gd name="textAreaLeft" fmla="*/ 0 w 523800"/>
                  <a:gd name="textAreaRight" fmla="*/ 524160 w 523800"/>
                  <a:gd name="textAreaTop" fmla="*/ 360 h 3268800"/>
                  <a:gd name="textAreaBottom" fmla="*/ 3269520 h 326880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>
                <a:gd name="textAreaLeft" fmla="*/ 360 w 512640"/>
                <a:gd name="textAreaRight" fmla="*/ 513360 w 512640"/>
                <a:gd name="textAreaTop" fmla="*/ 0 h 1030680"/>
                <a:gd name="textAreaBottom" fmla="*/ 1031040 h 103068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>
                <a:gd name="textAreaLeft" fmla="*/ 0 w 1998720"/>
                <a:gd name="textAreaRight" fmla="*/ 1999080 w 199872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>
                <a:gd name="textAreaLeft" fmla="*/ 0 w 1271520"/>
                <a:gd name="textAreaRight" fmla="*/ 1271880 w 12715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>
                <a:gd name="textAreaLeft" fmla="*/ -360 w 561960"/>
                <a:gd name="textAreaRight" fmla="*/ 561960 w 56196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>
                <a:gd name="textAreaLeft" fmla="*/ 360 w 138240"/>
                <a:gd name="textAreaRight" fmla="*/ 138960 w 13824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>
                <a:gd name="textAreaLeft" fmla="*/ 0 w 1758960"/>
                <a:gd name="textAreaRight" fmla="*/ 1759320 w 175896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9440"/>
                  <a:gd name="textAreaBottom" fmla="*/ 379800 h 3794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5000"/>
                  <a:gd name="textAreaBottom" fmla="*/ 315360 h 3150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560"/>
                  <a:gd name="textAreaBottom" fmla="*/ 160920 h 1605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361440"/>
                  <a:gd name="textAreaBottom" fmla="*/ 361800 h 3614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300240"/>
                  <a:gd name="textAreaBottom" fmla="*/ 300600 h 3002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>
                  <a:gd name="textAreaLeft" fmla="*/ 0 w 320040"/>
                  <a:gd name="textAreaRight" fmla="*/ 320400 w 320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>
                  <a:gd name="textAreaLeft" fmla="*/ 0 w 251640"/>
                  <a:gd name="textAreaRight" fmla="*/ 252000 w 251640"/>
                  <a:gd name="textAreaTop" fmla="*/ 0 h 298800"/>
                  <a:gd name="textAreaBottom" fmla="*/ 299160 h 298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>
                  <a:gd name="textAreaLeft" fmla="*/ 0 w 430560"/>
                  <a:gd name="textAreaRight" fmla="*/ 430920 w 430560"/>
                  <a:gd name="textAreaTop" fmla="*/ 0 h 248400"/>
                  <a:gd name="textAreaBottom" fmla="*/ 248760 h 248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>
                  <a:gd name="textAreaLeft" fmla="*/ 0 w 450000"/>
                  <a:gd name="textAreaRight" fmla="*/ 450360 w 45000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>
                  <a:gd name="textAreaLeft" fmla="*/ -360 w 356040"/>
                  <a:gd name="textAreaRight" fmla="*/ 356040 w 356040"/>
                  <a:gd name="textAreaTop" fmla="*/ 0 h 531000"/>
                  <a:gd name="textAreaBottom" fmla="*/ 531360 h 5310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>
                  <a:gd name="textAreaLeft" fmla="*/ 360 w 609120"/>
                  <a:gd name="textAreaRight" fmla="*/ 609840 w 609120"/>
                  <a:gd name="textAreaTop" fmla="*/ 0 h 441720"/>
                  <a:gd name="textAreaBottom" fmla="*/ 442080 h 4417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>
                  <a:gd name="textAreaLeft" fmla="*/ -360 w 636840"/>
                  <a:gd name="textAreaRight" fmla="*/ 636840 w 6368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>
                  <a:gd name="textAreaLeft" fmla="*/ -360 w 356040"/>
                  <a:gd name="textAreaRight" fmla="*/ 356040 w 35604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>
                  <a:gd name="textAreaLeft" fmla="*/ 360 w 609120"/>
                  <a:gd name="textAreaRight" fmla="*/ 609840 w 609120"/>
                  <a:gd name="textAreaTop" fmla="*/ 0 h 441360"/>
                  <a:gd name="textAreaBottom" fmla="*/ 441720 h 4413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>
                  <a:gd name="textAreaLeft" fmla="*/ -360 w 636840"/>
                  <a:gd name="textAreaRight" fmla="*/ 636840 w 6368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>
                <a:gd name="textAreaLeft" fmla="*/ 0 w 1368360"/>
                <a:gd name="textAreaRight" fmla="*/ 1368720 w 1368360"/>
                <a:gd name="textAreaTop" fmla="*/ 0 h 1406520"/>
                <a:gd name="textAreaBottom" fmla="*/ 1406520 h 1406520"/>
              </a:gdLst>
              <a:ahLst/>
              <a:rect l="textAreaLeft" t="textAreaTop" r="textAreaRight" b="textAreaBottom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360 h 370080"/>
                <a:gd name="textAreaBottom" fmla="*/ 370800 h 370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8B294-54B0-4B63-A0A5-045621EF079D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6666"/>
                </a:solidFill>
                <a:latin typeface="Verdana"/>
              </a:rPr>
              <a:t>Масштаб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TextBox 4"/>
          <p:cNvSpPr/>
          <p:nvPr/>
        </p:nvSpPr>
        <p:spPr>
          <a:xfrm>
            <a:off x="2700360" y="4221000"/>
            <a:ext cx="388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Математика, география 6 класс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Учитель 1 категории МОУ «СОШ № 9» Вышлова Л.В. и учитель высшей категории МОУ «СОШ № 9» Клочков А.А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4" descr="start"/>
          <p:cNvPicPr/>
          <p:nvPr/>
        </p:nvPicPr>
        <p:blipFill>
          <a:blip r:embed="rId1"/>
          <a:stretch/>
        </p:blipFill>
        <p:spPr>
          <a:xfrm>
            <a:off x="17928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" descr="2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120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4" descr="Измерение высоты холма"/>
          <p:cNvPicPr/>
          <p:nvPr/>
        </p:nvPicPr>
        <p:blipFill>
          <a:blip r:embed="rId1"/>
          <a:stretch/>
        </p:blipFill>
        <p:spPr>
          <a:xfrm>
            <a:off x="2031840" y="1523880"/>
            <a:ext cx="5080320" cy="38102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5" descr="Изображение холма на плане"/>
          <p:cNvPicPr/>
          <p:nvPr/>
        </p:nvPicPr>
        <p:blipFill>
          <a:blip r:embed="rId1"/>
          <a:stretch/>
        </p:blipFill>
        <p:spPr>
          <a:xfrm>
            <a:off x="2031840" y="1523880"/>
            <a:ext cx="5080320" cy="38102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Масштаб"/>
          <p:cNvPicPr/>
          <p:nvPr/>
        </p:nvPicPr>
        <p:blipFill>
          <a:blip r:embed="rId1"/>
          <a:stretch/>
        </p:blipFill>
        <p:spPr>
          <a:xfrm>
            <a:off x="826920" y="981000"/>
            <a:ext cx="7620120" cy="50770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9640" y="2492280"/>
            <a:ext cx="8244000" cy="131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Разновидности карт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4" descr="Карта основных зон землетрясений"/>
          <p:cNvPicPr/>
          <p:nvPr/>
        </p:nvPicPr>
        <p:blipFill>
          <a:blip r:embed="rId1"/>
          <a:stretch/>
        </p:blipFill>
        <p:spPr>
          <a:xfrm>
            <a:off x="324000" y="40464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Карта полезных ископаемых"/>
          <p:cNvPicPr/>
          <p:nvPr/>
        </p:nvPicPr>
        <p:blipFill>
          <a:blip r:embed="rId1"/>
          <a:stretch/>
        </p:blipFill>
        <p:spPr>
          <a:xfrm>
            <a:off x="324000" y="476280"/>
            <a:ext cx="8351640" cy="59054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Карта растительности"/>
          <p:cNvPicPr/>
          <p:nvPr/>
        </p:nvPicPr>
        <p:blipFill>
          <a:blip r:embed="rId1"/>
          <a:stretch/>
        </p:blipFill>
        <p:spPr>
          <a:xfrm>
            <a:off x="395280" y="260280"/>
            <a:ext cx="8497800" cy="6408720"/>
          </a:xfrm>
          <a:prstGeom prst="rect">
            <a:avLst/>
          </a:prstGeom>
          <a:ln w="0">
            <a:noFill/>
          </a:ln>
        </p:spPr>
      </p:pic>
      <p:sp>
        <p:nvSpPr>
          <p:cNvPr id="197" name="AutoShape 5">
            <a:hlinkClick r:id="rId2" action="ppaction://hlinksldjump"/>
          </p:cNvPr>
          <p:cNvSpPr/>
          <p:nvPr/>
        </p:nvSpPr>
        <p:spPr>
          <a:xfrm>
            <a:off x="8244000" y="6165720"/>
            <a:ext cx="720720" cy="50328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926" h="21600">
                <a:moveTo>
                  <a:pt x="0" y="0"/>
                </a:moveTo>
                <a:lnTo>
                  <a:pt x="30926" y="0"/>
                </a:lnTo>
                <a:lnTo>
                  <a:pt x="30926" y="21600"/>
                </a:lnTo>
                <a:lnTo>
                  <a:pt x="0" y="21600"/>
                </a:lnTo>
                <a:close/>
              </a:path>
              <a:path fill="lightenLess" w="30926" h="21600">
                <a:moveTo>
                  <a:pt x="0" y="0"/>
                </a:moveTo>
                <a:lnTo>
                  <a:pt x="30926" y="0"/>
                </a:lnTo>
                <a:lnTo>
                  <a:pt x="29526" y="1400"/>
                </a:lnTo>
                <a:lnTo>
                  <a:pt x="1400" y="1400"/>
                </a:lnTo>
                <a:close/>
              </a:path>
              <a:path fill="darken" w="30926" h="21600">
                <a:moveTo>
                  <a:pt x="30926" y="0"/>
                </a:moveTo>
                <a:lnTo>
                  <a:pt x="30926" y="21600"/>
                </a:lnTo>
                <a:lnTo>
                  <a:pt x="29526" y="20200"/>
                </a:lnTo>
                <a:lnTo>
                  <a:pt x="29526" y="1400"/>
                </a:lnTo>
                <a:close/>
              </a:path>
              <a:path fill="darkenLess" w="30926" h="21600">
                <a:moveTo>
                  <a:pt x="30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26" y="20200"/>
                </a:lnTo>
                <a:close/>
              </a:path>
              <a:path fill="lighten" w="30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26" h="21600">
                <a:moveTo>
                  <a:pt x="8456" y="7493"/>
                </a:moveTo>
                <a:lnTo>
                  <a:pt x="11964" y="7493"/>
                </a:lnTo>
                <a:lnTo>
                  <a:pt x="11964" y="12828"/>
                </a:lnTo>
                <a:cubicBezTo>
                  <a:pt x="11964" y="13751"/>
                  <a:pt x="12765" y="14482"/>
                  <a:pt x="13800" y="14482"/>
                </a:cubicBezTo>
                <a:lnTo>
                  <a:pt x="15463" y="14482"/>
                </a:lnTo>
                <a:cubicBezTo>
                  <a:pt x="16498" y="14482"/>
                  <a:pt x="17299" y="13751"/>
                  <a:pt x="17299" y="12828"/>
                </a:cubicBezTo>
                <a:lnTo>
                  <a:pt x="17299" y="7493"/>
                </a:lnTo>
                <a:lnTo>
                  <a:pt x="15463" y="7493"/>
                </a:lnTo>
                <a:lnTo>
                  <a:pt x="18970" y="3985"/>
                </a:lnTo>
                <a:lnTo>
                  <a:pt x="22643" y="7493"/>
                </a:lnTo>
                <a:lnTo>
                  <a:pt x="20807" y="7493"/>
                </a:lnTo>
                <a:lnTo>
                  <a:pt x="20807" y="12828"/>
                </a:lnTo>
                <a:cubicBezTo>
                  <a:pt x="20807" y="15596"/>
                  <a:pt x="18231" y="18155"/>
                  <a:pt x="15463" y="18155"/>
                </a:cubicBezTo>
                <a:lnTo>
                  <a:pt x="13800" y="18155"/>
                </a:lnTo>
                <a:cubicBezTo>
                  <a:pt x="11033" y="18155"/>
                  <a:pt x="8456" y="15596"/>
                  <a:pt x="8456" y="12828"/>
                </a:cubicBez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Ответь на вопросы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Что нового узнали на уроке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Что понравилось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Что называется масштабом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акие масштабы бывают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Проверь себ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№ 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799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100% - х кг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49,5% - 29,7 кг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х = (29,7 ∙ 100) : 49,5 = 60 (кг)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Ответ: надо взять 60 кг семян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№ 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800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80 кг – 100%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14 кг – х%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х = (14 ∙ 100) : 80 = 17,5%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Ответ: 17,5% крахмала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№ 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801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80 кг – 100%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х кг – 47%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х = (80 ∙ 47) : 100 = 37,6 (кг)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Ответ: 37,6 кг масл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Домашнее задани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Математика: п. 23, № 824, 827, 830(б)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География: 1. Определить расстояние между объектами на плане местности в школьном атласе. 2. Выполнить план школьного участка в масштабе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1 : 4000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WordArt 4"/>
          <p:cNvSpPr txBox="1"/>
          <p:nvPr/>
        </p:nvSpPr>
        <p:spPr>
          <a:xfrm>
            <a:off x="826920" y="692280"/>
            <a:ext cx="731520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за урок! До скорой встречи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3" name="Picture 5" descr="Икебана"/>
          <p:cNvPicPr/>
          <p:nvPr/>
        </p:nvPicPr>
        <p:blipFill>
          <a:blip r:embed="rId1"/>
          <a:stretch/>
        </p:blipFill>
        <p:spPr>
          <a:xfrm>
            <a:off x="395280" y="3500280"/>
            <a:ext cx="3233880" cy="2468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Дельфин"/>
          <p:cNvPicPr/>
          <p:nvPr/>
        </p:nvPicPr>
        <p:blipFill>
          <a:blip r:embed="rId2"/>
          <a:stretch/>
        </p:blipFill>
        <p:spPr>
          <a:xfrm>
            <a:off x="4716360" y="1916280"/>
            <a:ext cx="3902040" cy="2609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Устная работ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Дайте определение пропорции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Сформулируйте основное свойство пропорции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Составьте три пропорции, используя верное равенство: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а) 18 : 2 = 54 : 6;         б) 4,5 : 1,5 = 1,26 : 0,42;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в) 2,8 ∙ 45 = 6,3 ∙ 20;    г) 3,9 ∙ 0,14 = 0,6 ∙ 0,9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Решите уравнение: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а) х : 5 = 20 : 25;   б) 3 : х = 18 : 42;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в) 5 : 6 = х : 36;     г) 3 : 5 = 21 :  х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Выразить: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а) в км: 30000м, 500000см, 75000000мм;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б) в м: 3 км, 500 см, 25000 мм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Участки земной поверхности изображаются на бумаге в уменьшенном виде.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4" name="Picture 4" descr="Маршрутная съемка"/>
          <p:cNvPicPr/>
          <p:nvPr/>
        </p:nvPicPr>
        <p:blipFill>
          <a:blip r:embed="rId1"/>
          <a:stretch/>
        </p:blipFill>
        <p:spPr>
          <a:xfrm>
            <a:off x="1403280" y="1773360"/>
            <a:ext cx="6629400" cy="43434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Отношение длины отрезка на карте к длине соответствующего отрезка на местности называют масштабом карты.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М 1: 100000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Говорят, что карта сделана в масштабе одна стотысячная. Это означает, что 1 см на карте соответствует 100000 см =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= 1000 м = 1 км на местности.    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7"/>
              <p:cNvSpPr txBox="1"/>
              <p:nvPr/>
            </p:nvSpPr>
            <p:spPr>
              <a:xfrm>
                <a:off x="3708360" y="1700280"/>
                <a:ext cx="1600200" cy="12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Примеры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Задача 1. Длина отрезка на карте 5 см. Найти длину соответствующего отрезка на местности, если масштаб карты 1 : 1000000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Решение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5см – х см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М 1:1000000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5 : х = 1 : 1000000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х = 5 ∙ 1000000 = 5000000 см = 50000 м = 50 км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Ответ: 50 км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Задача 2. Длина отрезка на местности 7,5 км. Чему равна длина этого отрезка на карте, сделанной в масштабе 1:100000?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Решение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х – 7,5 км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М1:100000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х : 7,5 = 1 : 100000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х = 7,5 : 100000 = 0,000075 км = 0,075 м = 7,5 см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Ответ: 7,5 см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Реши сам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№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1. Определите по карте (рис. 36 учебника) расстояние от опушки леса ( точка А) до точки пересечения дороги с рекой. Масштаб карты 1 : 100000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№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2. Отрезку на карте, длина которого 3,6 см, соответствует расстояние на местности в 72 км. Каково расстояние между городами, если на этой карте расстояние между ними 12,6 см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3,6 см – 72 км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12,6 см – х км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Подумай и реши сам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Расстояние между городами А и В на карте равно 8,5 см. Найдите расстояние на местности, если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масштаб карты                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4"/>
              <p:cNvSpPr txBox="1"/>
              <p:nvPr/>
            </p:nvSpPr>
            <p:spPr>
              <a:xfrm>
                <a:off x="4356000" y="3429000"/>
                <a:ext cx="1838520" cy="12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3:04:54Z</dcterms:created>
  <dc:creator>User</dc:creator>
  <dc:description/>
  <dc:language>en-US</dc:language>
  <cp:lastModifiedBy>каб матаматики</cp:lastModifiedBy>
  <dcterms:modified xsi:type="dcterms:W3CDTF">2011-10-03T07:50:59Z</dcterms:modified>
  <cp:revision>5</cp:revision>
  <dc:subject/>
  <dc:title>Масштаб</dc:title>
</cp:coreProperties>
</file>