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4.gif" ContentType="image/gif"/>
  <Override PartName="/ppt/media/image16.jpeg" ContentType="image/jpeg"/>
  <Override PartName="/ppt/media/image22.wmf" ContentType="image/x-wmf"/>
  <Override PartName="/ppt/media/image7.jpeg" ContentType="image/jpeg"/>
  <Override PartName="/ppt/media/image12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424-A21C-4D28-A492-3F9BF9A6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63B-61B3-43CA-97BB-301CFF03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B79-F1D9-4161-8F5E-9FBFDB94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AB8-1A51-4658-93A4-5E25CA44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CD185-4382-4C72-A1CC-C4DAFDA2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B3E48-B2CE-4EEF-97F0-2B3035B9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FFBA0-D780-4807-9D04-77FAA694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12BB1-80E8-4814-B04F-42329A3F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C8204-D6C3-47DC-89D8-44415B71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35B81-F208-4387-AA6A-6B38811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BBFE-C3CB-4167-86E3-89CF28BA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734-8BE0-49BD-A2EA-B0598DF5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2C57F-DD42-4C45-8354-64C77DB4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F6BB3-9F99-4F5A-8820-94A630F3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554B-EAC1-43DC-96B3-EBEC54C3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06A2E-5D5E-4AC1-A65A-2EE5F8DD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F9A22-8643-473D-AFA8-48AD0EDA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F6B-DDC5-40D9-8CD8-6FE6ABAD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8E6-1804-4910-8004-E6FAD73E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617-4C35-491A-A061-1332DCB0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DC2-F159-4827-A364-69782B2D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029-0925-4000-9F7C-7426765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DEF-411C-42CC-8DC0-D774FB89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A6F-95A6-4F23-9410-CD97F75A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5859-0402-4866-B114-E00BF81C3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D36B-A2D7-4ABD-A47A-F7704145DB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«Чему я научился: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умножать и делить»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(Обобщающий урок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47960" y="4038120"/>
            <a:ext cx="41907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Матема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2-а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елка4"/>
          <p:cNvPicPr/>
          <p:nvPr/>
        </p:nvPicPr>
        <p:blipFill>
          <a:blip r:embed="rId1"/>
          <a:stretch/>
        </p:blipFill>
        <p:spPr>
          <a:xfrm>
            <a:off x="228600" y="2666880"/>
            <a:ext cx="3114720" cy="396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6553080" y="774720"/>
            <a:ext cx="23623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533520" y="3809880"/>
            <a:ext cx="822960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М О Л О Д Ц Ы !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pic>
        <p:nvPicPr>
          <p:cNvPr id="128" name="Picture 5" descr="елка4"/>
          <p:cNvPicPr/>
          <p:nvPr/>
        </p:nvPicPr>
        <p:blipFill>
          <a:blip r:embed="rId1"/>
          <a:stretch/>
        </p:blipFill>
        <p:spPr>
          <a:xfrm>
            <a:off x="3200400" y="304920"/>
            <a:ext cx="2816280" cy="3581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vitrina"/>
          <p:cNvPicPr/>
          <p:nvPr/>
        </p:nvPicPr>
        <p:blipFill>
          <a:blip r:embed="rId2"/>
          <a:stretch/>
        </p:blipFill>
        <p:spPr>
          <a:xfrm>
            <a:off x="380880" y="5181480"/>
            <a:ext cx="1268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"/>
          <p:cNvPicPr/>
          <p:nvPr/>
        </p:nvPicPr>
        <p:blipFill>
          <a:blip r:embed="rId1"/>
          <a:stretch/>
        </p:blipFill>
        <p:spPr>
          <a:xfrm>
            <a:off x="1828800" y="228600"/>
            <a:ext cx="4600440" cy="6400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6662880" y="228600"/>
            <a:ext cx="219996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122400" y="3124080"/>
            <a:ext cx="158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beautiful-christmas-tree"/>
          <p:cNvPicPr/>
          <p:nvPr/>
        </p:nvPicPr>
        <p:blipFill>
          <a:blip r:embed="rId1"/>
          <a:stretch/>
        </p:blipFill>
        <p:spPr>
          <a:xfrm>
            <a:off x="2057400" y="150480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468600" cy="316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christmas-gift"/>
          <p:cNvPicPr/>
          <p:nvPr/>
        </p:nvPicPr>
        <p:blipFill>
          <a:blip r:embed="rId3"/>
          <a:stretch/>
        </p:blipFill>
        <p:spPr>
          <a:xfrm>
            <a:off x="228600" y="2971800"/>
            <a:ext cx="1617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685800"/>
          <a:ext cx="8229600" cy="1158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156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517840" cy="3956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10"/>
          <p:cNvSpPr/>
          <p:nvPr/>
        </p:nvSpPr>
        <p:spPr>
          <a:xfrm>
            <a:off x="3886200" y="2362320"/>
            <a:ext cx="411480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Ё Л К 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211"/>
          <p:cNvSpPr/>
          <p:nvPr/>
        </p:nvSpPr>
        <p:spPr>
          <a:xfrm>
            <a:off x="3886200" y="3886200"/>
            <a:ext cx="480060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 Г Р У Ш К 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212"/>
          <p:cNvSpPr/>
          <p:nvPr/>
        </p:nvSpPr>
        <p:spPr>
          <a:xfrm>
            <a:off x="3886200" y="5410080"/>
            <a:ext cx="480060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 О Д А Р К 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hristmastree"/>
          <p:cNvPicPr/>
          <p:nvPr/>
        </p:nvPicPr>
        <p:blipFill>
          <a:blip r:embed="rId1"/>
          <a:stretch/>
        </p:blipFill>
        <p:spPr>
          <a:xfrm>
            <a:off x="5486400" y="2133720"/>
            <a:ext cx="2857680" cy="3314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hristmastree"/>
          <p:cNvPicPr/>
          <p:nvPr/>
        </p:nvPicPr>
        <p:blipFill>
          <a:blip r:embed="rId2"/>
          <a:stretch/>
        </p:blipFill>
        <p:spPr>
          <a:xfrm>
            <a:off x="2819520" y="1295280"/>
            <a:ext cx="2857320" cy="3314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hristmastree"/>
          <p:cNvPicPr/>
          <p:nvPr/>
        </p:nvPicPr>
        <p:blipFill>
          <a:blip r:embed="rId3"/>
          <a:stretch/>
        </p:blipFill>
        <p:spPr>
          <a:xfrm>
            <a:off x="228600" y="380880"/>
            <a:ext cx="2857680" cy="3314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5791320" y="457200"/>
            <a:ext cx="320040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6х5=30(ел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133720" y="5562720"/>
            <a:ext cx="320040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8:3=6 (д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9" descr="елка4"/>
          <p:cNvPicPr/>
          <p:nvPr/>
        </p:nvPicPr>
        <p:blipFill>
          <a:blip r:embed="rId4"/>
          <a:stretch/>
        </p:blipFill>
        <p:spPr>
          <a:xfrm>
            <a:off x="2743200" y="685800"/>
            <a:ext cx="311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five_toys1"/>
          <p:cNvPicPr/>
          <p:nvPr/>
        </p:nvPicPr>
        <p:blipFill>
          <a:blip r:embed="rId1"/>
          <a:stretch/>
        </p:blipFill>
        <p:spPr>
          <a:xfrm>
            <a:off x="304920" y="533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584081"/>
          <p:cNvPicPr/>
          <p:nvPr/>
        </p:nvPicPr>
        <p:blipFill>
          <a:blip r:embed="rId2"/>
          <a:stretch/>
        </p:blipFill>
        <p:spPr>
          <a:xfrm>
            <a:off x="6172200" y="1523880"/>
            <a:ext cx="2666880" cy="234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1253279490_cat-bayun-by-waldemar-kazak-on-deviantart-red-cat"/>
          <p:cNvPicPr/>
          <p:nvPr/>
        </p:nvPicPr>
        <p:blipFill>
          <a:blip r:embed="rId3"/>
          <a:stretch/>
        </p:blipFill>
        <p:spPr>
          <a:xfrm>
            <a:off x="5410080" y="228600"/>
            <a:ext cx="1832040" cy="25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188874481_0"/>
          <p:cNvPicPr/>
          <p:nvPr/>
        </p:nvPicPr>
        <p:blipFill>
          <a:blip r:embed="rId4"/>
          <a:stretch/>
        </p:blipFill>
        <p:spPr>
          <a:xfrm>
            <a:off x="3962520" y="2971800"/>
            <a:ext cx="3295440" cy="29923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380880" y="3429000"/>
            <a:ext cx="342900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5х3=15 (и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28600" y="5181480"/>
            <a:ext cx="358128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8:4=7 (и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2133720" y="380880"/>
            <a:ext cx="320040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1:3=7 (яб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295280" y="1219320"/>
            <a:ext cx="4038840" cy="7617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0:3=10 (к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14600" y="3048120"/>
            <a:ext cx="2819520" cy="6094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:3=1 (и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828800" y="2133720"/>
            <a:ext cx="350532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4:3=8 (м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0" descr="christmas-presents"/>
          <p:cNvPicPr/>
          <p:nvPr/>
        </p:nvPicPr>
        <p:blipFill>
          <a:blip r:embed="rId1"/>
          <a:stretch/>
        </p:blipFill>
        <p:spPr>
          <a:xfrm>
            <a:off x="5486400" y="2438280"/>
            <a:ext cx="2324160" cy="2154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hristmas-gift"/>
          <p:cNvPicPr/>
          <p:nvPr/>
        </p:nvPicPr>
        <p:blipFill>
          <a:blip r:embed="rId2"/>
          <a:stretch/>
        </p:blipFill>
        <p:spPr>
          <a:xfrm>
            <a:off x="6705720" y="228600"/>
            <a:ext cx="2278080" cy="2362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_476ade30277cd"/>
          <p:cNvPicPr/>
          <p:nvPr/>
        </p:nvPicPr>
        <p:blipFill>
          <a:blip r:embed="rId3"/>
          <a:stretch/>
        </p:blipFill>
        <p:spPr>
          <a:xfrm>
            <a:off x="228600" y="3733920"/>
            <a:ext cx="2876400" cy="2876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3"/>
          <p:cNvSpPr/>
          <p:nvPr/>
        </p:nvSpPr>
        <p:spPr>
          <a:xfrm>
            <a:off x="2514600" y="3809880"/>
            <a:ext cx="2819520" cy="6098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6:3=2 (ш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6629400" y="3657600"/>
            <a:ext cx="2317680" cy="2987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7"/>
          <p:cNvSpPr/>
          <p:nvPr/>
        </p:nvSpPr>
        <p:spPr>
          <a:xfrm>
            <a:off x="3429000" y="1219320"/>
            <a:ext cx="3962520" cy="2666880"/>
          </a:xfrm>
          <a:prstGeom prst="wedgeRoundRectCallout">
            <a:avLst>
              <a:gd name="adj1" fmla="val 34333"/>
              <a:gd name="adj2" fmla="val 89402"/>
              <a:gd name="adj3" fmla="val 166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кие умения вам понадобились чтобы помочь Бабе Яг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1533600" cy="331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3"/>
          <a:stretch/>
        </p:blipFill>
        <p:spPr>
          <a:xfrm>
            <a:off x="1447920" y="533520"/>
            <a:ext cx="17143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752480" y="2590920"/>
            <a:ext cx="579132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 научился в 1 полугод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Рисунок 2" descr="j0437561[1]"/>
          <p:cNvPicPr/>
          <p:nvPr/>
        </p:nvPicPr>
        <p:blipFill>
          <a:blip r:embed="rId1"/>
          <a:stretch/>
        </p:blipFill>
        <p:spPr>
          <a:xfrm>
            <a:off x="304920" y="374760"/>
            <a:ext cx="3429000" cy="21114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j0440438[1]"/>
          <p:cNvPicPr/>
          <p:nvPr/>
        </p:nvPicPr>
        <p:blipFill>
          <a:blip r:embed="rId2"/>
          <a:stretch/>
        </p:blipFill>
        <p:spPr>
          <a:xfrm>
            <a:off x="228600" y="3505320"/>
            <a:ext cx="2131920" cy="31240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j0440424[1]"/>
          <p:cNvPicPr/>
          <p:nvPr/>
        </p:nvPicPr>
        <p:blipFill>
          <a:blip r:embed="rId3"/>
          <a:stretch/>
        </p:blipFill>
        <p:spPr>
          <a:xfrm>
            <a:off x="5867280" y="457200"/>
            <a:ext cx="2924280" cy="24004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j0434399[1]"/>
          <p:cNvPicPr/>
          <p:nvPr/>
        </p:nvPicPr>
        <p:blipFill>
          <a:blip r:embed="rId4"/>
          <a:stretch/>
        </p:blipFill>
        <p:spPr>
          <a:xfrm>
            <a:off x="5791320" y="4038480"/>
            <a:ext cx="30877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ернядьева</cp:lastModifiedBy>
  <dcterms:modified xsi:type="dcterms:W3CDTF">2010-12-23T12:21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