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30092F-ADA1-4CDA-BC45-BEE467AEBE6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-360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816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0520"/>
            <a:ext cx="822816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7B207F-54C2-4526-A4EC-BF4791DC2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-360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44756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052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89052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973690-57E3-4DD2-959E-C48B44B99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-360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24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447560"/>
            <a:ext cx="264924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447560"/>
            <a:ext cx="264924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0520"/>
            <a:ext cx="264924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890520"/>
            <a:ext cx="264924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890520"/>
            <a:ext cx="264924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5DAB2F-0804-4840-B912-09284594653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79A679-E910-4CAF-8E32-FD78EDE6E26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-360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8160" cy="467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75A5F1-BFA2-4C58-9C50-6C1CA35DE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-360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816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04F8E1-6BCD-45C2-AEE5-7D6E55B4E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08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3520" y="1447560"/>
            <a:ext cx="401508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919898-6C78-4838-94A5-EE2B2E11F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360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9F58B4-C463-4D4E-B37C-62152B6FF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-3600"/>
            <a:ext cx="8228160" cy="636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28D946-E141-4740-A428-0FBA70457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-360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3520" y="1447560"/>
            <a:ext cx="401508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052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A59116-E267-4201-A09C-E86B885A9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-360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8160" cy="467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5A4C3F-7057-42BD-9ADC-11E39203D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360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08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3520" y="144756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3520" y="389052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ED26FE-9632-4E69-8ABD-CE7CE8A64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360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3520" y="144756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0520"/>
            <a:ext cx="822816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37DDE2-97A0-462B-BD89-482469348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360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816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0520"/>
            <a:ext cx="822816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B775E2-0A22-4314-AE69-C12E0CB0C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-360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3520" y="144756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052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3520" y="389052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3B0701-756D-42D7-A4A7-200F5345C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-360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24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280" y="1447560"/>
            <a:ext cx="264924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1360" y="1447560"/>
            <a:ext cx="264924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0520"/>
            <a:ext cx="264924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280" y="3890520"/>
            <a:ext cx="264924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1360" y="3890520"/>
            <a:ext cx="264924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34FBA8-0E79-4E26-BC1A-57B37D9F8D0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8829E-7BD6-4D64-BF82-E0961105458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-360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8160" cy="467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056CC-4CA0-43E7-9CA5-7C833DF9C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-360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816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ED4B1-65D3-4219-8B43-D49511095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-360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08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3520" y="1447560"/>
            <a:ext cx="401508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10BFF-7C90-47DE-BE53-E21EF4872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-360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C1DA9-9DCF-41EC-96B4-AF2636F00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360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816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90C010-868B-451E-9616-67C8D9B1E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-3600"/>
            <a:ext cx="8228160" cy="636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C84BE-F40F-4C7E-8603-CD7F2AD42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-360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3520" y="1447560"/>
            <a:ext cx="401508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052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FDAE1-A495-48BD-9C25-992A8CE18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-360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08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3520" y="144756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3520" y="389052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F1AA7-D3F7-4653-AAEC-241A81315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-360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3520" y="144756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0520"/>
            <a:ext cx="822816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D8DAA-9FD2-497B-81FC-2DC66CA5E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816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0520"/>
            <a:ext cx="822816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36ED9-23EE-411E-9A48-512FC487E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-360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3520" y="144756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052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3520" y="389052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5A2C0-4EA9-443C-A92F-EB28EFB3B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24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280" y="1447560"/>
            <a:ext cx="264924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1360" y="1447560"/>
            <a:ext cx="264924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0520"/>
            <a:ext cx="264924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280" y="3890520"/>
            <a:ext cx="264924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1360" y="3890520"/>
            <a:ext cx="264924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40A6F-2813-470D-A5BD-1B9341DA7C1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C0037E9-EE4E-46E4-93DB-EFD7AF51169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-360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8160" cy="467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1D18466-C7C4-4E86-BDED-5A162488B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-360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816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97224F1-8886-4BE8-B261-325220E55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-360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08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447560"/>
            <a:ext cx="401508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8AAF5E-451F-4A34-9479-8ECBD4BE0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-360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08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520" y="1447560"/>
            <a:ext cx="401508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F78DD21-4873-4E67-BE81-994D59A3E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-360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5691327-1455-483C-A1DC-DFCCB456C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-3600"/>
            <a:ext cx="8228160" cy="636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01849D3-844F-4DEE-9C70-2DF4A637F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-360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520" y="1447560"/>
            <a:ext cx="401508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052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FEC9D41-C5D6-4A3D-9C90-219C06F96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-360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08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520" y="144756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520" y="389052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F240BA0-1CFE-4C2E-AD71-D071AF06D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-360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520" y="144756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0520"/>
            <a:ext cx="822816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17870C2-DAF1-44C8-ABD5-FFE121599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-360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816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0520"/>
            <a:ext cx="822816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A752C5D-8768-4675-AF72-7D945CD56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-360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520" y="144756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052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520" y="389052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3E0A37A-B48E-4A40-80A2-744CE690B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-360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24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280" y="1447560"/>
            <a:ext cx="264924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1360" y="1447560"/>
            <a:ext cx="264924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0520"/>
            <a:ext cx="264924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280" y="3890520"/>
            <a:ext cx="264924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1360" y="3890520"/>
            <a:ext cx="264924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2849AB5-F420-45E8-BDCC-A4D0793BBDA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3F16960-D389-4AB1-A566-09C72C3BB93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-360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E536F1-652A-4F9D-B80E-43CD7672D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-360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8160" cy="467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2DC2147-63B5-4640-ACC8-1940E50D1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-360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816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C3AFF8B-4FEE-4A10-961F-F7B96F308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-360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08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3520" y="1447560"/>
            <a:ext cx="401508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B21E184-E85C-4859-9755-ADCAB073D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-360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4BC4D72-B597-440A-ACC9-208767764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-3600"/>
            <a:ext cx="8228160" cy="636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442415D-199E-4222-8E9C-E5E0670DF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-360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3520" y="1447560"/>
            <a:ext cx="401508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89052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1A2EF2C-2EE3-45B1-8DE7-D9509ED8B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-360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08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3520" y="144756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3520" y="389052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F55411B-CCFC-4B0F-9B5A-731AEDE2D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-360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520" y="144756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890520"/>
            <a:ext cx="822816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B55AD74-89F7-4685-B5BF-08D906839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-360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816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890520"/>
            <a:ext cx="822816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7531331-B876-4141-A79B-6E863F704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-360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3520" y="144756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89052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3520" y="389052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42D81D8-85F1-4151-8C5E-CC97F8060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-3600"/>
            <a:ext cx="8228160" cy="636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E6BA5D-5BB4-4C28-93AB-02EDA69F2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-360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24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280" y="1447560"/>
            <a:ext cx="264924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1360" y="1447560"/>
            <a:ext cx="264924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890520"/>
            <a:ext cx="264924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280" y="3890520"/>
            <a:ext cx="264924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1360" y="3890520"/>
            <a:ext cx="264924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6E0048D-F803-4DDD-A5F4-13570A33F40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05E8B9-FFB9-44FC-A82D-EC8811641E2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-360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8160" cy="467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26F38D-BC89-4AC8-B1FB-E23F294A6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-360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816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B061E3-BEF9-4E90-B85E-A5168807F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-360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08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3520" y="1447560"/>
            <a:ext cx="401508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60218B-86B2-4069-95B5-EA2F20ED7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-360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109157-4D98-47BC-8E57-AE933E68A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-3600"/>
            <a:ext cx="8228160" cy="636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906A31-3A41-467A-B8D5-A1BD93D2A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-360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3520" y="1447560"/>
            <a:ext cx="401508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89052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A5D563-9C82-4FC5-8695-597DF1E12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-360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08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3520" y="144756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3520" y="389052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C9DF88-7A63-4A62-BD32-27BF64552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-360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3520" y="144756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890520"/>
            <a:ext cx="822816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80761B-587B-4916-8C33-0421DEE2D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360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447560"/>
            <a:ext cx="401508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052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CED6CA-C3B6-48E2-A756-F0EF842D6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-360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816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890520"/>
            <a:ext cx="822816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B53ED7-1E5E-4409-B523-E98078A0D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-360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3520" y="144756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89052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3520" y="389052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27EED4-0D20-41AA-B0F0-EC3242E1A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-360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24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280" y="1447560"/>
            <a:ext cx="264924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1360" y="1447560"/>
            <a:ext cx="264924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890520"/>
            <a:ext cx="264924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280" y="3890520"/>
            <a:ext cx="264924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1360" y="3890520"/>
            <a:ext cx="264924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949AAD-B226-459C-A1C2-1E59515BD0E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-360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08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44756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89052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D81630-18E4-4D37-A646-8F3127B90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-360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44756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0520"/>
            <a:ext cx="822816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35E62E-33EE-4463-B766-6694EA19F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816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89120" cy="38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2"/>
          </p:nvPr>
        </p:nvSpPr>
        <p:spPr>
          <a:xfrm>
            <a:off x="8410320" y="6181560"/>
            <a:ext cx="60804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3D2F751-596C-417A-B8F2-98516F1AEE83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-360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3" name="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816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-360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3"/>
          </p:nvPr>
        </p:nvSpPr>
        <p:spPr>
          <a:xfrm>
            <a:off x="5791320" y="6203520"/>
            <a:ext cx="2589120" cy="3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4"/>
          </p:nvPr>
        </p:nvSpPr>
        <p:spPr>
          <a:xfrm>
            <a:off x="8410320" y="6181560"/>
            <a:ext cx="60804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159B221-B279-4D7D-86B5-59372E992CE3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816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-360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5"/>
          </p:nvPr>
        </p:nvSpPr>
        <p:spPr>
          <a:xfrm>
            <a:off x="5791320" y="6203520"/>
            <a:ext cx="2589120" cy="38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8410320" y="6181560"/>
            <a:ext cx="60804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574C4EC-5A63-4049-A6A1-8BC7F33305CC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8" name="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816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-360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7"/>
          </p:nvPr>
        </p:nvSpPr>
        <p:spPr>
          <a:xfrm>
            <a:off x="8410320" y="6181560"/>
            <a:ext cx="60804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09A9F82-1943-49DD-9703-1CC26C7CA806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dt" idx="8"/>
          </p:nvPr>
        </p:nvSpPr>
        <p:spPr>
          <a:xfrm>
            <a:off x="5791320" y="6203520"/>
            <a:ext cx="2589120" cy="3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816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457200" y="-360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9"/>
          </p:nvPr>
        </p:nvSpPr>
        <p:spPr>
          <a:xfrm>
            <a:off x="5791320" y="6203520"/>
            <a:ext cx="2589120" cy="3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804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A026933-F595-4A55-9C8E-9F5667F1D56F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816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title"/>
          </p:nvPr>
        </p:nvSpPr>
        <p:spPr>
          <a:xfrm>
            <a:off x="457200" y="-360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1"/>
          </p:nvPr>
        </p:nvSpPr>
        <p:spPr>
          <a:xfrm>
            <a:off x="5791320" y="6203520"/>
            <a:ext cx="2589120" cy="3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sldNum" idx="12"/>
          </p:nvPr>
        </p:nvSpPr>
        <p:spPr>
          <a:xfrm>
            <a:off x="8410320" y="6181560"/>
            <a:ext cx="60804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C1AEB86-CC4F-43F2-86B9-D835CD981218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-206280" y="3789360"/>
            <a:ext cx="8305560" cy="12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fefac9"/>
                </a:solidFill>
                <a:latin typeface="Constantia"/>
              </a:rPr>
              <a:t>Камила Файзулина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fefac9"/>
                </a:solidFill>
                <a:latin typeface="Constantia"/>
              </a:rPr>
              <a:t>8 «А» класс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401760" y="1427040"/>
            <a:ext cx="8540640" cy="1992600"/>
            <a:chOff x="401760" y="1427040"/>
            <a:chExt cx="8540640" cy="1992600"/>
          </a:xfrm>
        </p:grpSpPr>
        <p:pic>
          <p:nvPicPr>
            <p:cNvPr id="254" name="" descr=""/>
            <p:cNvPicPr/>
            <p:nvPr/>
          </p:nvPicPr>
          <p:blipFill>
            <a:blip r:embed="rId2"/>
            <a:stretch/>
          </p:blipFill>
          <p:spPr>
            <a:xfrm>
              <a:off x="401760" y="1427040"/>
              <a:ext cx="8540640" cy="199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5" name=""/>
            <p:cNvSpPr/>
            <p:nvPr/>
          </p:nvSpPr>
          <p:spPr>
            <a:xfrm>
              <a:off x="401760" y="1427040"/>
              <a:ext cx="8540640" cy="199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214200" y="196920"/>
            <a:ext cx="87156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В 1848—49 гг. Невельской прошел из Кронштадта вокруг мыса Горн и прибыл в Петропавловск-Камчатский. Не получив там обещанного ему разрешения на опись Амура и Татарского пролива, капитан решил действовать самостоятельно, хотя знал о резолюции Николая I на донесении о результатах предыдущего обследования: «Весьма сожалею, вопрос об Амуре, как реке бесполезной, оставить». В июле 1849 г. он подошел к Сахалину с севера и приступил к описи и промерам. Невельской произвел исследование и составил описание северного побережья Сахалина, Сахалинского залива, вместе с лейтенантом П.В.Козакевичем исследовал устье Амура и доказал, что оно доступно для морских судов. Он окончательно установил, что Сахалин является островом, отделенным от материка узким (7,3 км), но судоходным проливом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0" name=""/>
          <p:cNvSpPr/>
          <p:nvPr/>
        </p:nvSpPr>
        <p:spPr>
          <a:xfrm>
            <a:off x="0" y="3286080"/>
            <a:ext cx="9144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В 1850—56 гг. Невельской руководил Амурской экспедицией, которая провела многочисленные исследования и описи низовьев Амура, Сахалина и проливов. В августе 1850 г. Невельской основал на мысе Куегда в ста верстах выше устья Амура пост Николаевский (ныне г. Николаевск-на-Амуре), а в 1853 г. — посты в заливе императора Николая I (ныне Советская Гавань) и в южной части Сахалина. Эти посты стали основой закрепления обширного края за Россией. Деятельность Невельского часто шла вразрез с мнением петербургской администрации и встречала ее противодействие. В 1856 г. Невельской остался не у дел и был отозван с Дальнего Востока в Петербург, где прожил два последние десятилетия своей жизни. Исследователь был назначен членом Ученого отдела Морского технического комитета, в 1874 г. произведен в адмиралы. Умер Невельской в Петербурге. Именем Невельского названы пролив (самая узкая часть Татарского пролива), залив, гора и г. Невельск на Сахалине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1" name=""/>
          <p:cNvGrpSpPr/>
          <p:nvPr/>
        </p:nvGrpSpPr>
        <p:grpSpPr>
          <a:xfrm>
            <a:off x="407880" y="396720"/>
            <a:ext cx="8212320" cy="968400"/>
            <a:chOff x="407880" y="396720"/>
            <a:chExt cx="8212320" cy="968400"/>
          </a:xfrm>
        </p:grpSpPr>
        <p:pic>
          <p:nvPicPr>
            <p:cNvPr id="292" name="" descr=""/>
            <p:cNvPicPr/>
            <p:nvPr/>
          </p:nvPicPr>
          <p:blipFill>
            <a:blip r:embed="rId2"/>
            <a:stretch/>
          </p:blipFill>
          <p:spPr>
            <a:xfrm>
              <a:off x="407880" y="396720"/>
              <a:ext cx="8212320" cy="96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3" name=""/>
            <p:cNvSpPr/>
            <p:nvPr/>
          </p:nvSpPr>
          <p:spPr>
            <a:xfrm>
              <a:off x="407880" y="396720"/>
              <a:ext cx="8212320" cy="96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</p:grpSp>
      <p:sp>
        <p:nvSpPr>
          <p:cNvPr id="294" name=""/>
          <p:cNvSpPr/>
          <p:nvPr/>
        </p:nvSpPr>
        <p:spPr>
          <a:xfrm>
            <a:off x="685800" y="1714680"/>
            <a:ext cx="7924680" cy="42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639720"/>
                <a:tab algn="l" pos="1554120"/>
                <a:tab algn="l" pos="2468520"/>
                <a:tab algn="l" pos="3382920"/>
                <a:tab algn="l" pos="4297320"/>
                <a:tab algn="l" pos="5211720"/>
                <a:tab algn="l" pos="6126120"/>
                <a:tab algn="l" pos="7040520"/>
                <a:tab algn="l" pos="7954920"/>
                <a:tab algn="l" pos="8869320"/>
                <a:tab algn="l" pos="97837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efac9"/>
                </a:solidFill>
                <a:latin typeface="Constantia"/>
              </a:rPr>
              <a:t>http://ru.wikipedia.org/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5" name=""/>
          <p:cNvSpPr/>
          <p:nvPr/>
        </p:nvSpPr>
        <p:spPr>
          <a:xfrm>
            <a:off x="642960" y="2214720"/>
            <a:ext cx="566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http://about-openers.ru/n4.html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219240" y="146160"/>
            <a:ext cx="8474040" cy="1231920"/>
            <a:chOff x="219240" y="146160"/>
            <a:chExt cx="8474040" cy="1231920"/>
          </a:xfrm>
        </p:grpSpPr>
        <p:pic>
          <p:nvPicPr>
            <p:cNvPr id="257" name="" descr=""/>
            <p:cNvPicPr/>
            <p:nvPr/>
          </p:nvPicPr>
          <p:blipFill>
            <a:blip r:embed="rId2"/>
            <a:stretch/>
          </p:blipFill>
          <p:spPr>
            <a:xfrm>
              <a:off x="219240" y="146160"/>
              <a:ext cx="8474040" cy="123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8" name=""/>
            <p:cNvSpPr/>
            <p:nvPr/>
          </p:nvSpPr>
          <p:spPr>
            <a:xfrm>
              <a:off x="219240" y="146160"/>
              <a:ext cx="8474040" cy="12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</p:grpSp>
      <p:sp>
        <p:nvSpPr>
          <p:cNvPr id="259" name=""/>
          <p:cNvSpPr/>
          <p:nvPr/>
        </p:nvSpPr>
        <p:spPr>
          <a:xfrm>
            <a:off x="457200" y="1523880"/>
            <a:ext cx="405936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7144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Дата рождения:</a:t>
            </a: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	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1440" indent="-27144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8 (19) ноября 1770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1440" indent="-27144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Место рождения:</a:t>
            </a: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	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1440" indent="-27144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Хаггуд (близ Раппеля), Российская империя (нынешняя Эстония)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1440" indent="-27144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Дата смерти:</a:t>
            </a: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	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1440" indent="-27144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12 (24) августа 1846 (75 лет)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1440" indent="-27144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Место смерти:</a:t>
            </a: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	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1440" indent="-27144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Гильзенхоф (близ Везенберга), Эстляндская губерния, Российская империя (нынешняя Эстония)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5091120" y="1695600"/>
            <a:ext cx="3174840" cy="4228920"/>
            <a:chOff x="5091120" y="1695600"/>
            <a:chExt cx="3174840" cy="4228920"/>
          </a:xfrm>
        </p:grpSpPr>
        <p:pic>
          <p:nvPicPr>
            <p:cNvPr id="261" name="" descr=""/>
            <p:cNvPicPr/>
            <p:nvPr/>
          </p:nvPicPr>
          <p:blipFill>
            <a:blip r:embed="rId3"/>
            <a:stretch/>
          </p:blipFill>
          <p:spPr>
            <a:xfrm>
              <a:off x="5091120" y="1695600"/>
              <a:ext cx="3174840" cy="422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2" name=""/>
            <p:cNvSpPr/>
            <p:nvPr/>
          </p:nvSpPr>
          <p:spPr>
            <a:xfrm>
              <a:off x="5091120" y="1695600"/>
              <a:ext cx="3174840" cy="42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42960" y="196920"/>
            <a:ext cx="80722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7 августа 1803 г. корабли вышли из Кронштадта. В марте 1804 г. они обошли мыс Горн и вышли в Тихий океан, взяв курс на север. После посещения Маркизских и Гавайских островов «Надежда» пошла в Петропавловск-Камчатский, а «Нева» — в Новоархангельск на Аляску. С Камчатки Крузенштерн отплыл с посольством в Японию. Там корабль простоял почти семь месяцев в портовом г. Нагасаки, ожидая окончания переговоров посла Резанова с японцами. Посольство успеха не добилось, и в апреле 1805 г. корабль снова пошел на Камчатку, где посольство покинуло корабль. В ходе плавания Крузенштерн выполнил гидрографические исследования в Японском море и произвел опись части Курильских островов, Сахалина, Камчатки и некоторых Японских островов (западных берегов островов Хонсю и Хоккайдо)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4" name=""/>
          <p:cNvSpPr/>
          <p:nvPr/>
        </p:nvSpPr>
        <p:spPr>
          <a:xfrm>
            <a:off x="428760" y="3714840"/>
            <a:ext cx="59292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Однако он сделал ошибочный вывод о том, что Сахалин соединяется с материком южнее устья Амура, что позже было опровергнуто мореплавателем ТМ.Невельским. На обратном пути осенью 1805 г. «Надежда» и «Нева» встретились в китайском порту Кантон (Гуанчжоу), а летом 1806 г., обогнув с юга Африку, прибыли в Кронштадт. Экспедиция Крузенштерна нанесла на карту ряд островов в Тихом океане, выполнила обширные астрономические и метеорологические исследования, собрала ценные природоведческие и этнографические материалы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428760" y="500040"/>
            <a:ext cx="64292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Результаты своего кругосветного плавания Крузенштерн изложил в книге «Путешествие вокруг света в 1803, 1804, 1805 и 1806 гг. на кораблях «Надежда» и «Нева» (т. 1—3, 1809—1812). Он также опубликовал Атлас Южного моря (т. 1—2, 1823—26) со множеством карт и пояснительным текстом к нему. По возвращении из плавания Крузенштерн продолжал службу в чине капитана 1-го ранга на военном корабле, затем в Морском кадетском корпусе (с 1811 г. — инспектор, в 1827—42 гг. —директор)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6" name=""/>
          <p:cNvSpPr/>
          <p:nvPr/>
        </p:nvSpPr>
        <p:spPr>
          <a:xfrm>
            <a:off x="1571760" y="3286080"/>
            <a:ext cx="7143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За свои научные заслуги мореплаватель был избран в 1806 г. почетным членом Петербургской академии наук. Он являлся членом-учредителем Русского географического общества, членом Лондонского королевского общества и других научных учреждений. Умер Крузенштерн в г. Ревель (ныне Таллинн, в Эстонии). Его именем назван ряд островов, проливов, мысов, гор в Тихом океане, Карском море, гора на Новой Земле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7" name=""/>
          <p:cNvGrpSpPr/>
          <p:nvPr/>
        </p:nvGrpSpPr>
        <p:grpSpPr>
          <a:xfrm>
            <a:off x="219240" y="146160"/>
            <a:ext cx="8474040" cy="1231920"/>
            <a:chOff x="219240" y="146160"/>
            <a:chExt cx="8474040" cy="1231920"/>
          </a:xfrm>
        </p:grpSpPr>
        <p:pic>
          <p:nvPicPr>
            <p:cNvPr id="268" name="" descr=""/>
            <p:cNvPicPr/>
            <p:nvPr/>
          </p:nvPicPr>
          <p:blipFill>
            <a:blip r:embed="rId2"/>
            <a:stretch/>
          </p:blipFill>
          <p:spPr>
            <a:xfrm>
              <a:off x="219240" y="146160"/>
              <a:ext cx="8474040" cy="123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"/>
            <p:cNvSpPr/>
            <p:nvPr/>
          </p:nvSpPr>
          <p:spPr>
            <a:xfrm>
              <a:off x="219240" y="146160"/>
              <a:ext cx="8474040" cy="12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</p:grpSp>
      <p:sp>
        <p:nvSpPr>
          <p:cNvPr id="270" name=""/>
          <p:cNvSpPr/>
          <p:nvPr/>
        </p:nvSpPr>
        <p:spPr>
          <a:xfrm>
            <a:off x="457200" y="1523880"/>
            <a:ext cx="405936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7144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Дата рождения:</a:t>
            </a: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1440" indent="-27144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13 августа 1773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1440" indent="-27144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Место рождения:</a:t>
            </a: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1440" indent="-27144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город Нежин,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1440" indent="-27144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Нежинский полк,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1440" indent="-27144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Войско Запорожское (Гетьманщина) (автономия в составе Российской империи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1440" indent="-27144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(ныне — Черниговская область, Украина)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1440" indent="-27144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Гражданство:</a:t>
            </a: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1440" indent="-27144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Российская империя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1440" indent="-27144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Дата смерти:</a:t>
            </a: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1440" indent="-27144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6 марта 1837 (63 года)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1440" indent="-27144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Место смерти:</a:t>
            </a: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1440" indent="-27144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город Санкт-Петербург,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1440" indent="-27144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Российская империя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5091120" y="1860480"/>
            <a:ext cx="3174840" cy="3898800"/>
            <a:chOff x="5091120" y="1860480"/>
            <a:chExt cx="3174840" cy="3898800"/>
          </a:xfrm>
        </p:grpSpPr>
        <p:pic>
          <p:nvPicPr>
            <p:cNvPr id="272" name="" descr=""/>
            <p:cNvPicPr/>
            <p:nvPr/>
          </p:nvPicPr>
          <p:blipFill>
            <a:blip r:embed="rId3"/>
            <a:stretch/>
          </p:blipFill>
          <p:spPr>
            <a:xfrm>
              <a:off x="5091120" y="1860480"/>
              <a:ext cx="3174840" cy="389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3" name=""/>
            <p:cNvSpPr/>
            <p:nvPr/>
          </p:nvSpPr>
          <p:spPr>
            <a:xfrm>
              <a:off x="5091120" y="1860480"/>
              <a:ext cx="3174840" cy="389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857160" y="428760"/>
            <a:ext cx="6858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В 1803—06 гг. Лисянский участвовал в первой русской кругосветной экспедиции в качестве помощника ее начальника — И.Ф.Крузенштерна. Корабль «Нева», которым командовал Лисянский, должен был доставить в Русскую Америку продовольствие и другие товары, изучить состояние русских колоний, доставить оттуда груз пушнины в китайский порт Кантон (Гуанчжоу). 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5" name=""/>
          <p:cNvSpPr/>
          <p:nvPr/>
        </p:nvSpPr>
        <p:spPr>
          <a:xfrm>
            <a:off x="571680" y="2643120"/>
            <a:ext cx="82864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В августе 1803 г. корабли «Надежда» и «Нева» вышли из Кронштадта и, обогнув мыс Горн, до Гавайских островов шли вместе. От Гавайев до о. Кадьяк у побережья Аляски «Нева» совершала плавание самостоятельно. Более года Лисянский плавал у северо-западных берегов Русской Америки, обследовал о. Кадьяк и другие острова, произвел описание части побережья Аляски. За время своего путешествия в составе экспедиции Лисянский провел ряд океа-нографических исследований, составил описи и карты пройденных мест. Совместно с Крузенштерном он открыл неизвестные в то время межпассатные противотечения в Атлантическом и Тихом океанах, а также внес исправления и дополнения в карты морских течений, составленные Дж. Куком, Дж. Ванкувером и другими мореплавателями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357120" y="642960"/>
            <a:ext cx="85726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Лисянский установил главные острова в Архипелаге Александра у побережья Северной Америки и в проливе Чатем, названные им островами Чичагова, Якоби, Баранова, Крузова. В 1805 г. он открыл и описал в западной группе Гавайских островов небольшой коралловый остров, названный его именем. На обратном пути корабли экспедиции встретились в Кантоне и вместе шли до Южной Африки. В августе 1806 г. оба судна прибыли в Кронштадт. (Маршрут плавания см. на с. 210.) После окончания экспедиции Лисянский продолжал службу на Балтийском флоте, вышел в отставку в 1809 г. Результаты плавания он опубликовал в книге «Путешествие вокруг света в 1803—1806 годах... на корабле «Нева» (ч. 1—2, 1812). Умер путешественник в Петербурге. Именем Лисянского названы остров в Гавайском архипелаге, полуостров на северном побережье Охотского моря и гора на о. Сахалин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7" name=""/>
          <p:cNvGrpSpPr/>
          <p:nvPr/>
        </p:nvGrpSpPr>
        <p:grpSpPr>
          <a:xfrm>
            <a:off x="255600" y="23760"/>
            <a:ext cx="8437680" cy="1354320"/>
            <a:chOff x="255600" y="23760"/>
            <a:chExt cx="8437680" cy="1354320"/>
          </a:xfrm>
        </p:grpSpPr>
        <p:pic>
          <p:nvPicPr>
            <p:cNvPr id="278" name="" descr=""/>
            <p:cNvPicPr/>
            <p:nvPr/>
          </p:nvPicPr>
          <p:blipFill>
            <a:blip r:embed="rId2"/>
            <a:stretch/>
          </p:blipFill>
          <p:spPr>
            <a:xfrm>
              <a:off x="255600" y="23760"/>
              <a:ext cx="8437680" cy="135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9" name=""/>
            <p:cNvSpPr/>
            <p:nvPr/>
          </p:nvSpPr>
          <p:spPr>
            <a:xfrm>
              <a:off x="255600" y="23760"/>
              <a:ext cx="8437680" cy="135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</p:grpSp>
      <p:sp>
        <p:nvSpPr>
          <p:cNvPr id="280" name=""/>
          <p:cNvSpPr/>
          <p:nvPr/>
        </p:nvSpPr>
        <p:spPr>
          <a:xfrm>
            <a:off x="457200" y="1523880"/>
            <a:ext cx="405936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1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nstantia"/>
              </a:rPr>
              <a:t>Первое свое кругосветное плавание он совершил на судне «Суворов» в 1813—16 гг. Мореплаватель вышел из Кронштадта, обошел с юга Африку, посетил Австралию, Гавайские острова, в группе островов Кука в Полинезии открыл атолл Суворова. Затем он побывал в русских поселениях в Северной Америке. В 1819—21 гг. опытный морской офицер участвовал в качестве командира шлюпа «Мирный» и помощника начальника кругосветной экспедиции Ф.Ф.Беллинсгаузена в открытии Антарктиды и ряда островов в низких и антарктических широтах (описание экспедиции см. в статье о Ф.Беллинсгаузене; маршрут плавания Лазарева на с. 41). В 1822—25 гг. Лазарев на судне «Крейсер» осуществил третье кругосветное плавание по маршруту Кронштадт — Рио-де-Жанейро — мыс Доброй Надежды — Русская Америка — мыс Горн — Кронштадт. В ходе экспедиции были внесены уточнения в мореходные карты, собраны новые данные по океанографии, метеорологии, этнографии.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1" name=""/>
          <p:cNvSpPr/>
          <p:nvPr/>
        </p:nvSpPr>
        <p:spPr>
          <a:xfrm>
            <a:off x="4648320" y="1523880"/>
            <a:ext cx="40590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7144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nstantia"/>
              </a:rPr>
              <a:t>В последующие годы Лазарев служил на Балтийском и Черноморском флотах. Он был участником Наваринского сражения в 1827 г. в качестве командира линейного корабля «Азов» и начальником штаба русской эскадры. За отличие в бою произведен в контр-адмиралы. В 1833—50 гг. Лазарев служил главнокомандующим Черноморского флота и портов Черного моря. Им были подготовлены и изданы лоции Азовского и Черного морей. За свой вклад в науку адмирал был избран почетным членом Русского географического общества. Умер флотоводец в Вене, похоронен в Севастополе. Именем Лазарева названы море у берегов Восточной Антарктиды, атолл в группе островов Россиян в Тихом океане, мысы в Амурском лимане и в северной части острова Унимак, бухта и порт в Японском море.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"/>
          <p:cNvGrpSpPr/>
          <p:nvPr/>
        </p:nvGrpSpPr>
        <p:grpSpPr>
          <a:xfrm>
            <a:off x="219240" y="146160"/>
            <a:ext cx="8474040" cy="1231920"/>
            <a:chOff x="219240" y="146160"/>
            <a:chExt cx="8474040" cy="1231920"/>
          </a:xfrm>
        </p:grpSpPr>
        <p:pic>
          <p:nvPicPr>
            <p:cNvPr id="283" name="" descr=""/>
            <p:cNvPicPr/>
            <p:nvPr/>
          </p:nvPicPr>
          <p:blipFill>
            <a:blip r:embed="rId2"/>
            <a:stretch/>
          </p:blipFill>
          <p:spPr>
            <a:xfrm>
              <a:off x="219240" y="146160"/>
              <a:ext cx="8474040" cy="123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"/>
            <p:cNvSpPr/>
            <p:nvPr/>
          </p:nvSpPr>
          <p:spPr>
            <a:xfrm>
              <a:off x="219240" y="146160"/>
              <a:ext cx="8474040" cy="12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</p:grpSp>
      <p:sp>
        <p:nvSpPr>
          <p:cNvPr id="285" name=""/>
          <p:cNvSpPr/>
          <p:nvPr/>
        </p:nvSpPr>
        <p:spPr>
          <a:xfrm>
            <a:off x="457200" y="1523880"/>
            <a:ext cx="405936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7144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Дата рождения:</a:t>
            </a: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	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1440" indent="-27144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23 ноября (5 декабря) 1813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1440" indent="-27144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Место рождения:</a:t>
            </a: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	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1440" indent="-27144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Дракино, близ Солигалича,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1440" indent="-27144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Костромская губерния,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1440" indent="-27144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Российская империя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1440" indent="-27144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Гражданство:</a:t>
            </a: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	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1440" indent="-27144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Российская империя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1440" indent="-27144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Дата смерти:</a:t>
            </a: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	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1440" indent="-27144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17 (29) апреля 1876 (62 года)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1440" indent="-27144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Место смерти:</a:t>
            </a: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	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1440" indent="-27144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Санкт-Петербург,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1440" indent="-27144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Российская империя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4643280" y="1500120"/>
            <a:ext cx="3857760" cy="4929120"/>
            <a:chOff x="4643280" y="1500120"/>
            <a:chExt cx="3857760" cy="4929120"/>
          </a:xfrm>
        </p:grpSpPr>
        <p:pic>
          <p:nvPicPr>
            <p:cNvPr id="287" name="" descr=""/>
            <p:cNvPicPr/>
            <p:nvPr/>
          </p:nvPicPr>
          <p:blipFill>
            <a:blip r:embed="rId3"/>
            <a:stretch/>
          </p:blipFill>
          <p:spPr>
            <a:xfrm>
              <a:off x="4643280" y="1500120"/>
              <a:ext cx="3857760" cy="492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8" name=""/>
            <p:cNvSpPr/>
            <p:nvPr/>
          </p:nvSpPr>
          <p:spPr>
            <a:xfrm>
              <a:off x="4643280" y="1500120"/>
              <a:ext cx="3857760" cy="49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23T10:10:19Z</dcterms:created>
  <dc:creator>NickOn</dc:creator>
  <dc:description/>
  <dc:language>en-US</dc:language>
  <cp:lastModifiedBy>NickOn</cp:lastModifiedBy>
  <dcterms:modified xsi:type="dcterms:W3CDTF">2011-12-23T10:34:28Z</dcterms:modified>
  <cp:revision>3</cp:revision>
  <dc:subject/>
  <dc:title>Русские первооткрыватели и путешественники.</dc:title>
</cp:coreProperties>
</file>