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FFEE-9F8C-487E-A359-372DCFC52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08E0-1CE1-4EB4-8F3E-AE643B32D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F318-962F-4F6C-A5B7-DAAED509B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4F76-42BE-4BED-8C09-697D16316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D13F-F0DE-4D0A-8A36-11212D972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577A-3B03-4266-9344-E6097CE94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8E54-2242-41F3-920D-23E4A7CE6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2D23-A63A-45F9-8244-A8D321932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7BCD-A7AB-4BF1-B009-70D35EC2D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E540-F00D-45C9-A3F7-1AEB87DE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6386-2C92-4237-BA89-9D605CFF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2D90-5ED8-4775-A3FD-9D979232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52C3D-8895-42D2-87DF-2C07B662900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395280" y="404640"/>
            <a:ext cx="856944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усский язык 8 класс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Тема:    </a:t>
            </a: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Назывные предложения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Calibri"/>
              </a:rPr>
              <a:t>Перед вами громада – русский язык! Наслажденье глубокое зовет вас,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Calibri"/>
              </a:rPr>
              <a:t>наслажденье погрузиться во всю неизмеримость его и изловить чудные   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Calibri"/>
              </a:rPr>
              <a:t>законы его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Calibri"/>
              </a:rPr>
              <a:t>Н.В. Гоголь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250920" y="620640"/>
            <a:ext cx="8893080" cy="45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ru-RU" sz="4000" spc="-1" strike="noStrike" u="sng">
                <a:solidFill>
                  <a:srgbClr val="ffff00"/>
                </a:solidFill>
                <a:uFillTx/>
                <a:latin typeface="Calibri"/>
              </a:rPr>
              <a:t>Односоставные  предложени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 главным членом - </a:t>
            </a:r>
            <a:r>
              <a:rPr b="1" lang="ru-RU" sz="2000" spc="-1" strike="noStrike" u="sng">
                <a:solidFill>
                  <a:srgbClr val="ffff00"/>
                </a:solidFill>
                <a:uFillTx/>
                <a:latin typeface="Calibri"/>
              </a:rPr>
              <a:t>сказуемым</a:t>
            </a:r>
            <a:r>
              <a:rPr b="0" lang="ru-RU" sz="2000" spc="-1" strike="noStrike" u="sng">
                <a:solidFill>
                  <a:srgbClr val="ffff00"/>
                </a:solidFill>
                <a:uFillTx/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 главным членом – </a:t>
            </a:r>
            <a:r>
              <a:rPr b="1" lang="ru-RU" sz="2000" spc="-1" strike="noStrike" u="sng">
                <a:solidFill>
                  <a:srgbClr val="ffff00"/>
                </a:solidFill>
                <a:uFillTx/>
                <a:latin typeface="Calibri"/>
              </a:rPr>
              <a:t>подлежащим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1.Определенно-личные предложения           1.Назывные предложения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2.Неопределенно-личные предложения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3.Обобщенно-личные предложения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4.Безличные предложения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Стрелка вниз 2"/>
          <p:cNvSpPr/>
          <p:nvPr/>
        </p:nvSpPr>
        <p:spPr>
          <a:xfrm>
            <a:off x="2124000" y="1557360"/>
            <a:ext cx="432000" cy="503280"/>
          </a:xfrm>
          <a:prstGeom prst="downArrow">
            <a:avLst>
              <a:gd name="adj1" fmla="val 50000"/>
              <a:gd name="adj2" fmla="val 49928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Стрелка вниз 3"/>
          <p:cNvSpPr/>
          <p:nvPr/>
        </p:nvSpPr>
        <p:spPr>
          <a:xfrm>
            <a:off x="6156360" y="1628640"/>
            <a:ext cx="431640" cy="505080"/>
          </a:xfrm>
          <a:prstGeom prst="downArrow">
            <a:avLst>
              <a:gd name="adj1" fmla="val 50000"/>
              <a:gd name="adj2" fmla="val 50148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0" y="0"/>
            <a:ext cx="914400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Calibri"/>
              </a:rPr>
              <a:t>Определите, какие это односоставные предложения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1.Выглядываю в кусочек окна, не запушенный морозом, и не узнаю леса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2.Большой костер развели на берегу, против поселка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3.От пруда тянуло холодом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4.На шкурах расставят глиняные горшки с горячим отваром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5.Но, бывало, бродишь по лесу и не видишь ни одного птичьего гнезда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6.Необыкновенно тихо было в лесу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7.Сеют – плачут, молотят – скачут. (пословица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0" y="0"/>
            <a:ext cx="914400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00"/>
                </a:solidFill>
                <a:uFillTx/>
                <a:latin typeface="Calibri"/>
              </a:rPr>
              <a:t>Назывные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 – это односоставные предложения, которые имеют один главный    член – </a:t>
            </a:r>
            <a:r>
              <a:rPr b="1" lang="ru-RU" sz="4800" spc="-1" strike="noStrike" u="sng">
                <a:solidFill>
                  <a:srgbClr val="ffffff"/>
                </a:solidFill>
                <a:uFillTx/>
                <a:latin typeface="Calibri"/>
              </a:rPr>
              <a:t>подлежащее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ffff"/>
                </a:solidFill>
                <a:uFillTx/>
                <a:latin typeface="Calibri"/>
              </a:rPr>
              <a:t>Зима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. За окном </a:t>
            </a:r>
            <a:r>
              <a:rPr b="0" lang="ru-RU" sz="4800" spc="-1" strike="noStrike" u="sng">
                <a:solidFill>
                  <a:srgbClr val="ffffff"/>
                </a:solidFill>
                <a:uFillTx/>
                <a:latin typeface="Calibri"/>
              </a:rPr>
              <a:t>метель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ffff"/>
                </a:solidFill>
                <a:uFillTx/>
                <a:latin typeface="Calibri"/>
              </a:rPr>
              <a:t>Вот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 парадный </a:t>
            </a:r>
            <a:r>
              <a:rPr b="0" lang="ru-RU" sz="4800" spc="-1" strike="noStrike" u="sng">
                <a:solidFill>
                  <a:srgbClr val="ffffff"/>
                </a:solidFill>
                <a:uFillTx/>
                <a:latin typeface="Calibri"/>
              </a:rPr>
              <a:t>подъезд.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ffff"/>
                </a:solidFill>
                <a:uFillTx/>
                <a:latin typeface="Calibri"/>
              </a:rPr>
              <a:t>Ночь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. </a:t>
            </a:r>
            <a:r>
              <a:rPr b="0" lang="ru-RU" sz="4800" spc="-1" strike="noStrike" u="sng">
                <a:solidFill>
                  <a:srgbClr val="ffffff"/>
                </a:solidFill>
                <a:uFillTx/>
                <a:latin typeface="Calibri"/>
              </a:rPr>
              <a:t>Понедельник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. Мы готовы к новым испытаниям.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0" y="0"/>
            <a:ext cx="9144000" cy="81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Шепот, робкое дыханье,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Трели соловья,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Серебро и колыханье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Сонного ручья,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Свет ночной, ночные тени,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Тени без конца,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Ряд волшебных изменений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Милого лица,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В дымных тучках пурпур розы,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Отблеск янтаря,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И лобзания, и слезы,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И заря, заря!                                   </a:t>
            </a:r>
            <a:r>
              <a:rPr b="1" i="1" lang="ru-RU" sz="3600" spc="-1" strike="noStrike">
                <a:solidFill>
                  <a:srgbClr val="ffff00"/>
                </a:solidFill>
                <a:latin typeface="Calibri"/>
              </a:rPr>
              <a:t>А.А. Фет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0" y="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Calibri"/>
              </a:rPr>
              <a:t>                  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Calibri"/>
              </a:rPr>
              <a:t>                  </a:t>
            </a:r>
            <a:r>
              <a:rPr b="0" i="1" lang="ru-RU" sz="4400" spc="-1" strike="noStrike" u="sng">
                <a:solidFill>
                  <a:srgbClr val="ffff00"/>
                </a:solidFill>
                <a:uFillTx/>
                <a:latin typeface="Calibri"/>
              </a:rPr>
              <a:t>Это интересно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Умение родит хотение (пословица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02-01-04T08:41:00Z</dcterms:modified>
  <cp:revision>2</cp:revision>
  <dc:subject/>
  <dc:title>Слайд 1</dc:title>
</cp:coreProperties>
</file>