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300-D3D4-4608-AE1F-D0459B1F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1CE-E60F-4C7E-B54D-EE0FCC1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B73-7445-4FC3-B662-145CD794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0B0-30F7-47BE-A74B-84F3ADD2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CF7-18E8-47FB-B324-EC7DACD6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5CD-8ABD-48D8-9396-79C95E94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6B33-ED8D-4A5A-895A-933D1DA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19B-2C43-47B9-A8B7-7D0F9C92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F635-6C76-483B-89B8-BA80F93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6708-102D-46C5-B77F-58A670C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54B-C7D3-40DB-8EF4-953E9EC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243-E339-42D1-BB0F-9B5A681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837B-B5F4-4FC1-AB92-DEAD245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48C-90D5-43E7-9FB2-129EF560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3B4-1404-4E8C-B6BE-1617CEE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009F-245A-4839-850C-02F9F122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210B-4643-4781-870F-A74301DF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1EEC-11D7-4986-B839-258B7E1E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D794-E964-4129-AD82-24C9201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688A-2ABC-4A00-AA38-EF50CB06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060F-1E18-4F2D-8391-73E005A7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154B-FFA7-4F13-8195-58ABF4A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1C8-CE75-44CA-852D-DED048B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69CE-8A5F-481C-9C36-26E5C05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E1FA-3F4A-45AE-9C35-4C36C4B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0DEE-A709-4F97-B7BD-2D56655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E900-1ED8-4D4E-B883-C90DC6D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D0DB-B2AF-45DB-9DC6-AFD7F4F0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EE1A-806E-4C32-B4E8-C191F7E8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52D1-1861-4E11-BECB-66285261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0568-AE63-4BE3-A461-A1FC6797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272C-76EF-4A8D-88DC-9036B55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EB06-DFD2-4A64-A5A9-F66A7DF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230-4E22-4F30-A2FE-85EBDAAB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E31C-7B1F-42BA-ACBB-E756FEF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DBA2-BFB6-41E5-9BCD-654447A4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FA57-A641-4BB5-8172-57006BC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1E37-EB87-4281-A1E4-33764CD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B570-C860-4805-AEFA-EEEBC32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4710-3943-4BF8-8B80-F2B5021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7A7D-33F2-48C8-A140-433FF81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73A4-2E3F-426F-BDEB-DBF91129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B12F-196B-45AD-B4A1-EE2F475B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A80E-0B3A-46DC-906F-A7CC6963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EAB-0432-44FD-B228-76A3704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5F98-7455-466E-9D9C-54BA07A6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B4B0-B1FF-4794-960C-14F553B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4FFBE-2A90-4DCF-8116-4B76336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2F59-C165-438F-922B-6A45358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77BB-CFE2-4C02-8A1A-1268AF74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EBC4-FAC5-41B7-A64B-F596FDF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CC75-6489-4E79-9A23-6C11B0B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DC42-7BBA-4B00-A8CD-F04F4F8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5857-2918-4CBA-BC5C-59E8989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1154-B650-45B3-906A-D7FBE1EC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EB8-9D85-49F9-81A1-10B2472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9928-3DA6-43F0-9DB1-1525F3B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7A6-BCDF-4BAA-AB63-6BFB50A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82A-8F00-41D2-A3D8-A4BF632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7B7-0CD3-47C3-8C46-97038FC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D97-A7F3-4E56-BCA8-BE37A850A9CE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136-38A8-4F5A-A395-9866E52EBDAD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7B4-2692-491A-A56A-0F9380DD142B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374-42C8-43B4-BCE4-E0BE15262FAA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AED-A129-4F55-9C62-AEA494036CCB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5187960" y="317520"/>
            <a:ext cx="3784680" cy="7729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Georgia"/>
              </a:rPr>
              <a:t>Что нам стоит </a:t>
            </a:r>
            <a:br>
              <a:rPr sz="6600"/>
            </a:br>
            <a:r>
              <a:rPr b="1" i="1" lang="ru-RU" sz="6600" spc="-1" strike="noStrike">
                <a:solidFill>
                  <a:srgbClr val="c00000"/>
                </a:solidFill>
                <a:latin typeface="Georgia"/>
              </a:rPr>
              <a:t> клип построить!</a:t>
            </a:r>
            <a:endParaRPr b="1" lang="en-US" sz="6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256000" cy="1008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GReverence-Oblique"/>
              </a:rPr>
              <a:t>Работу выполнила: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GReverence-Oblique"/>
              </a:rPr>
              <a:t>Ученица 4 А  класс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GReverence-Oblique"/>
              </a:rPr>
              <a:t>Губанова Юл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50"/>
                            </p:stCondLst>
                            <p:childTnLst>
                              <p:par>
                                <p:cTn id="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50"/>
                            </p:stCondLst>
                            <p:childTnLst>
                              <p:par>
                                <p:cTn id="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Я обычно применяю только 2 видеоэффекта: </a:t>
            </a:r>
            <a:br>
              <a:rPr sz="2500"/>
            </a:b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ослаблять внутрь и ослаблять наружу. </a:t>
            </a:r>
            <a:br>
              <a:rPr sz="2500"/>
            </a:br>
            <a:br>
              <a:rPr sz="2500"/>
            </a:br>
            <a:r>
              <a:rPr b="1" lang="ru-RU" sz="2200" spc="-1" strike="noStrike">
                <a:solidFill>
                  <a:srgbClr val="f66047"/>
                </a:solidFill>
                <a:latin typeface="Verdana"/>
              </a:rPr>
              <a:t>То же самое проделываешь со всеми кадрами. </a:t>
            </a:r>
            <a:br>
              <a:rPr sz="2200"/>
            </a:br>
            <a:r>
              <a:rPr b="1" lang="ru-RU" sz="2200" spc="-1" strike="noStrike">
                <a:solidFill>
                  <a:srgbClr val="f66047"/>
                </a:solidFill>
                <a:latin typeface="Verdana"/>
              </a:rPr>
              <a:t>Можно  вообще видеоэффекты не вставлять.</a:t>
            </a:r>
            <a:endParaRPr b="1" lang="en-US" sz="22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0560" y="270792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орректировку по времени легко производи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если нажать на  отображение шкалы вре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rcRect l="0" t="18263" r="0" b="0"/>
          <a:stretch/>
        </p:blipFill>
        <p:spPr>
          <a:xfrm>
            <a:off x="1116000" y="3860640"/>
            <a:ext cx="7201080" cy="243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6" name="Oval 5"/>
          <p:cNvSpPr/>
          <p:nvPr/>
        </p:nvSpPr>
        <p:spPr>
          <a:xfrm>
            <a:off x="3851280" y="4005360"/>
            <a:ext cx="259236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Появляется меню: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3644640"/>
            <a:ext cx="8893080" cy="43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урсором можно продлевать или обрезать время течения слайда/кадр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968720" cy="266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3708360" y="4005360"/>
            <a:ext cx="5148360" cy="19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2" name="Line 6"/>
          <p:cNvSpPr/>
          <p:nvPr/>
        </p:nvSpPr>
        <p:spPr>
          <a:xfrm>
            <a:off x="900000" y="3933720"/>
            <a:ext cx="51120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541440" y="5942160"/>
            <a:ext cx="104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одгоняешь все кадры по времени к пе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мотреть, что получается, можно с любого кадра и с музыкой, чего нет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Poin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3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295" name="Прямая со стрелкой 8"/>
          <p:cNvCxnSpPr>
            <a:stCxn id="292" idx="0"/>
          </p:cNvCxnSpPr>
          <p:nvPr/>
        </p:nvCxnSpPr>
        <p:spPr>
          <a:xfrm>
            <a:off x="900000" y="3933360"/>
            <a:ext cx="5112720" cy="129636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Когда все кадры оформлены и подогнаны </a:t>
            </a:r>
            <a:br>
              <a:rPr sz="2500"/>
            </a:b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по времени и по словам песни, можно вставить </a:t>
            </a:r>
            <a:r>
              <a:rPr b="1" lang="ru-RU" sz="2500" spc="-1" strike="noStrike" u="sng">
                <a:solidFill>
                  <a:srgbClr val="f66047"/>
                </a:solidFill>
                <a:uFillTx/>
                <a:latin typeface="Verdana"/>
              </a:rPr>
              <a:t>титры-надписи</a:t>
            </a:r>
            <a:br>
              <a:rPr sz="2500"/>
            </a:b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113440" cy="35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8" name="Oval 5"/>
          <p:cNvSpPr/>
          <p:nvPr/>
        </p:nvSpPr>
        <p:spPr>
          <a:xfrm>
            <a:off x="2340000" y="4581360"/>
            <a:ext cx="2663640" cy="3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08000" y="57340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шь кадр, на котором хочешь создать надпись. Выбираем коман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 flipH="1" flipV="1">
            <a:off x="5003280" y="4797000"/>
            <a:ext cx="295308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7"/>
          <p:cNvCxnSpPr/>
          <p:nvPr/>
        </p:nvCxnSpPr>
        <p:spPr>
          <a:xfrm flipH="1" flipV="1">
            <a:off x="4858920" y="4796640"/>
            <a:ext cx="3169440" cy="108036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Открывается меню: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3640" y="2420640"/>
            <a:ext cx="2385720" cy="1879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бираеш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обходимую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твоей задумке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анду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ликаешь на не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5616360" cy="42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В открывшемся меню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80720"/>
            <a:ext cx="2386080" cy="38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бираешь тек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ираешь анимацию тек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ираешь цвет и шрифт тек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6265800" cy="47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10" name="Line 5"/>
          <p:cNvSpPr/>
          <p:nvPr/>
        </p:nvSpPr>
        <p:spPr>
          <a:xfrm>
            <a:off x="1547640" y="2421000"/>
            <a:ext cx="165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692360" y="3789360"/>
            <a:ext cx="1584360" cy="17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692360" y="522936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314" name="Прямая со стрелкой 8"/>
          <p:cNvCxnSpPr>
            <a:stCxn id="310" idx="0"/>
            <a:endCxn id="310" idx="1"/>
          </p:cNvCxnSpPr>
          <p:nvPr/>
        </p:nvCxnSpPr>
        <p:spPr>
          <a:xfrm>
            <a:off x="1547640" y="2420640"/>
            <a:ext cx="1656720" cy="43236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  <p:cxnSp>
        <p:nvCxnSpPr>
          <p:cNvPr id="315" name="Прямая со стрелкой 11"/>
          <p:cNvCxnSpPr>
            <a:endCxn id="311" idx="0"/>
          </p:cNvCxnSpPr>
          <p:nvPr/>
        </p:nvCxnSpPr>
        <p:spPr>
          <a:xfrm>
            <a:off x="1691280" y="3789360"/>
            <a:ext cx="1585080" cy="172800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  <p:cxnSp>
        <p:nvCxnSpPr>
          <p:cNvPr id="316" name="Прямая со стрелкой 14"/>
          <p:cNvCxnSpPr>
            <a:stCxn id="312" idx="0"/>
          </p:cNvCxnSpPr>
          <p:nvPr/>
        </p:nvCxnSpPr>
        <p:spPr>
          <a:xfrm>
            <a:off x="1691280" y="5229360"/>
            <a:ext cx="1656360" cy="72144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Когда клип готов,</a:t>
            </a:r>
            <a:br>
              <a:rPr sz="3600"/>
            </a:b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сохраняем его.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96000" y="1844280"/>
            <a:ext cx="2881440" cy="208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этого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меню сл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ираем команд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rcRect l="0" t="0" r="0" b="7951"/>
          <a:stretch/>
        </p:blipFill>
        <p:spPr>
          <a:xfrm>
            <a:off x="684360" y="1197000"/>
            <a:ext cx="4898880" cy="525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20" name="Oval 5"/>
          <p:cNvSpPr/>
          <p:nvPr/>
        </p:nvSpPr>
        <p:spPr>
          <a:xfrm>
            <a:off x="755640" y="4365720"/>
            <a:ext cx="1800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2555640" y="3357720"/>
            <a:ext cx="51116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323" name="Прямая со стрелкой 7"/>
          <p:cNvCxnSpPr/>
          <p:nvPr/>
        </p:nvCxnSpPr>
        <p:spPr>
          <a:xfrm flipH="1">
            <a:off x="2484000" y="3356640"/>
            <a:ext cx="5184000" cy="115164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Появляется меню: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08720" y="3068280"/>
            <a:ext cx="1835280" cy="136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ираеш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я своем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ип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129440" cy="38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27" name="Line 6"/>
          <p:cNvSpPr/>
          <p:nvPr/>
        </p:nvSpPr>
        <p:spPr>
          <a:xfrm flipH="1" flipV="1">
            <a:off x="971640" y="2276280"/>
            <a:ext cx="662472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95280" y="55166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ешь папку, где будет сохранен клип. Нажимаешь на «далее», потом опять на «далее» и ждешь сохра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2268360" y="2781000"/>
            <a:ext cx="3456000" cy="28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 flipH="1" flipV="1">
            <a:off x="5003640" y="4941720"/>
            <a:ext cx="309744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332" name="Прямая со стрелкой 9"/>
          <p:cNvCxnSpPr>
            <a:stCxn id="327" idx="0"/>
          </p:cNvCxnSpPr>
          <p:nvPr/>
        </p:nvCxnSpPr>
        <p:spPr>
          <a:xfrm flipH="1" flipV="1">
            <a:off x="971280" y="2275920"/>
            <a:ext cx="6625440" cy="86580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  <p:cxnSp>
        <p:nvCxnSpPr>
          <p:cNvPr id="333" name="Прямая со стрелкой 12"/>
          <p:cNvCxnSpPr>
            <a:stCxn id="329" idx="0"/>
          </p:cNvCxnSpPr>
          <p:nvPr/>
        </p:nvCxnSpPr>
        <p:spPr>
          <a:xfrm flipV="1">
            <a:off x="2268360" y="2780640"/>
            <a:ext cx="3456720" cy="288036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  <p:cxnSp>
        <p:nvCxnSpPr>
          <p:cNvPr id="334" name="Прямая со стрелкой 15"/>
          <p:cNvCxnSpPr/>
          <p:nvPr/>
        </p:nvCxnSpPr>
        <p:spPr>
          <a:xfrm flipH="1" flipV="1">
            <a:off x="5003280" y="4941000"/>
            <a:ext cx="3098160" cy="79164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от и все!!!!</a:t>
            </a: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перь полученный результат можно воспроизвести при помощи практически любого проигрывателя, например Windows Me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люсы этой программы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мотр с любого кадра и с музыкой, легче подогнать время, музыка прикрепляется намертв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инус только один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ой объем файла, обычно более 10 Мб и сжимать фото нельзя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>
            <a:hlinkClick r:id="rId2" action="ppaction://hlinksldjump"/>
          </p:cNvPr>
          <p:cNvSpPr/>
          <p:nvPr/>
        </p:nvSpPr>
        <p:spPr>
          <a:xfrm>
            <a:off x="8101080" y="595008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>
            <a:hlinkClick r:id="rId3" action="ppaction://hlinksldjump"/>
          </p:cNvPr>
          <p:cNvSpPr/>
          <p:nvPr/>
        </p:nvSpPr>
        <p:spPr>
          <a:xfrm>
            <a:off x="8101080" y="595008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103320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1 шаг: Вставляем музыку</a:t>
            </a:r>
            <a:br>
              <a:rPr sz="3600"/>
            </a:b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ходишь в программу, открывается мен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476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Line 5"/>
          <p:cNvSpPr/>
          <p:nvPr/>
        </p:nvSpPr>
        <p:spPr>
          <a:xfrm flipH="1">
            <a:off x="2700000" y="3429000"/>
            <a:ext cx="1655640" cy="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356000" y="3068640"/>
            <a:ext cx="4608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шь «Импорт звука или музы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шь необходимую песню/музыку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каешь по ней, музыка прикрепл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229" name="Прямая со стрелкой 9"/>
          <p:cNvCxnSpPr/>
          <p:nvPr/>
        </p:nvCxnSpPr>
        <p:spPr>
          <a:xfrm flipH="1">
            <a:off x="2770920" y="3427920"/>
            <a:ext cx="1585080" cy="3708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72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2 шаг: Вставляем/импортируем картинки/фото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77708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Rectangle 7"/>
          <p:cNvSpPr/>
          <p:nvPr/>
        </p:nvSpPr>
        <p:spPr>
          <a:xfrm>
            <a:off x="4572000" y="5229360"/>
            <a:ext cx="410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«Импорт изображ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каем, находим пап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еобходимыми фото/картин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2411280" y="4508280"/>
            <a:ext cx="216072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235" name="Прямая со стрелкой 6"/>
          <p:cNvCxnSpPr>
            <a:stCxn id="233" idx="0"/>
          </p:cNvCxnSpPr>
          <p:nvPr/>
        </p:nvCxnSpPr>
        <p:spPr>
          <a:xfrm flipH="1" flipV="1">
            <a:off x="2339640" y="4507920"/>
            <a:ext cx="2232720" cy="136908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66047"/>
                </a:solidFill>
                <a:latin typeface="Verdana"/>
              </a:rPr>
              <a:t>Можно импортировать их по одному, а можно выделить их все и кликнуть «импорт».</a:t>
            </a:r>
            <a:br>
              <a:rPr sz="2200"/>
            </a:br>
            <a:r>
              <a:rPr b="1" lang="ru-RU" sz="2200" spc="-1" strike="noStrike">
                <a:solidFill>
                  <a:srgbClr val="f66047"/>
                </a:solidFill>
                <a:latin typeface="Verdana"/>
              </a:rPr>
              <a:t> Картинки переносятся . </a:t>
            </a:r>
            <a:br>
              <a:rPr sz="2200"/>
            </a:br>
            <a:r>
              <a:rPr b="1" lang="ru-RU" sz="2200" spc="-1" strike="noStrike">
                <a:solidFill>
                  <a:srgbClr val="f66047"/>
                </a:solidFill>
                <a:latin typeface="Verdana"/>
              </a:rPr>
              <a:t>Панель приобретает такой вид:</a:t>
            </a:r>
            <a:endParaRPr b="1" lang="en-US" sz="22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70840" cy="511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3 шаг: Начинаем работать над раскадровкой клипа.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6193080" cy="495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1" name="Rectangle 6"/>
          <p:cNvSpPr/>
          <p:nvPr/>
        </p:nvSpPr>
        <p:spPr>
          <a:xfrm>
            <a:off x="179280" y="1628640"/>
            <a:ext cx="2592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кой выбираеш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ую картин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еретаскиваеш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е на 1 ка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 так 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таскиваеш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остальные картин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ентируясь на текст пес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азу все не вставля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ай маленькими порциям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3-4 слайда, т.к. дал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ем вставлять эффек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ремя смены слай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ет меня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2987640" y="3933720"/>
            <a:ext cx="1440000" cy="18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244" name="Прямая со стрелкой 6"/>
          <p:cNvCxnSpPr>
            <a:endCxn id="242" idx="0"/>
          </p:cNvCxnSpPr>
          <p:nvPr/>
        </p:nvCxnSpPr>
        <p:spPr>
          <a:xfrm flipH="1">
            <a:off x="2986920" y="3860640"/>
            <a:ext cx="1513800" cy="194544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В программе существуют </a:t>
            </a:r>
            <a:br>
              <a:rPr sz="3600"/>
            </a:b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два вида эффектов: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640720" cy="50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7" name="Oval 5"/>
          <p:cNvSpPr/>
          <p:nvPr/>
        </p:nvSpPr>
        <p:spPr>
          <a:xfrm>
            <a:off x="179280" y="4005360"/>
            <a:ext cx="230508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4284720" y="3500280"/>
            <a:ext cx="4464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каким эффектом меняются слай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эффект внутри слай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Шаг 4 : Вставляем эффекты</a:t>
            </a: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6264360" cy="442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611280" y="1051560"/>
            <a:ext cx="65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нем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о пере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каешь по данной строчке.  Появляется меню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43640" y="19872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равившийся 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еретаскиваешь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скадров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443640" y="3645000"/>
            <a:ext cx="2521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так же проделываешь со всеми перех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используется 1-2 вида пере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работа выглядит эстетич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1547640" y="2852640"/>
            <a:ext cx="2376720" cy="309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cxnSp>
        <p:nvCxnSpPr>
          <p:cNvPr id="257" name="Прямая со стрелкой 8"/>
          <p:cNvCxnSpPr>
            <a:stCxn id="255" idx="0"/>
            <a:endCxn id="255" idx="1"/>
          </p:cNvCxnSpPr>
          <p:nvPr/>
        </p:nvCxnSpPr>
        <p:spPr>
          <a:xfrm flipH="1">
            <a:off x="1547280" y="2852640"/>
            <a:ext cx="2377440" cy="309816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Итак: большой прямоугольник – сам кадр, маленький – видео переход</a:t>
            </a: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372000" y="1988640"/>
            <a:ext cx="277164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тавля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део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утрь кад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м на лев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нели «Просмот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деоэффек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каем, по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ое мен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93388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Text Box 5"/>
          <p:cNvSpPr/>
          <p:nvPr/>
        </p:nvSpPr>
        <p:spPr>
          <a:xfrm>
            <a:off x="395280" y="6021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уже вставлены картинки и эффекты перех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3203640" y="6093000"/>
            <a:ext cx="93672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5651640" y="6093000"/>
            <a:ext cx="10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 flipH="1" flipV="1">
            <a:off x="826560" y="5373720"/>
            <a:ext cx="2808360" cy="719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 flipV="1">
            <a:off x="1979280" y="5373720"/>
            <a:ext cx="1655640" cy="719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9"/>
          <p:cNvSpPr/>
          <p:nvPr/>
        </p:nvSpPr>
        <p:spPr>
          <a:xfrm flipV="1">
            <a:off x="3635280" y="5373720"/>
            <a:ext cx="144720" cy="719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 flipV="1">
            <a:off x="3635280" y="5300280"/>
            <a:ext cx="1081080" cy="792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 flipV="1">
            <a:off x="3635280" y="5300280"/>
            <a:ext cx="2160720" cy="792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 flipH="1" flipV="1">
            <a:off x="1186920" y="5229000"/>
            <a:ext cx="496908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 flipH="1" flipV="1">
            <a:off x="2268360" y="5229000"/>
            <a:ext cx="3888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 flipH="1" flipV="1">
            <a:off x="3276360" y="522900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5"/>
          <p:cNvSpPr/>
          <p:nvPr/>
        </p:nvSpPr>
        <p:spPr>
          <a:xfrm flipH="1" flipV="1">
            <a:off x="4355640" y="5229000"/>
            <a:ext cx="180036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"/>
          <p:cNvSpPr/>
          <p:nvPr/>
        </p:nvSpPr>
        <p:spPr>
          <a:xfrm flipH="1" flipV="1">
            <a:off x="5363640" y="5229000"/>
            <a:ext cx="79236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7" descr=""/>
          <p:cNvPicPr/>
          <p:nvPr/>
        </p:nvPicPr>
        <p:blipFill>
          <a:blip r:embed="rId2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8350200" y="0"/>
            <a:ext cx="793800" cy="8366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Если внимательно посмотреть на сам кадр, можно увидеть внизу слева значок </a:t>
            </a:r>
            <a:br>
              <a:rPr sz="2500"/>
            </a:br>
            <a:r>
              <a:rPr b="1" lang="ru-RU" sz="2500" spc="-1" strike="noStrike">
                <a:solidFill>
                  <a:srgbClr val="f66047"/>
                </a:solidFill>
                <a:latin typeface="Verdana"/>
              </a:rPr>
              <a:t>в виде «звезды».</a:t>
            </a:r>
            <a:r>
              <a:rPr b="1" lang="ru-RU" sz="3600" spc="-1" strike="noStrike">
                <a:solidFill>
                  <a:srgbClr val="f66047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rcRect l="0" t="17410" r="0" b="0"/>
          <a:stretch/>
        </p:blipFill>
        <p:spPr>
          <a:xfrm>
            <a:off x="250920" y="2565360"/>
            <a:ext cx="3527280" cy="23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3924360" y="2060640"/>
            <a:ext cx="4968720" cy="398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9" name="Oval 7"/>
          <p:cNvSpPr/>
          <p:nvPr/>
        </p:nvSpPr>
        <p:spPr>
          <a:xfrm>
            <a:off x="250920" y="4365720"/>
            <a:ext cx="799920" cy="571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>
            <a:off x="610920" y="3284640"/>
            <a:ext cx="583236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50920" y="6093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ой захватываем понравившийся видеоэффект и перетаскиваем на эту «звезд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8"/>
          <p:cNvCxnSpPr/>
          <p:nvPr/>
        </p:nvCxnSpPr>
        <p:spPr>
          <a:xfrm flipH="1">
            <a:off x="610560" y="3283560"/>
            <a:ext cx="5833080" cy="1369080"/>
          </a:xfrm>
          <a:prstGeom prst="straightConnector1">
            <a:avLst/>
          </a:prstGeom>
          <a:ln w="76320">
            <a:solidFill>
              <a:srgbClr val="ff31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5:40:29Z</dcterms:created>
  <dc:creator>matematika</dc:creator>
  <dc:description/>
  <dc:language>en-US</dc:language>
  <cp:lastModifiedBy>Nik</cp:lastModifiedBy>
  <dcterms:modified xsi:type="dcterms:W3CDTF">2011-11-26T03:17:15Z</dcterms:modified>
  <cp:revision>27</cp:revision>
  <dc:subject/>
  <dc:title>Что нам стоит сделать клип</dc:title>
</cp:coreProperties>
</file>