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C03-3C5D-4486-B985-620E38A0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D475-119E-4C71-841F-F1DED6EF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909-7D6D-4DBE-B98B-62BEF2F7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EE9-EE3F-44B1-A27E-0EEA7B08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A1BC-9F88-43B8-9E74-35FB3313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8C77-E9B9-489F-AF5D-96D86875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9AFE-C0AD-422A-BB22-5DAB1D2C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C591-6139-4CE4-A7B2-29CBA46C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D454-D633-4660-BF3E-934A9A0A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9C15-6B86-42EE-BDBB-C7E67989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C2F4-B28D-412F-9E11-EB002CD2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F5C-9332-4DB0-9A1F-2423C6B9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927F-7260-48C4-B590-BF9C2128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DCFC-C324-49DC-BEE0-505CA2F3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1516-02BF-4698-B34B-668F4A01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AB9A-9B50-42CD-8223-33A40452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3AA5-B492-4314-B691-B2D3218E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999-034F-4321-8651-7704D1A9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CED-58CA-400C-912C-926AE3D9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D4F-2C80-45C4-8499-B63A7791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4CA-0BA2-42EC-9A13-FD23F06D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AC9-D733-48C6-8E89-1AD43261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C49-E60F-4BDB-9AC8-6BF6E877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56D5-DF04-42DF-B470-2423A801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9801-09EA-483B-9E54-E6453E1769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E53B-B92F-4735-BC3A-AD9F88F07D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ищные млекопитающ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286000" y="1500120"/>
            <a:ext cx="4572000" cy="3929040"/>
          </a:xfrm>
          <a:prstGeom prst="rect">
            <a:avLst/>
          </a:prstGeom>
          <a:ln w="0">
            <a:noFill/>
          </a:ln>
        </p:spPr>
      </p:pic>
      <p:sp>
        <p:nvSpPr>
          <p:cNvPr id="100" name="Овал 3"/>
          <p:cNvSpPr/>
          <p:nvPr/>
        </p:nvSpPr>
        <p:spPr>
          <a:xfrm>
            <a:off x="1000080" y="5572080"/>
            <a:ext cx="750096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63636"/>
                </a:solidFill>
                <a:latin typeface="Arial"/>
              </a:rPr>
              <a:t>Подготовила Зинченко Виктория Сергеевна, учитель МКОУ ВСОШ № 2 при ИК с. Чугуевка Приморского кр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ев-   вторая по величине ныне живущая кошк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ийский лев   был распространён   от Греции до Индии. Сейчас сохранилось около 300 особей в Гирском заповеднике в   Инд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4140360" y="1905120"/>
            <a:ext cx="4705200" cy="4190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Ягу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000080" y="1428840"/>
            <a:ext cx="3002040" cy="38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4917960" y="1905120"/>
          <a:ext cx="3927600" cy="478476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тий по размеру в мире. Основная его добыча —   копытные вроде оленей мазама, пекари и тапиров, но он нападает также на птиц, обезьян, лисиц,     черепах — его мощные челюсти способны раскусить их панцир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мурский леопар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ина тела 130см, масса тела 70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несен в Красную книгу. В Китае за убийство дальневосточного леопарда предусмотрена смертная казнь. Согласно УК РФ, за убийство амурского леопарда виновному грозит лишение свободы до 2 лет и взыскание ущерба в размере 500 тысяч руб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143000" y="1857240"/>
            <a:ext cx="276552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Малые кошки: Рысь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571760" y="1773360"/>
            <a:ext cx="2892240" cy="3584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ина тела 80—130 см и 70 см в холке.   весят от 18—30  кг.   Лапы крупные, зимой хорошо опушенные, что позволяет рыси ходить по снегу, не проваливаясь. На ушах длинные кисточки. Хвост короткий, как бы обрубленный. В сутки она способна проходить до 30 километров. Основу ее рациона составляют зайц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Занесены в Красную книгу Росс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1500120" y="1500120"/>
            <a:ext cx="2870280" cy="2714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0" y="4724280"/>
            <a:ext cx="3927600" cy="18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мышовая кошка, или болотная рысь в длину достигает 73—75 см, масса до 16к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518080" y="4724280"/>
            <a:ext cx="362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т Дальневосточный очень малочислен (по-видимому, не более 1000 особе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9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2916360" cy="2500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мейство  Куньи: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1928880" y="1857240"/>
            <a:ext cx="3030480" cy="30718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ска — самый маленький представитель отряда хищ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ина тела 22см, масса 100гр. пищу её составляют домовые, полевые и лесные мыши, крысы, кроты, молодые кролики, цыплята, голуби, а также ящерицы, медянки, ужи, даже гадюки, лягушки, насеком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емейство енотов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2908080" cy="32860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ина тела 45см, масса 8кг. Енот-полоскун распространён в Северной Америке,  Беларусии. Еноты легко приспосабливаются к  городскому ландшафту, селятся на окраинах полей, в садах, нередки в городах и пригородах. Енот всеяден. В природе живут не больше 2—5 л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Закрепление:</a:t>
            </a:r>
            <a:br>
              <a:rPr sz="40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Выберите третье лишнее, объясните свой выбор: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Вол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Медвед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Лиси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ый отве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шний медведь, потому что волк и лисица относятся к одному семейству – псов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берите верный ответ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из медведей самый крупный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А) белый медвед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Б) бурый медвед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В) гималайски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Способы питания хищных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отоя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1796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я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419640" y="3860280"/>
            <a:ext cx="54259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тительноя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панда"/>
          <p:cNvPicPr/>
          <p:nvPr/>
        </p:nvPicPr>
        <p:blipFill>
          <a:blip r:embed="rId1"/>
          <a:stretch/>
        </p:blipFill>
        <p:spPr>
          <a:xfrm>
            <a:off x="4500720" y="4365720"/>
            <a:ext cx="2230200" cy="2349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пантера"/>
          <p:cNvPicPr/>
          <p:nvPr/>
        </p:nvPicPr>
        <p:blipFill>
          <a:blip r:embed="rId2"/>
          <a:stretch/>
        </p:blipFill>
        <p:spPr>
          <a:xfrm>
            <a:off x="857160" y="2349360"/>
            <a:ext cx="2462400" cy="2651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медведь"/>
          <p:cNvPicPr/>
          <p:nvPr/>
        </p:nvPicPr>
        <p:blipFill>
          <a:blip r:embed="rId3"/>
          <a:stretch/>
        </p:blipFill>
        <p:spPr>
          <a:xfrm>
            <a:off x="5867280" y="2276640"/>
            <a:ext cx="2381400" cy="15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ую кошку называют ирбис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ьв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уму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арс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место точек поставьте буквы, чтобы получилось название хищник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.    И   .     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.   .   .   .   А   .   .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.    .    .     .    Ц   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ый ответ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иг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еопар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исиц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нутри строчек между слов спрятался домашний хищник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ык- неприятная особа, капризен, зол, смотрите в об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Скругленный прямоугольник 3"/>
          <p:cNvSpPr/>
          <p:nvPr/>
        </p:nvSpPr>
        <p:spPr>
          <a:xfrm>
            <a:off x="4500720" y="5000760"/>
            <a:ext cx="2214360" cy="9284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ОТВЕТ:  СОБ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бус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1" name="Содержимое 3" descr=""/>
          <p:cNvPicPr/>
          <p:nvPr/>
        </p:nvPicPr>
        <p:blipFill>
          <a:blip r:embed="rId1"/>
          <a:stretch/>
        </p:blipFill>
        <p:spPr>
          <a:xfrm>
            <a:off x="4071960" y="2205000"/>
            <a:ext cx="3357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бус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3" name="Содержимое 3" descr=""/>
          <p:cNvPicPr/>
          <p:nvPr/>
        </p:nvPicPr>
        <p:blipFill>
          <a:blip r:embed="rId1"/>
          <a:stretch/>
        </p:blipFill>
        <p:spPr>
          <a:xfrm>
            <a:off x="3786120" y="2143080"/>
            <a:ext cx="33577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тветы на реб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осем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ила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емейство Псовые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57200" y="1905120"/>
            <a:ext cx="3408480" cy="4095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лк — наиболее крупное животное в своём семействе: длина его тела (с хвостом) может достигать 160 см, высота в холке до 90 см; масса тела до 62 к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быкнове́нная или ры́жая лиси́ц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428840" y="1905120"/>
            <a:ext cx="3336840" cy="35240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крупный вид рода лисиц. Длина тела 90 см, хвоста  40—60 см, масса 10 кг. Среди пищи, которую она употребляет, выявлено больше 400 видов  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емейство Медвежьи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26560" y="1557000"/>
            <a:ext cx="393876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1640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лый медведь: длина тела 3 м при массе до 900кг. Занесён в Красную Книгу России. У белых медведей низкий потенциал размножения: самка впервые приносит потомство в возрасте 4-8 лет, рожает один раз в 2-3 года и имеет в помёте 1-3 медвежат, таким образом в течение жизни принося не более 10-15 детёныш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белый медвель"/>
          <p:cNvPicPr/>
          <p:nvPr/>
        </p:nvPicPr>
        <p:blipFill>
          <a:blip r:embed="rId1"/>
          <a:stretch/>
        </p:blipFill>
        <p:spPr>
          <a:xfrm>
            <a:off x="1143000" y="2143080"/>
            <a:ext cx="3430440" cy="3584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рый медвед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ина тела 2м при массе 700к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чезающий вид. В России осталось 120тысяч особ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1071720" y="1700280"/>
            <a:ext cx="2778120" cy="387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Гималайский медведь или     уссурийский белогрудый медведь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500120" y="1905120"/>
            <a:ext cx="3265560" cy="3238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ина 1.5 м при массе 150кг. ведёт полудревесный образ жизни — на деревьях он добывает корм, там же спасается от врагов и гнуса. до 1998 был занесён в Красную книгу России, ныне — охотничий вид. Он обитает на юге Хабаровского и в Приморском кра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ольша́я па́нда или бамбуковый медвед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500120" y="2133720"/>
            <a:ext cx="3287880" cy="3295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ина   1,2—1,5 м и имеет массу   до 160 кг. В отличие от других медведей имеет довольно длинный хвост (до 12 см). В день взрослая панда съедает до 30 кг бамбука. Исчезающий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емейство Кошачьи</a:t>
            </a:r>
            <a:br>
              <a:rPr sz="4000"/>
            </a:br>
            <a:r>
              <a:rPr b="1" lang="ru-RU" sz="2800" spc="-1" strike="noStrike">
                <a:solidFill>
                  <a:srgbClr val="a3a3a3"/>
                </a:solidFill>
                <a:latin typeface="Arial Black"/>
              </a:rPr>
              <a:t>Амурский тигр- самый крупный представитель  подвид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14" descr=""/>
          <p:cNvPicPr/>
          <p:nvPr/>
        </p:nvPicPr>
        <p:blipFill>
          <a:blip r:embed="rId1"/>
          <a:stretch/>
        </p:blipFill>
        <p:spPr>
          <a:xfrm>
            <a:off x="324000" y="1905120"/>
            <a:ext cx="4441680" cy="4692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ина тела 3,8м масса тела 270к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ин из самых малочисленных подвидов тигра,   Занесён в Красную книгу. В приморье осталось 500 особ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0:54:53Z</dcterms:created>
  <dc:creator>Admin</dc:creator>
  <dc:description/>
  <dc:language>en-US</dc:language>
  <cp:lastModifiedBy>Matrix</cp:lastModifiedBy>
  <dcterms:modified xsi:type="dcterms:W3CDTF">2012-01-13T09:24:00Z</dcterms:modified>
  <cp:revision>16</cp:revision>
  <dc:subject/>
  <dc:title>Слайд 1</dc:title>
</cp:coreProperties>
</file>