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19.wmf" ContentType="image/x-wmf"/>
  <Override PartName="/ppt/media/image26.jpeg" ContentType="image/jpeg"/>
  <Override PartName="/ppt/media/image5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30.jpeg" ContentType="image/jpeg"/>
  <Override PartName="/ppt/media/image28.png" ContentType="image/png"/>
  <Override PartName="/ppt/media/image7.jpeg" ContentType="image/jpeg"/>
  <Override PartName="/ppt/media/image31.gif" ContentType="image/gif"/>
  <Override PartName="/ppt/media/image17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1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893-57DE-48ED-8E18-8CAE1AD7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AE2-3A19-49DC-8DD8-96BA96E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94-54CB-4E69-B5B5-2365975F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5CB-1C95-4EE4-B137-12CEF556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2AD-145C-4145-8629-ABC4374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2A5-1DDA-4CE6-A751-744A93BA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C18-FD97-4847-8113-A183D81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624-D9DE-4C00-8F41-10965BF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323-DCCE-4F21-AFD8-093D4E4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ABB-3A15-4327-A67D-AE5794A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7D9-5421-4841-8AC4-077C674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2CA-E0FB-4149-9420-24DCAFFA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FE2-70FD-4468-B35E-D584908A3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Бросай курить"/>
          <p:cNvPicPr/>
          <p:nvPr/>
        </p:nvPicPr>
        <p:blipFill>
          <a:blip r:embed="rId2"/>
          <a:stretch/>
        </p:blipFill>
        <p:spPr>
          <a:xfrm>
            <a:off x="-468360" y="-138240"/>
            <a:ext cx="9526680" cy="699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161928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КУР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419640" y="0"/>
            <a:ext cx="561636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99"/>
                </a:solidFill>
                <a:latin typeface="Arial"/>
              </a:rPr>
              <a:t>Вредные привычки: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Narrow"/>
              </a:rPr>
              <a:t>ВЛИЯНИЕ НИКОТИНА </a:t>
            </a:r>
            <a:br>
              <a:rPr sz="4400"/>
            </a:br>
            <a:r>
              <a:rPr b="1" lang="ru-RU" sz="4400" spc="-1" strike="noStrike">
                <a:solidFill>
                  <a:srgbClr val="993300"/>
                </a:solidFill>
                <a:latin typeface="Arial Narrow"/>
              </a:rPr>
              <a:t>НА ОРГАНИЗМ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Нервная систе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Отравляет клетки мозга (ухудшается память, зрение, умственная работоспособность, появляется бессонница, головные бол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Курящие ученики отстают в учебе, становятся нервными, рассеянными, ленивыми, грубыми и недисциплинированны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Развиваются нервные заболевания – невралгии, невриты, плекситы (заболевания нервных узлов – сплетен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M00350_"/>
          <p:cNvPicPr/>
          <p:nvPr/>
        </p:nvPicPr>
        <p:blipFill>
          <a:blip r:embed="rId1"/>
          <a:stretch/>
        </p:blipFill>
        <p:spPr>
          <a:xfrm>
            <a:off x="7358040" y="3929040"/>
            <a:ext cx="129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Arial Narrow"/>
              </a:rPr>
              <a:t>Дых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(почти 97% больных раком – курильщ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(в 6 – 10 раз больш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гкие здорового челове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курильщ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10_легкие здоровые.jpg"/>
          <p:cNvPicPr/>
          <p:nvPr/>
        </p:nvPicPr>
        <p:blipFill>
          <a:blip r:embed="rId1"/>
          <a:stretch/>
        </p:blipFill>
        <p:spPr>
          <a:xfrm>
            <a:off x="380880" y="1752480"/>
            <a:ext cx="401328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11_легкие курильщика.jpg"/>
          <p:cNvPicPr/>
          <p:nvPr/>
        </p:nvPicPr>
        <p:blipFill>
          <a:blip r:embed="rId2"/>
          <a:stretch/>
        </p:blipFill>
        <p:spPr>
          <a:xfrm>
            <a:off x="4643280" y="2500200"/>
            <a:ext cx="4125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UNG001"/>
          <p:cNvPicPr/>
          <p:nvPr/>
        </p:nvPicPr>
        <p:blipFill>
          <a:blip r:embed="rId1"/>
          <a:stretch/>
        </p:blipFill>
        <p:spPr>
          <a:xfrm>
            <a:off x="571680" y="1071720"/>
            <a:ext cx="3622320" cy="50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LUNG056"/>
          <p:cNvPicPr/>
          <p:nvPr/>
        </p:nvPicPr>
        <p:blipFill>
          <a:blip r:embed="rId2"/>
          <a:stretch/>
        </p:blipFill>
        <p:spPr>
          <a:xfrm>
            <a:off x="4500720" y="571680"/>
            <a:ext cx="3803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image.jpeg"/>
          <p:cNvPicPr/>
          <p:nvPr/>
        </p:nvPicPr>
        <p:blipFill>
          <a:blip r:embed="rId1"/>
          <a:stretch/>
        </p:blipFill>
        <p:spPr>
          <a:xfrm>
            <a:off x="1828800" y="99072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7168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ящий с жадностью затягивается ароматным дымом, не задумываясь, конечно, о том, что вызывает в организме каждая подобная затяжка. Значительные перепады температуры во время курения отражаются на состоянии зубной э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2700[1]"/>
          <p:cNvPicPr/>
          <p:nvPr/>
        </p:nvPicPr>
        <p:blipFill>
          <a:blip r:embed="rId1"/>
          <a:stretch/>
        </p:blipFill>
        <p:spPr>
          <a:xfrm>
            <a:off x="428760" y="571680"/>
            <a:ext cx="4176720" cy="24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5a[1]"/>
          <p:cNvPicPr/>
          <p:nvPr/>
        </p:nvPicPr>
        <p:blipFill>
          <a:blip r:embed="rId2"/>
          <a:stretch/>
        </p:blipFill>
        <p:spPr>
          <a:xfrm>
            <a:off x="428760" y="3286080"/>
            <a:ext cx="4176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КРОВЕНОС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тенокардия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у курильщиков чаще в 13 р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Инфарк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Острый инфаркт миокард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M00304_"/>
          <p:cNvPicPr/>
          <p:nvPr/>
        </p:nvPicPr>
        <p:blipFill>
          <a:blip r:embed="rId1"/>
          <a:stretch/>
        </p:blipFill>
        <p:spPr>
          <a:xfrm>
            <a:off x="4286160" y="5357880"/>
            <a:ext cx="879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ПИЩЕВАРИ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кишечника ведет к смер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вается хронически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желудка и 12- перстной кишки (в 10 раз чащ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Приводит к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M00307_"/>
          <p:cNvPicPr/>
          <p:nvPr/>
        </p:nvPicPr>
        <p:blipFill>
          <a:blip r:embed="rId1"/>
          <a:stretch/>
        </p:blipFill>
        <p:spPr>
          <a:xfrm>
            <a:off x="7358040" y="5357880"/>
            <a:ext cx="12193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p142"/>
          <p:cNvPicPr/>
          <p:nvPr/>
        </p:nvPicPr>
        <p:blipFill>
          <a:blip r:embed="rId1"/>
          <a:stretch/>
        </p:blipFill>
        <p:spPr>
          <a:xfrm>
            <a:off x="2786040" y="1000080"/>
            <a:ext cx="357192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857680" y="4857840"/>
            <a:ext cx="34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оточащая язва жел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4400" y="2781360"/>
          <a:ext cx="3586320" cy="1861920"/>
        </p:xfrm>
        <a:graphic>
          <a:graphicData uri="http://schemas.openxmlformats.org/drawingml/2006/table">
            <a:tbl>
              <a:tblPr/>
              <a:tblGrid>
                <a:gridCol w="3586320"/>
              </a:tblGrid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 до 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0 до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20 до 3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900000" y="1700280"/>
          <a:ext cx="7344000" cy="1081080"/>
        </p:xfrm>
        <a:graphic>
          <a:graphicData uri="http://schemas.openxmlformats.org/drawingml/2006/table">
            <a:tbl>
              <a:tblPr/>
              <a:tblGrid>
                <a:gridCol w="3637080"/>
                <a:gridCol w="370692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Если человек курит в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Он сокращает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57600" y="2781360"/>
          <a:ext cx="3702240" cy="1871640"/>
        </p:xfrm>
        <a:graphic>
          <a:graphicData uri="http://schemas.openxmlformats.org/drawingml/2006/table">
            <a:tbl>
              <a:tblPr/>
              <a:tblGrid>
                <a:gridCol w="370224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9b7adc">
                        <a:alpha val="50000"/>
                      </a:srgbClr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6-10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9b7adc">
                        <a:alpha val="50000"/>
                      </a:srgbClr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11-12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solidFill>
                      <a:srgbClr val="9b7ad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ВЫДЕЛИ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тие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вплоть до рака мочевого пузыр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(В моче образу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бензапирен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(встречается у курильщиков в 5 раз чащ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H00887_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-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E01080_"/>
          <p:cNvPicPr/>
          <p:nvPr/>
        </p:nvPicPr>
        <p:blipFill>
          <a:blip r:embed="rId1"/>
          <a:stretch/>
        </p:blipFill>
        <p:spPr>
          <a:xfrm>
            <a:off x="3809880" y="510552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3143160" y="285840"/>
          <a:ext cx="378612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85840"/>
                    <a:ext cx="378612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ПО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Увеличивается количество уродливых, неполноценных сперматозои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Угнетает центры эрекции, резко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сниж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лечение мужч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Лечение импотенции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возможно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тогда, когда  больной бросит ку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Arial Narrow"/>
              </a:rPr>
              <a:t>ЖЕНЩ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амое частое осложнение  -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до 36 недель в 2 раза чаще некур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при р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ыше процент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Чаще  других курильщицы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E02328_"/>
          <p:cNvPicPr/>
          <p:nvPr/>
        </p:nvPicPr>
        <p:blipFill>
          <a:blip r:embed="rId1"/>
          <a:stretch/>
        </p:blipFill>
        <p:spPr>
          <a:xfrm>
            <a:off x="4857840" y="4429080"/>
            <a:ext cx="228600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-360"/>
            <a:ext cx="5286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Особое влияние оказывает курение на половые клетки - сперматозоид и яйцеклетку. Яйцеклетка живет 12-55 лет и является местом накопления токсинов и канцерогенов. Воздействие на генный аппарат ведет к секвестрации измененных генов, ломке хромосомного аппа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Табакокурение одна из причин врожденных уродств у детей. Установлено, что табачные токсины уже через 5 сек. обнаруживаются в крови плода, выход их замедлен, поэтому в крови плода в 1.8 раза больше окиси углерода и в 2 раза больше карбоксигемоглобина, гемоглобин не соединяется с кислородом, развивается гипок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03"/>
          <p:cNvPicPr/>
          <p:nvPr/>
        </p:nvPicPr>
        <p:blipFill>
          <a:blip r:embed="rId1"/>
          <a:stretch/>
        </p:blipFill>
        <p:spPr>
          <a:xfrm>
            <a:off x="5257800" y="304920"/>
            <a:ext cx="3651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ВОЗДЕЙСТВИЕ НА ДРУГ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«Кожа» –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преждевременное старение кожи, сухость, землистый оттенок, бледность,  морщины, дряблость. Кожа теряет свою эластичность и свежесть. Женщины-курильщицы в 25 лет выглядят намного старше ровес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«Железы внутренней секреции»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– нарушаются нормальные функции всех желез, развивается сахарный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«Обмен веществ»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– снижается, развивается витаминная недостато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H00783_"/>
          <p:cNvPicPr/>
          <p:nvPr/>
        </p:nvPicPr>
        <p:blipFill>
          <a:blip r:embed="rId1"/>
          <a:stretch/>
        </p:blipFill>
        <p:spPr>
          <a:xfrm>
            <a:off x="6572160" y="5286240"/>
            <a:ext cx="99072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к гу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51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кажи нет болезням"/>
          <p:cNvPicPr/>
          <p:nvPr/>
        </p:nvPicPr>
        <p:blipFill>
          <a:blip r:embed="rId1"/>
          <a:srcRect l="0" t="15414" r="0" b="0"/>
          <a:stretch/>
        </p:blipFill>
        <p:spPr>
          <a:xfrm>
            <a:off x="1214280" y="0"/>
            <a:ext cx="67154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я над 200 курящими и 200 некурящими школь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абак2"/>
          <p:cNvPicPr/>
          <p:nvPr/>
        </p:nvPicPr>
        <p:blipFill>
          <a:blip r:embed="rId1"/>
          <a:srcRect l="0" t="1266" r="0" b="11242"/>
          <a:stretch/>
        </p:blipFill>
        <p:spPr>
          <a:xfrm>
            <a:off x="642960" y="1285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Что содержится в сигар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В дым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одной сигареты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содерж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6 мг никот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1,6 мг амми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25 мг угарного г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0,03 мг синильной кисл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0,5 мг пиридина, формальдеги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радиактивные вещества: полоний, свинец, висмут, смолы и деготь и др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Ещё раз о последствиях ку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От курения станет хриплым гол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Постепенно почернеют, испортятся зу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Кожа лица постепенно приобретет землистый цв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Резко ухудшаются обоняние, вкусовые ка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Запах изо рта настолько неприятен, что не удивляйся, если знакомые парни и девушки будут вас избег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Будете просыпаться с горечью во рту и головными болями от того, что всю ночь кашля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2600" spc="-1" strike="noStrike">
                <a:solidFill>
                  <a:srgbClr val="cc3300"/>
                </a:solidFill>
                <a:latin typeface="Arial Narrow"/>
              </a:rPr>
              <a:t>Курящая девушка представляет собой временную забаву, закурив, ты удешевляешь себя, унижаешь свое достоинство, делаясь легкомысленной и более доступн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-468360" y="-171360"/>
            <a:ext cx="9612360" cy="70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0" y="188640"/>
            <a:ext cx="45720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ще не окрепшие нервная и кровеносная системы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детей и подростко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олезненно реагируют на та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авные части табачного дыма всасываются в кровь через 2-3 ми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надолго эти вещества повышают активность клеток мозга, это состояние воспринимается курильщиком как освежающий приток сил или своеобразное чувство успок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ако это состояние скоро проходит, и, чтобы его снова ощутить, человек тянется за новой сигар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Легкие курильщика"/>
          <p:cNvPicPr/>
          <p:nvPr/>
        </p:nvPicPr>
        <p:blipFill>
          <a:blip r:embed="rId1"/>
          <a:stretch/>
        </p:blipFill>
        <p:spPr>
          <a:xfrm>
            <a:off x="-396720" y="0"/>
            <a:ext cx="49431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-468360" y="-171360"/>
            <a:ext cx="9612360" cy="70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71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всего табакозависимость (привыкание к сигарете) устанавливается за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человека, привыкшего к курению, в случае резкого прекращения курения наблюдается абстинентный синдром (ломка), который выражается в головной боли, колебании артериального давления, болях в области сердца, желудка, могут наблюдаться кишечные расстройства, повышенная потливость, слабость, вялость, нервозность, подавлен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Легкие курильщика"/>
          <p:cNvPicPr/>
          <p:nvPr/>
        </p:nvPicPr>
        <p:blipFill>
          <a:blip r:embed="rId1"/>
          <a:stretch/>
        </p:blipFill>
        <p:spPr>
          <a:xfrm>
            <a:off x="-324000" y="0"/>
            <a:ext cx="450864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курение картики"/>
          <p:cNvPicPr/>
          <p:nvPr/>
        </p:nvPicPr>
        <p:blipFill>
          <a:blip r:embed="rId1"/>
          <a:stretch/>
        </p:blipFill>
        <p:spPr>
          <a:xfrm>
            <a:off x="714240" y="285840"/>
            <a:ext cx="7572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3" descr="картинки против курения, курение вредит здоровью картинки"/>
          <p:cNvPicPr/>
          <p:nvPr/>
        </p:nvPicPr>
        <p:blipFill>
          <a:blip r:embed="rId1"/>
          <a:stretch/>
        </p:blipFill>
        <p:spPr>
          <a:xfrm>
            <a:off x="1500120" y="285840"/>
            <a:ext cx="6215040" cy="5643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10080" y="6073200"/>
            <a:ext cx="88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ты куришь, то вот как будет выглядеть тво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0040" y="8568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ящие подвергают опасности не только себя, но и окружающих людей. В медицине появился даже термин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«Пассивное курение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организме некурящих людей после пребывания в накуренном и не проветренном помещении определяется значительная концентрация нико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данным Всемирной организации здравоохранения, от болезней, вызванных курением, в мире ежегодно умирают окол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лионов 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курение картинки, картинки о вреде курения, курение убивает картинки"/>
          <p:cNvPicPr/>
          <p:nvPr/>
        </p:nvPicPr>
        <p:blipFill>
          <a:blip r:embed="rId1"/>
          <a:stretch/>
        </p:blipFill>
        <p:spPr>
          <a:xfrm>
            <a:off x="1285920" y="357120"/>
            <a:ext cx="6143760" cy="564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2650680" y="607356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ение у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Куришь? Он тоже любил курить."/>
          <p:cNvPicPr/>
          <p:nvPr/>
        </p:nvPicPr>
        <p:blipFill>
          <a:blip r:embed="rId1"/>
          <a:stretch/>
        </p:blipFill>
        <p:spPr>
          <a:xfrm>
            <a:off x="1571760" y="571680"/>
            <a:ext cx="6072120" cy="4357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1299960" y="5360760"/>
            <a:ext cx="667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alibri"/>
                <a:ea typeface="Times New Roman"/>
              </a:rPr>
              <a:t>Упаси бог от такого фин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330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80% людей, желающих бросить курить, не могут сделать этого самостоя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464000" cy="63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сать курить можно разными способами. Можно резко прекратить курить, а можно постепенно уменьшать число выкуриваемых за день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осающих курить выпущена специальная жевательная резинка с небольшим количеством никотина, лекарства, снимающие абстинентный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условно-рефлекторный способ лечения табакозависимости, пациент принимает препараты, которые при закуривании вызывают рвоту. Некоторые врачи избавляют от табакозависимости психотерапией, гипнозом, иглоукалыва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лавное условие избавления от этой привычки - желание самого курильщ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Возбуждает центральную нервную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пазм кровеносных сосудов, ухудшение кровоснабжения клеток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овышает артериальное давление крови и увеличивает работ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В целом создает субьективные ощущения повышения работ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Никотин - это наркотик. А это 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что с каждым годом тебе будет все трудне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Ученик, если ты хочеш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хранить свое здоров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ояться в жизни как ли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глядеть молодо и привлекат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да быть в хорошей спортивной фор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одить и вырастить здоровых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ыть самостоятельным челове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быть рабом вредной привы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-468360" y="-171360"/>
            <a:ext cx="9612360" cy="70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сставить указанные этапы принятия решения в порядке их осуществления по «ступеням лестницы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ять решение (увидеть себя без сигаре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ить вместо сигарет семечки, конфе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ть «нет» себе (принять реш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ть «нет» друзьям,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отать мотивацию (для чего я бросаю кури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благодарить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УРИТЬ ИЛИ НЕ КУР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E:\Класс\Работа в школе\Внеклассная работа\класс против курения\картинки\esche-sotsialka-o-vrede-urenija_13138_s__1.jpg"/>
          <p:cNvPicPr/>
          <p:nvPr/>
        </p:nvPicPr>
        <p:blipFill>
          <a:blip r:embed="rId2"/>
          <a:stretch/>
        </p:blipFill>
        <p:spPr>
          <a:xfrm>
            <a:off x="642960" y="3000240"/>
            <a:ext cx="38480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http://i03.fsimg.ru/5/tlog_box/1758/1758355.jpg"/>
          <p:cNvPicPr/>
          <p:nvPr/>
        </p:nvPicPr>
        <p:blipFill>
          <a:blip r:embed="rId1"/>
          <a:stretch/>
        </p:blipFill>
        <p:spPr>
          <a:xfrm>
            <a:off x="1000080" y="214200"/>
            <a:ext cx="6786720" cy="4929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1309320" y="5573520"/>
            <a:ext cx="62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ты куришь, сделай т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Умный человек учится на своих ошибках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удрый -на чуж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aby18"/>
          <p:cNvPicPr/>
          <p:nvPr/>
        </p:nvPicPr>
        <p:blipFill>
          <a:blip r:embed="rId1"/>
          <a:stretch/>
        </p:blipFill>
        <p:spPr>
          <a:xfrm>
            <a:off x="3643200" y="3429000"/>
            <a:ext cx="1765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2876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А ты к кому себя относ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мальчик с пальчик"/>
          <p:cNvPicPr/>
          <p:nvPr/>
        </p:nvPicPr>
        <p:blipFill>
          <a:blip r:embed="rId1"/>
          <a:stretch/>
        </p:blipFill>
        <p:spPr>
          <a:xfrm>
            <a:off x="3143160" y="2071800"/>
            <a:ext cx="3024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9284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Раздражает слизистые оболочки вызывая боли в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исходит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слезотечение,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повышенное отделени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мокроты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Вызывает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удушье, головокруж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туберкуле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И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100 случаев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заболеваний туберкулеза -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95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приходится на</a:t>
            </a:r>
            <a:r>
              <a:rPr b="0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урильщ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СИНИЛЬ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Легко проникает в кровь (снижает способность клеток воспринимать кислор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ервыми страдают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нервные клетки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и большой дозе проявляется отравление: за сильнейшим возбуждением ЦНС наступает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паралич, останавливается дыхание а,                    затем и 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H00799_"/>
          <p:cNvPicPr/>
          <p:nvPr/>
        </p:nvPicPr>
        <p:blipFill>
          <a:blip r:embed="rId1"/>
          <a:stretch/>
        </p:blipFill>
        <p:spPr>
          <a:xfrm>
            <a:off x="7456320" y="4457880"/>
            <a:ext cx="696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МЕТАН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очень ядовитое вещество, вызывающее тяжелое </a:t>
            </a: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отравление, слепоту,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ФОРМ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ядовитое вещество, вызывающее боль в     груди, </a:t>
            </a: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кашель,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бронхит, коньюктивит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, сильные </a:t>
            </a:r>
            <a:r>
              <a:rPr b="0" i="1" lang="ru-RU" sz="3200" spc="-1" strike="noStrike">
                <a:solidFill>
                  <a:srgbClr val="993300"/>
                </a:solidFill>
                <a:latin typeface="Arial Narrow"/>
              </a:rPr>
              <a:t>отеки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ж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СЕРОВОДО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токсическое вещество, вызывающее острую кислородную недостаточность, приводящую к поражению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АЦЕТ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- это ядовитый п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20060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         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раздражающий гл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20060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дыхательные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20060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вызывающий удуш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20060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ru-RU" sz="3200" spc="-1" strike="noStrike">
                <a:solidFill>
                  <a:srgbClr val="20060e"/>
                </a:solidFill>
                <a:latin typeface="Arial Narrow"/>
              </a:rPr>
              <a:t>и головную б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 Narrow"/>
              </a:rPr>
              <a:t>РАДИОАКТИВ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а легких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3,5 раз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больше дозы, принятой международным соглашением по защите от рад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Радиоактивный свинец и висм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сстройство сна и аппети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плохая 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отставание в физическом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07:55Z</dcterms:created>
  <dc:creator>Venus</dc:creator>
  <dc:description/>
  <dc:language>en-US</dc:language>
  <cp:lastModifiedBy>c215-Plehanov</cp:lastModifiedBy>
  <dcterms:modified xsi:type="dcterms:W3CDTF">2012-01-13T08:47:16Z</dcterms:modified>
  <cp:revision>51</cp:revision>
  <dc:subject/>
  <dc:title>Вредные привычки: </dc:title>
</cp:coreProperties>
</file>