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4EF8-A93C-4636-ACEE-35F7FB282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B9CB-4345-4F95-92D5-40557FB9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78B4-4DCA-47AC-A997-3E788E747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A7C4-016E-41F0-87D8-22356901E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187E-E342-4DF3-9D83-3BFEDE8AB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3A04-B8EC-44CD-A6E5-C146294C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5139-1233-4564-A176-3B5B80D1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A15F-4D70-49A6-AEB0-560BA370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8B43-AABB-4EC5-8FCD-D572EEDE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64F0-7516-4FD7-9E91-F43139E3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4CC1-6CAE-4B85-901B-D3C763F0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8FD2-425B-4C01-8BCE-193BD701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0FB7-D379-45D8-BD69-029088AC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F845-EF52-4CEE-8FD6-F6829762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FB8B-DCEB-4401-832C-D5847C80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C275-EB1B-40B8-BEA0-3FBA0C3D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4623-C690-4644-9CE9-4DD3D3923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5F8DB-DFF4-48B9-B7A8-A1EF22F97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43CC5-665C-4E14-A33B-77E6C7DC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D864F-7C35-40A6-9A68-F2EE620E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9A7A8-EA01-46EA-B2A9-E8A13030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3857B-E37A-4AFA-8066-2485563D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27EC-4B45-49C6-AB86-65B2F6B7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C55AD-9F9C-40A6-BCF4-EF88170C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02314-50FF-46D8-9895-8F0F4904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5EA96-FCB4-4B05-8E66-3A7E7AB5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28708-B71D-410C-9BC1-6091C387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30BC5-2CA8-459F-A283-92F6AF31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1EB1E-B91E-4B77-AB06-5EFF51D19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3A63A-3746-4DBB-9F57-4768BD1F9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3FDE4-0893-4D29-83CE-5C745A9DD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3DAE0-5739-471F-B3EF-25310155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7F109-0C41-40BF-A635-B8B6FAC4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0438-1270-417C-90B3-FDD5171F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F5982-7281-4CEB-9E1C-61BD1986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8B3D4-4D6A-4740-89B7-78103CCE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9B5B7-3335-4A98-BC62-0C0F643E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1D4A3-B990-4663-B65B-DD3356B5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69D43-015F-4D7E-9C63-00AB46EA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07EE1-E62F-4AB3-8F26-4214BEA7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7C19A-5A1A-43B9-9B53-D1B9818A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1CC91-F367-42AD-9F31-3076C01FD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F52F2-96AE-4D62-A040-2E336D63D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D16F8-D04E-4BFB-BCF0-81654424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9245-1C58-42B9-96B4-B9CC2EB8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F99FC-AE30-4A8F-91E7-4EDA0C13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7754F-F25C-44E9-AA43-E7EA21BF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2F575-4267-475F-B5E4-4CC5D708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F7313-52C7-4CEA-A1B7-DD263773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8F864-C2A4-4DA3-9C4A-B4CCF758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A3E16-55E8-4961-828B-7EC4291C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15210-D8A5-40B0-9130-A36D8ED4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BCD23-5FCF-45F0-BE38-86183919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E6882-54A8-48EE-8152-79E43781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02094-E20D-4382-B798-A5BE6D9DD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AB3B-E5EB-45C3-BDCB-B6AFB04F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E0E9B-127B-41CD-AEEC-474AA6F05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A9CE-BAAD-4BF2-BD0B-8291B551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2423-4AEC-469E-ADEA-783E4B8C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909B-4425-458F-BF20-816ED456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68A2-EEA0-4881-A0F8-50090ED6415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A53E-82A8-4AEA-A999-380313655E7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2357-EDCD-427B-A750-A6D8B1009BA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3CB9-E598-44EE-AA74-D2A88A9C49A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A970-F54F-44A9-8679-CD0357D6628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Звуковая информация: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кодирование,</a:t>
            </a: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ввод,</a:t>
            </a: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обработ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4857840" y="5643720"/>
            <a:ext cx="323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рохова Анастасия, 9а класс МБОУ «СОШ №2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400"/>
                            </p:stCondLst>
                            <p:childTnLst>
                              <p:par>
                                <p:cTn id="10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едакторы цифрового звука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ни обеспечивают запись(оцифровку) звука и сохранение на диск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ругие возможности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ногоканальное сведение ауди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ботка специальными эффектам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чистка от шумов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 thruBlk="true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еквенсоры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то программы для написания музыки, использующие MIDI-синтезатор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новные возможност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здание и редактирование музык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вмещение MIDI-дорожек с цифровыми сигналам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уществление мастеринг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 thruBlk="true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Трекеры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то программы, похожие на секвенсоры, но отличающиеся от них тем, что проигрываемые в трекерных модулях инструменты(сэмплы) хранятся внутри файл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 thruBlk="true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вук, который мы слышим,- это звуковая волна (аналоговый сигнал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бы записать такой звук на компьютер, нужно преобразовать его в цифровую форму, что и делает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налого-цифровой преобразователь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(АЦП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воспроизведения используетс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цифроаналоговый преобразователь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300"/>
                            </p:stCondLst>
                            <p:childTnLst>
                              <p:par>
                                <p:cTn id="25" nodeType="afterEffect" fill="hold" presetClass="entr" presetID="4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1600"/>
                            </p:stCondLst>
                            <p:childTnLst>
                              <p:par>
                                <p:cTn id="31" nodeType="afterEffect" fill="hold" presetClass="entr" presetID="47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еобразование звука из цифрового вида в аналоговый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5"/>
          <p:cNvSpPr/>
          <p:nvPr/>
        </p:nvSpPr>
        <p:spPr>
          <a:xfrm>
            <a:off x="1887480" y="4456080"/>
            <a:ext cx="11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7" descr="Рисунок1"/>
          <p:cNvPicPr/>
          <p:nvPr/>
        </p:nvPicPr>
        <p:blipFill>
          <a:blip r:embed="rId2"/>
          <a:stretch/>
        </p:blipFill>
        <p:spPr>
          <a:xfrm>
            <a:off x="826920" y="2060640"/>
            <a:ext cx="7632720" cy="39355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 thruBlk="true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искретизация зву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ая звуковая волна разбивается на отдельные участки по времени, для каждого устанавливается своя величина амплитуды. Каждой ступеньке присваивается свой уровень громкости звука, который можно рассматривать как набор возможных состоян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850"/>
                            </p:stCondLst>
                            <p:childTnLst>
                              <p:par>
                                <p:cTn id="52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Характеристики качества звука: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"Глубина" кодирования звук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- количество бит на один звуковой сигна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астота дискретизаци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это количество измерений уровней сигнала за 1 секунду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ем больше частота дискретизации, тем качественнее зву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сновные форматы звуковых файл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4360" y="1655640"/>
            <a:ext cx="4030920" cy="4470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WAV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тое хранилище дискретных данных. Состоит из последовательности отсчётов (дискретных выборок амплитуды сигнала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M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айл, хранящий в себе последовательность MIDI-сообщений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644720" y="1599840"/>
            <a:ext cx="4041720" cy="4530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МР3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ат,позволяющий сжимать звуковые файлы без заметной потери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28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280"/>
                            </p:stCondLst>
                            <p:childTnLst>
                              <p:par>
                                <p:cTn id="92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280"/>
                            </p:stCondLst>
                            <p:childTnLst>
                              <p:par>
                                <p:cTn id="96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280"/>
                            </p:stCondLst>
                            <p:childTnLst>
                              <p:par>
                                <p:cTn id="100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вод музыки в компьютер.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94920" y="1268280"/>
            <a:ext cx="8373960" cy="5213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особы ввода звука в компьютер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-360" y="1916280"/>
            <a:ext cx="777708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цифровка аналогового сигнала(виниловая пластинка или музыкальный инструмент) аналого-цифровым преобразователем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рез MIDI-интерфейс звуковой карт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8d3e"/>
                </a:solidFill>
                <a:latin typeface="Verdana"/>
              </a:rPr>
              <a:t>Обработка звука 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мплитудные преобразова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астотные преобразова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азовые преобразова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ременные преобразова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 thruBlk="true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Типы программного обеспечения для работы со звуком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дакторы цифрового зву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еквенсор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кер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 thruBlk="true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12:02:27Z</dcterms:created>
  <dc:creator>Krylov</dc:creator>
  <dc:description/>
  <dc:language>en-US</dc:language>
  <cp:lastModifiedBy>User</cp:lastModifiedBy>
  <dcterms:modified xsi:type="dcterms:W3CDTF">2012-01-13T15:35:25Z</dcterms:modified>
  <cp:revision>6</cp:revision>
  <dc:subject/>
  <dc:title>Звуковая информация:</dc:title>
</cp:coreProperties>
</file>