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C39F-33F7-44F9-BD53-56CF301E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16A4-2C12-42A2-8247-38F49828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B274-F2A5-4400-8BBA-8EA3EBD2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96F5-3E3B-4FD3-9702-22E3D85A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717-F3AF-4C49-9196-9FAF7A15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604D-0228-48EA-AC7F-E766765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9FFD-0657-4BD6-9395-04D2DC8D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E9B-3892-4BFE-8E55-66FBEEB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BAA-C91F-4F90-8F0F-B629EE1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9B3-5B28-4612-B17B-D9834E2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CA40-46C4-4F62-A2C8-289FFDD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89E6-0781-41DF-BEC3-5A6ABE4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E9F-6625-44B5-9411-9215216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1C51-C68C-4D73-9527-55300B4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8CA-014F-4316-A874-9C4306D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A17-781A-4FB4-A2A4-DA4F7BF2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4603-E61A-4012-AFD7-29DB98BD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2CA7-DB8C-41F5-98B5-673F6CD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BE84-450F-4901-B5C8-51EB111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769B-5824-409C-84D8-5AD083B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42D3-2B28-475A-960C-5E2299A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DB99-6323-476B-A6DC-DF15318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CCBB-8210-4772-9423-C1E605F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4CBF-7814-4BCB-B598-D71F683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044-68EA-46C0-9B67-EC2056CECE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6D0-DCF1-49C8-AC9A-915ECB50A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Дәреснең темасы: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2491920"/>
            <a:ext cx="6400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Процен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Картинка 3 из 96000"/>
          <p:cNvPicPr/>
          <p:nvPr/>
        </p:nvPicPr>
        <p:blipFill>
          <a:blip r:embed="rId1"/>
          <a:stretch/>
        </p:blipFill>
        <p:spPr>
          <a:xfrm>
            <a:off x="2700360" y="3716280"/>
            <a:ext cx="38098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ренче мәсьәлә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нның  процентын табу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уенча.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Предприятие бер кварталда 500 насос эшләп чыгарды, аларның 60 % ы югары сыйфатка ия. Предприятие югары сыйфатлы ничә насос эшләп чыгарган?   (№156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3789360"/>
            <a:ext cx="55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Чишелеш: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60 % =0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500 х 0,6=300 (насо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Җавап: 300 югары сыйфатлы нас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520720" cy="193032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previousslide"/>
          </p:cNvPr>
          <p:cNvSpPr/>
          <p:nvPr/>
        </p:nvSpPr>
        <p:spPr>
          <a:xfrm>
            <a:off x="8172360" y="333360"/>
            <a:ext cx="611280" cy="647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47640"/>
              <a:gd name="textAreaBottom" fmla="*/ 608040 h 647640"/>
            </a:gdLst>
            <a:ahLst/>
            <a:rect l="textAreaLeft" t="textAreaTop" r="textAreaRight" b="textAreaBottom"/>
            <a:pathLst>
              <a:path w="21600" h="22884">
                <a:moveTo>
                  <a:pt x="0" y="0"/>
                </a:moveTo>
                <a:lnTo>
                  <a:pt x="21600" y="0"/>
                </a:lnTo>
                <a:lnTo>
                  <a:pt x="21600" y="22884"/>
                </a:lnTo>
                <a:lnTo>
                  <a:pt x="0" y="22884"/>
                </a:lnTo>
                <a:close/>
              </a:path>
              <a:path fill="lightenLess" w="21600" h="228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84">
                <a:moveTo>
                  <a:pt x="21600" y="0"/>
                </a:moveTo>
                <a:lnTo>
                  <a:pt x="21600" y="22884"/>
                </a:lnTo>
                <a:lnTo>
                  <a:pt x="20200" y="21484"/>
                </a:lnTo>
                <a:lnTo>
                  <a:pt x="20200" y="1400"/>
                </a:lnTo>
                <a:close/>
              </a:path>
              <a:path fill="darkenLess" w="21600" h="22884">
                <a:moveTo>
                  <a:pt x="21600" y="22884"/>
                </a:moveTo>
                <a:lnTo>
                  <a:pt x="0" y="22884"/>
                </a:lnTo>
                <a:lnTo>
                  <a:pt x="1400" y="21484"/>
                </a:lnTo>
                <a:lnTo>
                  <a:pt x="20200" y="21484"/>
                </a:lnTo>
                <a:close/>
              </a:path>
              <a:path fill="lighten" w="21600" h="22884">
                <a:moveTo>
                  <a:pt x="0" y="228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84"/>
                </a:lnTo>
                <a:close/>
              </a:path>
              <a:path fill="darken" w="21600" h="22884">
                <a:moveTo>
                  <a:pt x="3794" y="11442"/>
                </a:moveTo>
                <a:lnTo>
                  <a:pt x="17806" y="4436"/>
                </a:lnTo>
                <a:lnTo>
                  <a:pt x="17806" y="1844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центы буенча санны табу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Аю баласының массасы ак аю массасының 15 % ын тәшкил итә. Аю баласының массасы 120 кг булса, ак аюның массасын табыгыз. (№157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3360"/>
            <a:ext cx="54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Чишелеш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15%=0,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120:0,15=800(к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Җавап: 800 кг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881080" cy="273672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8172360" y="40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ннарның процентл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әйләнешен табу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Туристка  80 км юл үтәргә кирәк. Көн азагына ул  20 км юл үткән. Турист барлык юлның ничә процентын үткә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 rot="10762800">
            <a:off x="2123640" y="4005000"/>
            <a:ext cx="363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Чишелеш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20:80=0,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0,25=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Җавап: 25 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2808360" cy="2736720"/>
          </a:xfrm>
          <a:prstGeom prst="rect">
            <a:avLst/>
          </a:prstGeom>
          <a:ln w="0">
            <a:noFill/>
          </a:ln>
        </p:spPr>
      </p:pic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7740720" y="40464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шламалы сату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әяләр   10% ка арзан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елган бәяләрне үзгәртергә кирә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6712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68360" y="2637000"/>
            <a:ext cx="8156520" cy="1721880"/>
            <a:chOff x="468360" y="2637000"/>
            <a:chExt cx="8156520" cy="1721880"/>
          </a:xfrm>
        </p:grpSpPr>
        <p:sp>
          <p:nvSpPr>
            <p:cNvPr id="575" name="AutoShape 23"/>
            <p:cNvSpPr/>
            <p:nvPr/>
          </p:nvSpPr>
          <p:spPr>
            <a:xfrm>
              <a:off x="468360" y="2997000"/>
              <a:ext cx="1676160" cy="1218960"/>
            </a:xfrm>
            <a:prstGeom prst="irregularSeal1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23"/>
            <p:cNvSpPr/>
            <p:nvPr/>
          </p:nvSpPr>
          <p:spPr>
            <a:xfrm>
              <a:off x="2484360" y="3139920"/>
              <a:ext cx="1676520" cy="1218960"/>
            </a:xfrm>
            <a:prstGeom prst="irregularSeal1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4500360" y="2997000"/>
              <a:ext cx="1676520" cy="1218960"/>
            </a:xfrm>
            <a:prstGeom prst="irregularSeal1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23"/>
            <p:cNvSpPr/>
            <p:nvPr/>
          </p:nvSpPr>
          <p:spPr>
            <a:xfrm>
              <a:off x="6948360" y="2997000"/>
              <a:ext cx="1676520" cy="1218960"/>
            </a:xfrm>
            <a:prstGeom prst="irregularSeal1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02520" y="2708280"/>
              <a:ext cx="94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0су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8720" y="2779200"/>
              <a:ext cx="863280" cy="21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47240" y="2637000"/>
              <a:ext cx="94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су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700360" y="2707920"/>
              <a:ext cx="863640" cy="21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34880" y="2708280"/>
              <a:ext cx="94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су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24720" y="2708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су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380360" y="2779200"/>
              <a:ext cx="863280" cy="21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4932360" y="2779200"/>
              <a:ext cx="863640" cy="21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757800" y="3357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70 с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45080" y="3573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0 с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9016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0 с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10880" y="3357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60 с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2592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Хәзер тестлар чишәбез!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орауларга җавап бирегез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2997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цент дип нәрсә ата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457200" y="1600200"/>
          <a:ext cx="4038480" cy="4533480"/>
        </p:xfrm>
        <a:graphic>
          <a:graphicData uri="http://schemas.openxmlformats.org/drawingml/2006/table">
            <a:tbl>
              <a:tblPr/>
              <a:tblGrid>
                <a:gridCol w="403200"/>
                <a:gridCol w="405000"/>
                <a:gridCol w="403200"/>
                <a:gridCol w="404640"/>
                <a:gridCol w="403200"/>
                <a:gridCol w="403200"/>
                <a:gridCol w="405000"/>
                <a:gridCol w="403200"/>
                <a:gridCol w="404640"/>
                <a:gridCol w="40320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"/>
          <p:cNvSpPr/>
          <p:nvPr/>
        </p:nvSpPr>
        <p:spPr>
          <a:xfrm>
            <a:off x="1600200" y="65160"/>
            <a:ext cx="65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4600" y="40464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өздән бер өлешне ПРОЦЕНТ дип атый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27640" y="1773360"/>
            <a:ext cx="3960360" cy="4031640"/>
            <a:chOff x="4427640" y="1773360"/>
            <a:chExt cx="3960360" cy="4031640"/>
          </a:xfrm>
        </p:grpSpPr>
        <mc:AlternateContent>
          <mc:Choice xmlns:a14="http://schemas.microsoft.com/office/drawing/2010/main" Requires="a14">
            <p:sp>
              <p:nvSpPr>
                <p:cNvPr id="523" name="Object 225"/>
                <p:cNvSpPr txBox="1"/>
                <p:nvPr/>
              </p:nvSpPr>
              <p:spPr>
                <a:xfrm>
                  <a:off x="5408640" y="4482000"/>
                  <a:ext cx="1375560" cy="12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24" name="Text Box 224" descr=""/>
            <p:cNvPicPr/>
            <p:nvPr/>
          </p:nvPicPr>
          <p:blipFill>
            <a:blip r:embed="rId1"/>
            <a:stretch/>
          </p:blipFill>
          <p:spPr>
            <a:xfrm>
              <a:off x="6620040" y="4166640"/>
              <a:ext cx="17679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4427640" y="2278440"/>
              <a:ext cx="183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 шакмак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"/>
                <p:cNvSpPr txBox="1"/>
                <p:nvPr/>
              </p:nvSpPr>
              <p:spPr>
                <a:xfrm>
                  <a:off x="6260400" y="1773360"/>
                  <a:ext cx="1066680" cy="151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Унарлы вакланманы процентка ничек әйләндерәләр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нарлы вакланманы процентка әйләндерү өчен, аны 100 гә тапкырларга кирә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роцентны унарлы вакланмага ничек күчерергә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нтны унарлы вакланмага күчерү өчен, процентлар санын 100 г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үләргә кирә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Унарлы вакланманы 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оцентларда әйтегез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08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34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5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01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002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05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4,5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Җавапла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08=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34=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,5=6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01=10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002=0,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05=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4,5=54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оцентны 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унарлы вакланма рәвешендә күрсәтегез: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9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7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6 %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Җавапла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%=0,0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%=0,1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5%=0,02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9%=0,39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7%=0,007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%=0,06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6%=1,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2800" y="476280"/>
            <a:ext cx="8208360" cy="5605200"/>
            <a:chOff x="442800" y="476280"/>
            <a:chExt cx="8208360" cy="5605200"/>
          </a:xfrm>
        </p:grpSpPr>
        <p:cxnSp>
          <p:nvCxnSpPr>
            <p:cNvPr id="540" name="_s45072"/>
            <p:cNvCxnSpPr>
              <a:stCxn id="541" idx="0"/>
              <a:endCxn id="542" idx="2"/>
            </p:cNvCxnSpPr>
            <p:nvPr/>
          </p:nvCxnSpPr>
          <p:spPr>
            <a:xfrm flipV="1" rot="16200000">
              <a:off x="5422680" y="1841760"/>
              <a:ext cx="1121760" cy="28735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3" name="_s45071"/>
            <p:cNvCxnSpPr>
              <a:stCxn id="544" idx="0"/>
              <a:endCxn id="542" idx="2"/>
            </p:cNvCxnSpPr>
            <p:nvPr/>
          </p:nvCxnSpPr>
          <p:spPr>
            <a:xfrm flipV="1">
              <a:off x="4547160" y="2718000"/>
              <a:ext cx="3600" cy="112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5" name="_s45070"/>
            <p:cNvCxnSpPr>
              <a:stCxn id="546" idx="0"/>
              <a:endCxn id="542" idx="2"/>
            </p:cNvCxnSpPr>
            <p:nvPr/>
          </p:nvCxnSpPr>
          <p:spPr>
            <a:xfrm flipH="1" flipV="1" rot="5400000">
              <a:off x="2549520" y="1842120"/>
              <a:ext cx="1121760" cy="28735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2" name="_s45066"/>
            <p:cNvSpPr/>
            <p:nvPr/>
          </p:nvSpPr>
          <p:spPr>
            <a:xfrm>
              <a:off x="3315600" y="476280"/>
              <a:ext cx="2462400" cy="2242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Мәсьәлә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өрләр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45067"/>
            <p:cNvSpPr/>
            <p:nvPr/>
          </p:nvSpPr>
          <p:spPr>
            <a:xfrm>
              <a:off x="442800" y="3839400"/>
              <a:ext cx="2462400" cy="2242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анның 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оцентын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абу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45068"/>
            <p:cNvSpPr/>
            <p:nvPr/>
          </p:nvSpPr>
          <p:spPr>
            <a:xfrm>
              <a:off x="3315600" y="3839400"/>
              <a:ext cx="2462400" cy="2242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оцен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буенча санн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абу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45069"/>
            <p:cNvSpPr/>
            <p:nvPr/>
          </p:nvSpPr>
          <p:spPr>
            <a:xfrm>
              <a:off x="6188760" y="3839400"/>
              <a:ext cx="2462400" cy="2242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аннарның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оцентл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бәйләнешен табу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611280" y="260280"/>
            <a:ext cx="8208000" cy="6406560"/>
            <a:chOff x="611280" y="260280"/>
            <a:chExt cx="8208000" cy="6406560"/>
          </a:xfrm>
        </p:grpSpPr>
        <p:cxnSp>
          <p:nvCxnSpPr>
            <p:cNvPr id="548" name="_s61454"/>
            <p:cNvCxnSpPr>
              <a:stCxn id="549" idx="0"/>
              <a:endCxn id="550" idx="2"/>
            </p:cNvCxnSpPr>
            <p:nvPr/>
          </p:nvCxnSpPr>
          <p:spPr>
            <a:xfrm flipV="1" rot="16200000">
              <a:off x="5510880" y="2026080"/>
              <a:ext cx="1281600" cy="2873520"/>
            </a:xfrm>
            <a:prstGeom prst="bentConnector3">
              <a:avLst>
                <a:gd name="adj1" fmla="val 128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1" name="_s61453"/>
            <p:cNvCxnSpPr>
              <a:stCxn id="552" idx="0"/>
              <a:endCxn id="550" idx="2"/>
            </p:cNvCxnSpPr>
            <p:nvPr/>
          </p:nvCxnSpPr>
          <p:spPr>
            <a:xfrm flipV="1">
              <a:off x="4715280" y="2822400"/>
              <a:ext cx="3600" cy="128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3" name="_s61452"/>
            <p:cNvCxnSpPr>
              <a:stCxn id="554" idx="0"/>
              <a:endCxn id="550" idx="2"/>
            </p:cNvCxnSpPr>
            <p:nvPr/>
          </p:nvCxnSpPr>
          <p:spPr>
            <a:xfrm flipH="1" flipV="1" rot="5400000">
              <a:off x="2638080" y="2026440"/>
              <a:ext cx="1281600" cy="2873520"/>
            </a:xfrm>
            <a:prstGeom prst="bentConnector3">
              <a:avLst>
                <a:gd name="adj1" fmla="val 128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50" name="_s61448"/>
            <p:cNvSpPr/>
            <p:nvPr/>
          </p:nvSpPr>
          <p:spPr>
            <a:xfrm>
              <a:off x="3484080" y="260280"/>
              <a:ext cx="2462400" cy="256248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62480"/>
                <a:gd name="textAreaBottom" fmla="*/ 2442600 h 2562480"/>
              </a:gdLst>
              <a:ahLst/>
              <a:rect l="textAreaLeft" t="textAreaTop" r="textAreaRight" b="textAreaBottom"/>
              <a:pathLst>
                <a:path w="21600" h="22478">
                  <a:moveTo>
                    <a:pt x="3600" y="0"/>
                  </a:moveTo>
                  <a:arcTo wR="3600" hR="3600" stAng="16200000" swAng="-5400000"/>
                  <a:lnTo>
                    <a:pt x="0" y="18878"/>
                  </a:lnTo>
                  <a:arcTo wR="3600" hR="3600" stAng="10800000" swAng="-5400000"/>
                  <a:lnTo>
                    <a:pt x="18000" y="22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Бу мәсьәләләрн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чишү өчен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чишү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ограммаларын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искә төшерик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_s61449"/>
            <p:cNvSpPr/>
            <p:nvPr/>
          </p:nvSpPr>
          <p:spPr>
            <a:xfrm>
              <a:off x="611280" y="4104360"/>
              <a:ext cx="2462400" cy="256248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62480"/>
                <a:gd name="textAreaBottom" fmla="*/ 2442600 h 2562480"/>
              </a:gdLst>
              <a:ahLst/>
              <a:rect l="textAreaLeft" t="textAreaTop" r="textAreaRight" b="textAreaBottom"/>
              <a:pathLst>
                <a:path w="21600" h="22478">
                  <a:moveTo>
                    <a:pt x="3600" y="0"/>
                  </a:moveTo>
                  <a:arcTo wR="3600" hR="3600" stAng="16200000" swAng="-5400000"/>
                  <a:lnTo>
                    <a:pt x="0" y="18878"/>
                  </a:lnTo>
                  <a:arcTo wR="3600" hR="3600" stAng="10800000" swAng="-5400000"/>
                  <a:lnTo>
                    <a:pt x="18000" y="22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1.Процентн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унарлы вакланм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рәвешендә күрсәт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2.Бирелгән санн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килеп чыккан унарл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акланмага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апкырл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_s61450"/>
            <p:cNvSpPr/>
            <p:nvPr/>
          </p:nvSpPr>
          <p:spPr>
            <a:xfrm>
              <a:off x="3484080" y="4104360"/>
              <a:ext cx="2462400" cy="256248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62480"/>
                <a:gd name="textAreaBottom" fmla="*/ 2442600 h 2562480"/>
              </a:gdLst>
              <a:ahLst/>
              <a:rect l="textAreaLeft" t="textAreaTop" r="textAreaRight" b="textAreaBottom"/>
              <a:pathLst>
                <a:path w="21600" h="22478">
                  <a:moveTo>
                    <a:pt x="3600" y="0"/>
                  </a:moveTo>
                  <a:arcTo wR="3600" hR="3600" stAng="16200000" swAng="-5400000"/>
                  <a:lnTo>
                    <a:pt x="0" y="18878"/>
                  </a:lnTo>
                  <a:arcTo wR="3600" hR="3600" stAng="10800000" swAng="-5400000"/>
                  <a:lnTo>
                    <a:pt x="18000" y="22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1.Процентн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унарлы вакланм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рәвешендә күрсәт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2.Бу санн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килеп чыккан унарл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акланмага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бүл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61451"/>
            <p:cNvSpPr/>
            <p:nvPr/>
          </p:nvSpPr>
          <p:spPr>
            <a:xfrm>
              <a:off x="6356880" y="4104360"/>
              <a:ext cx="2462400" cy="256248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562480"/>
                <a:gd name="textAreaBottom" fmla="*/ 2442600 h 2562480"/>
              </a:gdLst>
              <a:ahLst/>
              <a:rect l="textAreaLeft" t="textAreaTop" r="textAreaRight" b="textAreaBottom"/>
              <a:pathLst>
                <a:path w="21600" h="22478">
                  <a:moveTo>
                    <a:pt x="3600" y="0"/>
                  </a:moveTo>
                  <a:arcTo wR="3600" hR="3600" stAng="16200000" swAng="-5400000"/>
                  <a:lnTo>
                    <a:pt x="0" y="18878"/>
                  </a:lnTo>
                  <a:arcTo wR="3600" hR="3600" stAng="10800000" swAng="-5400000"/>
                  <a:lnTo>
                    <a:pt x="18000" y="22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а  санын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   санына бүлергә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2. Килеп чыккан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өлешне 100 гә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апкырларг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">
            <a:hlinkClick r:id="" action="ppaction://hlinkshowjump?jump=previousslide"/>
          </p:cNvPr>
          <p:cNvSpPr/>
          <p:nvPr/>
        </p:nvSpPr>
        <p:spPr>
          <a:xfrm>
            <a:off x="7812000" y="40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37:29Z</dcterms:created>
  <dc:creator>Каримуллина</dc:creator>
  <dc:description/>
  <dc:language>en-US</dc:language>
  <cp:lastModifiedBy>Каримуллина</cp:lastModifiedBy>
  <dcterms:modified xsi:type="dcterms:W3CDTF">2011-04-14T03:29:28Z</dcterms:modified>
  <cp:revision>38</cp:revision>
  <dc:subject/>
  <dc:title>Тема урока:</dc:title>
</cp:coreProperties>
</file>