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6A2-4412-4BD3-A62A-105FB6CA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828-68FB-4BD1-B335-F5E6776A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DFEFF-6583-4CBA-B18A-666B3B32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AC35D-9D87-4FA5-9FD6-712B1D78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1B716-62F1-4F2E-BC43-752B23D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E8409-F59F-4419-87FA-E02BA38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BAB46-35E8-453A-ABD6-0ACB2BAD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8EBA0-4887-49CC-A4BB-BA0169A7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B4B04-F52B-4594-BD01-21CD1B9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8E110-A323-4758-ACBE-49168847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16794-CF73-4265-B73E-3FF823C1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AF080-9DE7-4FBA-91B4-90E61B02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366-DDF2-438A-8B5E-66CE8719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F602E-9C9D-4605-9441-986A7127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AC492-088C-4DD0-9030-FD5F7388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813A5-9A8C-40D0-B6C0-0EE84355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1F151-806D-49F3-90DB-6257A7BA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DC731-7457-48B2-BE8B-E119201D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ACF5C-D656-42E9-8C28-6E3945A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AEE47-2BB7-42B7-9C88-473B6CD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04C98-2DFE-4DFE-BE1D-4B738461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E8635-3BC8-419A-98FD-C33AD38D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8C406-8686-4F4F-90C9-3EB91634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0B1-B0CD-440E-B064-52340DF3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EA431-01EB-4550-8527-AB08ED0C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062CA2-0B11-4EFC-914E-E325EB15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72DEAA-C461-44ED-A166-6F117C28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EC55BF-BC71-4C0A-956A-21A9B9F2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596B24-9052-4257-A3FE-8959A0A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E09048-D579-41E2-A5CC-F822F09E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91264A-68C7-478D-AAAF-758CC0DA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77AEDD-6BDE-4576-A8B7-1ECE8EA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C81C8A-12E0-4FD8-92D6-3336BDE3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028E33-51F1-425D-8402-C35CA7F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E156-1CF3-44FF-8683-1F8F2D58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D10C3E-999C-415A-960F-9C4BC88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2B71AC-775F-49B4-9E67-856FF371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9C52E9-F90B-4725-AB36-E3B2D3B3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D4E8A-9E33-40C3-A95D-9D3AEADB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75389-097E-4167-AE02-7D22F06C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AD715-6854-4005-8901-E7067A6F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2F01B-2023-4202-A9AC-B854C64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A6531-6B58-4BBF-B5D6-32EE4D8B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22B75-4451-4FDC-80ED-61F4FF0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2C33B-FAE1-4DCA-8946-7579D94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84ED-54C2-428C-A957-A4731873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0F0BC-0337-4EA5-AE82-2963A9C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2AE00-BD7D-4CC0-A008-FC7F4C8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C2667-27B0-46BD-8131-F4897F58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B7CB2-CEC1-4202-906D-65F7DCA1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EF733-1692-4D75-87CC-D9B0A0F3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CC3B9-2E04-4F27-BC4B-99B72B0F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AFFF4-0C02-4298-B4CF-FF7EB326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9BE92-F19E-4899-B3D0-D0607D52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0212B-789C-4280-8F93-20028BF5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1A9AF-DF9F-4D30-830A-CE7A1DDE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35DC-5B91-4ADB-8AF0-74482047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8C409-27E6-4129-B359-67A16FD9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F7064-1F91-43C8-80C8-9733FFF2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A5575-AF11-4B32-9E02-823F342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0FFF5-2561-414A-9B10-B9D3F188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FB2C2-CFB3-463C-8985-92BF5AC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5FB5A-51B5-41C3-AC89-C4DDE3B3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023CD-88B1-468B-B3CF-61489C05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72F54-84AE-4E64-BEE8-90E90B3F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7D996-BCA1-4261-BC79-C9DCE859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B341E-7147-4483-BE22-B340F49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B0C0-0A13-4D9D-AEAB-1C4F6231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CA060-2017-4EB4-ACF0-816D8B41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69EAF-578D-4923-B019-2CF36E82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83EBF-DE91-4392-8B33-822CE607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58E46-587E-41AF-8A71-A7B37935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0087D-CD2F-46FC-B4E9-514C927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1F784-170C-448D-B5E5-A929859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BD853-DDFE-4C39-8F8B-18A0CC77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621B2-6F08-4C10-88D0-901647A0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A4158-BD2A-4A7F-AEF2-21328666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CFEEE-5548-4EC4-8B19-EEE9341B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AE89-5AE1-4880-A307-EFC84EA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654A4-35DE-42E8-82EC-81A1890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05C6C-EECA-4987-9652-73A1EDDF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A654F-13E1-46A8-88BE-817C5D8A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3ACCD-CC27-4C88-A042-A2A94DBB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C717F-0D08-47FE-97BF-D71A77D6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65C44-F7BE-47DB-B51F-0300889D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8A1F6-5148-463E-96DE-771D9C8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76B9F-D9F1-4B84-A747-9E7284A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732B2-34DB-47B2-92A5-F4DF43FE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1669B-4780-44C6-B9E2-F0FA03B6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95C-47A7-4A72-8B2F-1B30092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59405-0C27-4D0D-B54A-E7E61C06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783F1-147C-46A1-A4CE-A39FED5D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D24BB-8FA8-4889-8EC7-0AE8335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57F0A-D605-4F1D-BA76-2DFEE39A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D3F10-8A96-46F8-9A67-40C40512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6DB82-8491-4D7B-AD5B-8325D30A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6F336-08ED-4078-82A0-9CC0447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77B6A-4670-4148-A504-65FC72F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361BA-C79B-4A2C-9C39-C32C3D4A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24DFE-EE08-4CEE-9169-4FEA3A7A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B6D5-97C2-436C-9C08-289BBB92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EFF62-1BF2-428F-8950-2AB48086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145D2-4BCA-4E43-95D8-C895EA0D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923B1-0F73-4F69-A009-66350CF6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F91A9-83B7-4FDF-B75C-C22DCC87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20B16-8AA7-4481-BBC4-36DC308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DD4F1-C097-42ED-B297-ACCD0542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E1B69-9EBB-4E8E-A318-02A9ED69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99317-433A-497B-B15D-B5A08DC7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FBC38-1BD1-4CE0-9432-7E1FDC93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92135-8322-44B1-99AF-6152C675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660-8A3B-47C0-BEF6-382078B9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5ADE-4FE1-49BE-8680-EA31B35A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1ABFD-8AA9-4D6F-ABCD-8602C6E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91704-9DE6-487D-82B4-E8B4A0B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921C3-0BD1-48E0-8E38-C7CE59B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B98E3-DCBB-4252-9703-FCDE9FFB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AE257-5CA5-46BC-8B52-81D4D37B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2EB93-600B-4244-92A4-9A431CA0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F847C-1E8A-4B71-AFAA-EF1870D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35840-5B92-4397-8B9E-AF6E7661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54FBF-5A32-463F-9ECE-869DC1B6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63E0A-3191-4FCB-8580-1F0D24D5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253A-6FDD-45BB-BF95-16E79689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3B9BF-11A0-4BE5-8017-02933A3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A3CAF-B3C2-457E-B76E-27F80932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100D0-2CC8-48AA-A133-585AC27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D7D22-4173-4B1F-9DCE-20F846D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31773-F7EA-4165-BB3E-922F0E2A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571C4-2376-4E07-89E3-484C63B7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45244-C433-49D9-A465-FD25C52D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441E85-25FD-473D-9854-106F28F8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D93503-1973-4765-BB97-E1885FB6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3AFE88-AA5B-411A-9AF9-087E941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A4B4-B468-48D7-9159-2B1CA5D8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C0BB7E-DB19-483C-ACE3-2017FA9B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1CDE7F-48F6-4EF6-A773-A2103FAC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8F1AE8-4C27-4CAE-95A7-80F1EEF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7477C6-7EE6-4EDE-87F5-1D8AC89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82202B-A046-418F-AD6F-57EAC4A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A1EE3B-668D-4920-ADEC-7D4D0C9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889069-2307-49B6-A1D5-90C0186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2933F9-7502-4728-9DCD-EEC840F0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11C5BF-DB43-4679-A8CC-D70CB2C3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5EE57-EDD0-4E0B-A750-951DD47B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8DC7-DFB7-4E78-9A74-4FE69FC3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DA531-4212-4961-A9E8-8E466905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B75CF-2202-4020-8DBD-D854610D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B9E71-D130-4662-8487-FB427DF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68BD7-EF3B-4EF4-A597-0875210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87201-542E-496D-AECE-F2C045B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82C44-06E1-46DD-A15C-6109647C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9ABBA-C3DB-451E-8D21-498541BD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B9F4D-855A-4AC6-8023-17652D86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B4F6E-E6FE-41EC-B72B-2CBB9617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82D32-7234-49BE-829A-40CD86CE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7D6-7805-4D4A-9BF0-3700DFAC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2B52B-B552-4BBB-9D06-E14D458A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8DF17-D786-40C2-B3E4-FC5FD08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A8C39-AC62-4C09-995E-BF3C2BDB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D09E04-375D-4B66-9F1E-C778FCC2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6B6F3-2B21-4A23-81E6-869D8706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5528D-20F9-49B9-BCDF-415FF8E3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4A287-EF49-439E-88F9-D0D205E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1E69C-26DB-4EA2-A34C-F3055D79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AEAA34-4F62-441F-B9C2-63EB47D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528C8-7A07-49BF-BA44-1BCB3CD2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9CFD-2971-4401-8BE7-0AC6A559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05600-C063-452C-B720-C29C1943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4A9EF7-2369-4018-9B06-9EDEB0FE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A236E-61AD-4FBA-9124-0387C6B0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75FE87-EF15-4AA5-8010-A415D580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CDBDD6-2C41-4B7E-AF93-B8A9DCAD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003D7C-E9BE-46AE-A957-4C402DCE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1D8943-1D2D-4DA4-9409-E1710AB3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C784BD-59EC-42D2-BB1A-8DDB424B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68C38D-0B5E-4551-81AF-C88BC24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121CBE-6DC3-4686-BD3D-E9167E6B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C64E-725F-4D76-A8D1-5FE0A504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D77F17-2FD8-4266-B228-F3FB0EB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EA35A6-2EB5-43E0-83FF-0827438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BC0821-EB07-49D9-9A22-F3A7906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714BB-5BFF-46A7-A6E7-9978DCF9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01905D-4A19-41F3-BF64-7738FB31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62142-AC95-4AD8-8A5F-82391CA1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4C8065-A568-4CA8-9913-D64674A5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D4761A-2F2D-4723-BAAB-8BFD61B8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74C4F8-0579-4109-BCD8-A1D9929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DCA94A-03D1-4415-BFD9-C756E7E7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D866-4892-4FE3-A8CD-06CF2314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A3DA31-4054-4B20-99F1-7E74C584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A63D82-B7A2-4E0D-BD2C-F3ADE0A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B11D19-5C59-4CAD-BDE3-9DB9380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E2F24A-0C10-409D-9CE3-F9EE526D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4E22B4-D872-4348-AB03-7C572169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A7F6C3-2AEB-4A0F-AE69-6E765FCA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2B5AA5-F71B-4BD5-AA73-7EEEC0D4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231CC8-4892-4F78-9EAD-66DDE9EB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20CC17-B333-4166-95A7-053744A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F754C7-ECD6-4FFC-9DA6-31C11CC9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54FF-4F92-45E6-B0CA-CCF4FA2B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75A5E2-4BBA-493C-AFAF-AEEB220D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087F71-D833-42BD-A96A-BE2ABB88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B6DDBB-6FF6-4437-9BCB-7039CF9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9A2669-CF09-4F57-B234-4AECCC7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1D8AD2-4163-47CC-BC63-68758E11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3CA260-893C-42CE-83DA-ED6E067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03BD8A-1207-4D4F-8E1E-2BE0AA70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EF6922-4DCA-4FA8-A685-C6024130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E4C8B5-ACF5-4DB0-97F8-F3CFC8C7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4941C3-BB72-4BC2-BE5B-2558E7D1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697A-8AEA-4618-9A94-8963373B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6E0AF6-E7CB-4833-83D3-DF7D63BA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9D5671-F8B0-4D92-9E8D-F528A1BB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90C25C-329C-43C8-BBD7-5CF0720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F82561-3A2F-4867-9183-60C38CA6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606A1F-6116-41E0-B4B9-7562EF6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CABCA-C3BE-4AC4-BFE9-AC41BD69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EE57C2-8D61-4177-9B67-8542EB4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2F644E-14CD-4DF6-B6D5-CDBFBF48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3BD808-51E3-4515-9378-397A61C6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B81330-6A91-48F1-8C10-882F2E9D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365-C643-4639-80AE-69A8A01B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8599-2224-4861-8C67-4E9605A4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F79D7A-DD96-4A20-ADEB-0B675384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531660-D9D5-4C13-B4C2-2F92EB11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A3B5EF-3977-463E-934D-543E1D42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1DC594-790A-496D-91D8-9D7297A2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09F0E3-1923-438D-91E6-01142D34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4B44F1-5AD3-43EF-9166-3110FDD1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BAACAB-355F-449E-8C0B-761E251B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3D71A6-6BD0-4A76-B8D5-77F3A6D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156E3D-25E7-4154-831C-49DA383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2E22B9-659E-4B2F-BB69-47DCDD1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FDEE-8D85-486E-956F-9932C70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52A31A-BB3D-435E-A0D9-1109921F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E9F285-6F46-47E5-9D64-E5A78266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AD0D6F-2A8F-4C5F-BAE0-6B45607D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33BB-9116-4B48-9661-A1E976A4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6F3C-2DA8-4847-8656-640AAD9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5225-48F8-4BC2-809A-54C098F7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398DD-7218-4994-8D31-8E6AC886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44EE-A48D-440C-AF20-F152154C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71793-9C40-4D4D-A162-DE712CF0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0558-0019-4762-AC89-A09504D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81A8-E6D0-4A21-AF71-CE5F15B3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8F6-6D34-4267-992B-8345752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96FC-55F6-4ACA-AB54-524F71C3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2444-A79A-452B-B675-159CD05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E198-6342-43BE-A077-D9A043F9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2A70-DF68-4CC7-9380-3D91B07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9759-20A9-486F-91E2-6362585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F43A-68D6-4882-B47D-CD021E6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2B4D-BC19-4545-9CFB-2CE573EA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AB2B-8824-48E8-9356-4C04B2D8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8409D-4575-4CB9-B5F7-23A74146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7E5EB-002D-4893-8801-DCF2EA2F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1C7-10FE-4ADD-9CBF-9FF9DD82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FAFA-F817-4982-BF65-67DBECDF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C1D8-483D-4DB8-A680-8E184BA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F324-103F-4342-A2B1-F4CB9AF3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F7EFD-1E7C-4619-A7FC-84CA261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3B58-4356-43EC-8E10-0824C83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DE14-2A5E-4A33-BCA1-5F5C0030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A56FC-F95D-4DE4-A68B-13D36428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54E2-6462-49DB-8A8D-6D6F4E7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AFB51-531D-4706-A42F-341B9BF2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A5F18-314D-4A54-89A5-6E9A07D4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5A4-1A1E-4E26-A3CD-C58071F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8F971-E281-494A-AA5A-477161BD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B4383-3041-47C0-B602-644208F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10FB1-52F6-40B6-8F1F-FA16614B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37D52-B162-4106-B307-B71A5C35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6B1F6-796B-46DC-85EF-DF9FB7B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9958F-7660-4970-A72D-C2592D6C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927F-70D0-4A97-8540-C935CB50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EEE68-FD46-48F9-ADF9-8F1F4749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171A5-134E-4A19-AAC1-BB04595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059F7-CBDB-4B31-917D-6292194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674-63CA-4B8E-9340-07A04E39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61025-3DAC-4D6B-8FB3-08ED1D5E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19400-FAF8-4951-8599-6FE2C63C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DDAD6-97E7-4CA3-ACF6-AA1FB946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770C-20B7-492D-9BD1-2DB39BA7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4BBB-1402-4A3B-A2F7-006D2738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5854B-2DDB-4E9A-A603-792296E1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93A41-93B4-43FB-B6E3-384194E6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62175-C771-413A-8E31-87781614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E11CC-A943-4716-BC0F-81B3F489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1E28-0C96-4103-95AD-B00CAA6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2F2-B6DE-4363-929C-45585F7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553F-148A-4668-AAD1-55E2DD8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27DFB-E913-4AA9-BBE2-E26593D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C534E-1BCD-4B4C-BBC5-7BE657C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480F-5B7B-4162-B60C-789352DA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225D-AE67-4479-871E-5B282735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9425A-4A37-4F5C-97A0-A0B20EE8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94821-1459-4386-95C6-B4DD1CE4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751E-E89F-4B3A-9B28-2B0BC2CA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119B-1FE9-4C8C-8077-B5206A4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BC09A-7341-4141-B7C3-E0BB4B94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AC9-051C-4C15-A2C0-34EAFA67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28E82-6FE2-40F0-AEF2-26746062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95A0C-F081-42C9-9001-F972779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BE45-CE45-495F-98DB-65D7F56B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4A5C5-7A55-4AEC-8BBC-5B0A635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D6B06-1337-4029-B0D5-511FC04C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863D9-C22C-44B0-BDAE-F6C7676A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D86A-9F97-4F57-B1C6-C822249A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D5DF0-1AB1-4BBD-8672-CE69FF0D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96D51-5DD5-4449-88FA-C745862D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EEEC0-0394-49C3-9B0A-C1C691BA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682-F78C-49B5-90B6-3A9853E1D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F6B2-5F33-49F5-9757-73EA3AF0DC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A4EE-BE7E-47AF-8D7F-8AE2A11D8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60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3E01-9C04-4CDB-AED4-6DCE516C8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6E2-1066-4F0D-876F-C6DA0D9CB2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99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1365-9035-459D-A82F-D218A15557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7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4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4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7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1643-922C-4CBF-8BD1-2A136561F2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1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2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38FE-60BD-4098-B0D9-EFE589EAC4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9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9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dt" idx="4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ftr" idx="5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08E7-6B10-4627-B2A3-C58FB3BB0B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0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dt" idx="5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ftr" idx="5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82BC-B0E7-41F3-A0BB-1288F0D5F8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9D70-ADC9-4501-ADFC-7D330D80B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21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9000-BE67-4993-B808-ED1431960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50CA-A0C6-4961-BAEF-37E749031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</p:grp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B4C-85A7-459B-90E7-ECEEDC3C8F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</p:grp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dt" idx="6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E5B0-65BC-4273-A2C1-B700A589D4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9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6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6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4A8-4A76-404B-AE8B-6C3187C62D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6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803" name="PlaceHolder 1"/>
          <p:cNvSpPr>
            <a:spLocks noGrp="1"/>
          </p:cNvSpPr>
          <p:nvPr>
            <p:ph type="dt" idx="7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ftr" idx="7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sldNum" idx="7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09B2-45C1-45B4-ABF6-69AD3D96ED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846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849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53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7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7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7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821-EDF6-461B-A9EC-EA05A2F0D4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897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900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904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7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7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7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4B8A-E1A4-4E27-8796-BD8CA66D8E1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F8D-5282-4987-9D32-3E9783EF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B59B-8282-4210-90E2-BB57D82E2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6BB-1D43-45B0-8D7A-42E5096BF2D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20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23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26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329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32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72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75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78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381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383" name="PlaceHolder 2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E31-BD33-4E23-AFB9-2518BA2BA63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1D65-732B-4668-A7AE-BF9B534D9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0A77-2743-490B-BB27-7F0C0A5B7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3DC-D129-44DC-92F5-60EB746C99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3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6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2190600" cy="2879640"/>
          </a:xfrm>
          <a:prstGeom prst="rect">
            <a:avLst/>
          </a:prstGeom>
          <a:ln w="0">
            <a:noFill/>
          </a:ln>
        </p:spPr>
      </p:pic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Проект на тему </a:t>
            </a:r>
            <a:br>
              <a:rPr sz="4400"/>
            </a:b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«Поэзия Василия Митты»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ubTitle"/>
          </p:nvPr>
        </p:nvSpPr>
        <p:spPr>
          <a:xfrm>
            <a:off x="5292720" y="3212640"/>
            <a:ext cx="327168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Работу выполнили ученицы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10 Б класса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МОУ «СОШ №10»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Иванова Кристина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Филиппова Валентина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Руководитель Павлова Н. В.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7 0.32361 C -0.34236 0.30555 -0.34305 0.2875 -0.34166 0.26968 C -0.34149 0.2669 -0.33906 0.26551 -0.33802 0.26319 C -0.33333 0.25255 -0.32118 0.2463 -0.3118 0.24421 C -0.30277 0.23796 -0.29201 0.2368 -0.28211 0.23472 C -0.27656 0.23356 -0.26545 0.23148 -0.26545 0.23148 C -0.25364 0.22361 -0.26684 0.23125 -0.24166 0.22685 C -0.23802 0.22616 -0.22378 0.21759 -0.22257 0.21713 C -0.21423 0.21412 -0.20868 0.21065 -0.2 0.20926 C -0.19322 0.20069 -0.18507 0.1963 -0.17725 0.19028 C -0.17013 0.18472 -0.16805 0.18009 -0.16059 0.17755 C -0.15277 0.16667 -0.1625 0.17917 -0.15 0.16805 C -0.14861 0.1669 -0.14774 0.16458 -0.14635 0.16319 C -0.13993 0.15718 -0.1309 0.15393 -0.12378 0.15046 C -0.11805 0.14768 -0.11267 0.14282 -0.10711 0.13935 C -0.10364 0.13704 -0.09461 0.12755 -0.09392 0.12685 C -0.08368 0.11667 -0.09427 0.12986 -0.08559 0.12037 C -0.07882 0.11296 -0.07222 0.10648 -0.06423 0.10139 C -0.05468 0.08866 -0.04079 0.08287 -0.0309 0.06968 C -0.02691 0.06435 -0.02534 0.05417 -0.02257 0.04745 C -0.01927 0.03981 -0.01545 0.03241 -0.0118 0.02523 C -0.00954 0.02083 -0.00468 0.0125 -0.00468 0.0125 C -0.00434 0.01042 -0.00416 0.0081 -0.00347 0.00602 C -0.0026 0.0037 2.77778E-007 -0.00023 2.77778E-007 -0.00023 E">
                                      <p:cBhvr>
                                        <p:cTn id="41" dur="2000" fill="hold"/>
                                        <p:tgtEl>
                                          <p:spTgt spid="1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После ссылки 1937 - 1954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ле возвращения Василия Митты из семнадцатилетнего заключения появился цикл из семнадцати стихотворений, в которых автор показывает свои личные переживания и чувства. Но в то время нельзя было открыто писать о перенесенных страданиях, виновницей которых была власть. Но Митта ищет способ донести до читателей свои размышления и находит образ Таэра Тимкки, реального революционера Тимофея Семёнова, пострадавшего от царской власти, в уста которого поэт и вкладывает свои слова и мысли. В чувствах и сознании читателя возникает единый образ, воплотивший в себе образы автора и лирического геро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Его лишили писем, свидания лишил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Ни книги, ни бумаги поэт не видит го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Что может страшнее? – Враги его решили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думается скоро... или с ума сойдё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н борется с врагами, и не страшны запор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м начатое дело продолжили друзья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ускай кричит тюремщик: “Согнись, согнись покорно!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н глуп! Не гнётся песня. Её сломить нельзя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Творчество этого периода обогащает чувашскую поэзию неуемной созидательной энергией, несгибаемостью крылатого духа, необычайно искренней и теплой интонацией душевности, незапятнанной верностью и нерасторжимой преданностью народу своему, языку родному, Родине, народным и общечеловеческим идеалам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1303200" y="2276640"/>
            <a:ext cx="7840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Не пылает агат на руке моей, словно звез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Не нужны мне богатства – были б родичи вместе всег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И большое иссякнет, и малого хватит пор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Есть ли горе горче – по миру пойти сирот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Что свернёт меня с дороги, что собьёт с пут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Только лёгкого богатства мне не дай найти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Злато мира – это наши слёзы и труд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Не ищи их, не завидуй, не ищи беды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Удаль есть, сила есть! Ну, так что же молчишь ты, подруг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Засвистеть ли и мне, словно эта бездомная вьюга?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Пусть нас конь понесёт на невидимых крыльях сквозь тучи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Пусть наш недруг клянёт нас, желая беды неминучей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250"/>
                            </p:stCondLst>
                            <p:childTnLst>
                              <p:par>
                                <p:cTn id="3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900"/>
                            </p:stCondLst>
                            <p:childTnLst>
                              <p:par>
                                <p:cTn id="3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150"/>
                            </p:stCondLst>
                            <p:childTnLst>
                              <p:par>
                                <p:cTn id="3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350"/>
                            </p:stCondLst>
                            <p:childTnLst>
                              <p:par>
                                <p:cTn id="3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9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9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800"/>
                            </p:stCondLst>
                            <p:childTnLst>
                              <p:par>
                                <p:cTn id="3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7650"/>
                            </p:stCondLst>
                            <p:childTnLst>
                              <p:par>
                                <p:cTn id="3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3050"/>
                            </p:stCondLst>
                            <p:childTnLst>
                              <p:par>
                                <p:cTn id="3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900"/>
                            </p:stCondLst>
                            <p:childTnLst>
                              <p:par>
                                <p:cTn id="3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59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93d"/>
                </a:solidFill>
                <a:latin typeface="Arial"/>
              </a:rPr>
              <a:t>Нельзя не восхититься и не принять простые и беспредельно “мудрозначные” слова стихов, обращённые к любимой героя.</a:t>
            </a:r>
            <a:br>
              <a:rPr sz="3200"/>
            </a:br>
            <a:endParaRPr b="1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23640" y="3716280"/>
            <a:ext cx="85899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"/>
              </a:rPr>
              <a:t>Мы простимся с тобою без слов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"/>
              </a:rPr>
              <a:t>По-солдатски с тобою простимс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"/>
              </a:rPr>
              <a:t>Путь по звёздам далёк и суров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"/>
              </a:rPr>
              <a:t>Друг до друга мы не докричимс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8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9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9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9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0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0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1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Поздний период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(Митта и его лирический герой) долго мечтал о свободе и потому смотрел на жизнь, на людей с радостью, с детской непосредственностью, чистыми глазами. Голос вернувшегося на родину поэта “становился сильнее и твёрже с каждым днём…”. “На фоне многочисленных бледных стихов последнего времени отрывки из незаконченной поэмы “Таэр”, лирические миниатюры (“В моём старом саду”, “Благодарю тебя”, “Волжская песня”, “Бульвар Иванова” и другие стихи, что успел написать Митта (к сожалению их немного) – “сверкают подлинными жемчужинами нашей поэзии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26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аким предстаёт читателю лирический герой позднего Митты?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жно ответить очень коротко одной строчкой из стихотворения “Осенняя краса”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Лик его спокоен и чис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н полон сил и желания жить, отвергая смерть и забвение, воспевая жизнь и творчество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Поэт, не поминай о смерти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Жизнь эта – вечная кра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Если жизнь прошла не впустую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И после смерти живёт человек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animClr clrSpc="rgb">
                                      <p:cBhvr>
                                        <p:cTn id="4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set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animClr clrSpc="rgb">
                                      <p:cBhvr>
                                        <p:cTn id="45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set>
                                      <p:cBhvr>
                                        <p:cTn id="45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4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5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500"/>
                            </p:stCondLst>
                            <p:childTnLst>
                              <p:par>
                                <p:cTn id="45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animClr clrSpc="rgb">
                                      <p:cBhvr>
                                        <p:cTn id="45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set>
                                      <p:cBhvr>
                                        <p:cTn id="46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animClr clrSpc="rgb">
                                      <p:cBhvr>
                                        <p:cTn id="46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set>
                                      <p:cBhvr>
                                        <p:cTn id="46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animClr clrSpc="rgb">
                                      <p:cBhvr>
                                        <p:cTn id="47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547a"/>
                                      </p:to>
                                    </p:animClr>
                                    <p:set>
                                      <p:cBhvr>
                                        <p:cTn id="47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2556000" y="7532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7993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его душе – тоска по прошлому, легкая грусть о пройденной юности, беспечн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Беспечные были, бездумно брод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отаптывали набережную Вол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то думал, кто в это верил -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Что самое дорогое – юные г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н – поэт, не мог не сказать о поэте, оценивая и предостерегая художников сло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учителен творчества миг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е знающий этого творец – наивен (глуп)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е ходи, поэт, ты криво ─ кос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В твоих руках – не побрякушки (бубенцы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1000"/>
                                        <p:tgtEl>
                                          <p:spTgt spid="1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1000"/>
                                        <p:tgtEl>
                                          <p:spTgt spid="1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1000"/>
                                        <p:tgtEl>
                                          <p:spTgt spid="1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1000"/>
                                        <p:tgtEl>
                                          <p:spTgt spid="19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1000"/>
                                        <p:tgtEl>
                                          <p:spTgt spid="1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1000"/>
                                        <p:tgtEl>
                                          <p:spTgt spid="19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1000"/>
                                        <p:tgtEl>
                                          <p:spTgt spid="19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000"/>
                            </p:stCondLst>
                            <p:childTnLst>
                              <p:par>
                                <p:cTn id="5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1000"/>
                                        <p:tgtEl>
                                          <p:spTgt spid="19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н нашёл самое ценное в жизни – это согласие, дружба и творчество.</a:t>
            </a:r>
            <a:br>
              <a:rPr sz="4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еиссякаемое согла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усть охраняет наш союз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Из-за пустого слова, ерун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е терять бы нам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овый год – новое творч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амадою будь в пи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илы мне давал, когда я устава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Голос подавал, когда я мыслями терял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Иль как летний тёплый дождь при солнце не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озволял напиться, когда душа вся иссыхал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И не зря с поклоном я хочу сказ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У чувашей слово есть одно хороше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усть друг будет лучше тебя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mph" presetID="5" presetSubtype="3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29" dur="indefinite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0" dur="indefinite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1000" fill="hold"/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1000" fill="hold"/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9" dur="1000" fill="hold"/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2" dur="1000" fill="hold"/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5" dur="1000" fill="hold"/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1000" fill="hold"/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000" fill="hold"/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1000" fill="hold"/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7" dur="1000" fill="hold"/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0" dur="1000" fill="hold"/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3" dur="1000" fill="hold"/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19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9" dur="1000" fill="hold"/>
                                        <p:tgtEl>
                                          <p:spTgt spid="19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042920" y="7605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1258920" y="1052280"/>
            <a:ext cx="7058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дний Митта восходит к самым крутым вершинам поэтического духа. Он пишет о трагическом (в стихах, которые можно назвать “лагерными”), но без всякого надрыва, честно и мужественно, с мудрой горечью. Но недолгой оказалась осень поэта и её поздняя краса, не выдержало сердц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ключе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вершая наш краткий обзор творчества поэта, мы еще раз обращаемся к созданному им лирическому герою. И отмечаем, что автор и его герой - понятия неразделимые в лирике последних лет. В начале творческого пути они решительны и дерзки, подвержены бурным страстям, они внешне схожи, но внутренне противоречат друг другу. Герой остается неизменным в своем времени, а поэт не может не меняться. В лирике 50─х годов перед читателем уже предстают образы, умудренные жизнью, спокойные и уравновешенные, и здесь мы видим, чувствуем единство творца и его творения (лирического героя) как явление вневременное, основанное на принципах общечеловеческих ценнос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1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Цель нашего проект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Стремление показать единство Митты и его лирического героя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Задача проект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     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Представление необычайно реального лирического героя Митты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8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Краткая аннотация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 type="subTitle"/>
          </p:nvPr>
        </p:nvSpPr>
        <p:spPr>
          <a:xfrm>
            <a:off x="1835280" y="1484280"/>
            <a:ext cx="632448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Arial Narrow"/>
              </a:rPr>
              <a:t>В суматохе нашего жестокого мира мы часто забываем имена истинных ценителей и носителей народной культуры. Одно из этих светлых имен – Василий Митта. Мы стараемся приобщиться к народной культуре через жизнь и творчество человека удивительной и яркой судьбы. 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Arial Narrow"/>
              </a:rPr>
              <a:t>Зеркальным отражением того, что происходило с Миттой, его чувств и переживаний являются созданные им герои и образы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Arial Narrow"/>
              </a:rPr>
              <a:t>В конце работы вы убедитесь в том, что лирический герой Митты менялся вместе с автором. Если в начале творчества лирический герой вспыльчив и подвержен кипению бурных страстей, то в поздней лирике он внутренне собран, внешне спокоен и умудрен богатым жизненным опытом. 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61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Введение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569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я Василия Егоровича Митты – одно из наиболее светлых имен в чувашской поэзии. Жизненный путь поэта не был легок и прост, достигнув в середине 30-х годов своей творческой зрелости, он разделил со многими представителями народной интеллигенции трагедию 37 года, и был оторван от родины на 17 лет. Однако эти тяжелые годы не сломили поэта, не отвратили его от творческого призвания. После всех перенесенных страданий Митта по праву писал: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й голос, закаленный болью,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овь так же чист, как звенящая сталь!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ью настоящей работы является попытка проследить изменения в душе, мировосприятии лирического героя поэзии В. Митты в различные годы творчества, включая юношеские стихи и произведения последних лет, увидеть единство и противоречие художественного мира поэта и мира реальной действительности, в которой жил и творил мастер слова, понять и показать “суть нравственно-творческого подвига”, “нежного чувашского лирика, мятежника мысли, сократического философа” через его слово и образ лирического героя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ализ и осмысление текстов лирических произведений Василия Митты, литературоведческих и критических работ о творчестве поэта, исследований и воспоминаний о его жизни явились основными способами и методами нашего исследования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Ранняя лирика 1924 – 1937 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1042920" y="1197000"/>
            <a:ext cx="7128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Раннему периоду творчества поэта присущи пьянящее чувство молодости, весенний настрой души. Новое понимание прекрасного порождало новую поступь стиха.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Поэма “В угаре” - это яркое по образам, по обнажённости чувств и их незащищённости произведение, в котором поэт и лирический герой, составляющие неделимое целое, задумываются о судьбе чувашей, связывают её с предками – булгарами, скорбят об ассимиляции родного народа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64480" cy="14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Каков же герой ранней лирики Митты, буквально ворвавшегося в литературу?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539640" y="2104560"/>
            <a:ext cx="82044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ихотворениях 1926-1930 годов вырисовывается яркая личность дерзкого неуемного юноши-поэта, он восторгается своей молодостью, порою утопая в неожиданных взрывах чувств. Он полон надежд и сил для борьбы со старым во имя нового жизнеустро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лодость ─ звонкое им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лодость яркая радуг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лодость, говорят, мол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о молнии мир не рассеч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лодость отрежет, отмерит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1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ерой 18-летнего поэта не отделяет себя от понятия Родины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53964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Родина, Родина, я снова в те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Пламенная песнь для тебя лишь звучи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От тебя не уйду я в далекую чужбину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Сердце мое никогда не полюбит чуж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ращаясь к Родине, он требовательно спрашива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Чувствуешь ли ты: наше серд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Для тебя лишь стучи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Для тебя лишь гор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75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8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7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3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35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Настроение и душа лирического героя видны в стихах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Эх душа ─ разгульная душ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Разгулявшись, погулять ли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Не сдерживая сил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Эй, ты, солнышк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Не поймать ли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Не знать ли мне тебя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Эх, ребятушки, простите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Буйны мысли в голове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Простите и угомони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Своего разгульного поэта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3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85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75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2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35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4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7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15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7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05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84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1:49:17Z</dcterms:created>
  <dc:creator>User</dc:creator>
  <dc:description/>
  <dc:language>en-US</dc:language>
  <cp:lastModifiedBy>User</cp:lastModifiedBy>
  <dcterms:modified xsi:type="dcterms:W3CDTF">2008-04-07T02:29:45Z</dcterms:modified>
  <cp:revision>8</cp:revision>
  <dc:subject/>
  <dc:title>Проект на тему  «Поэзия Василия Митты»</dc:title>
</cp:coreProperties>
</file>