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wmf" ContentType="image/x-wmf"/>
  <Override PartName="/ppt/media/image22.wmf" ContentType="image/x-wmf"/>
  <Override PartName="/ppt/media/image7.wmf" ContentType="image/x-wmf"/>
  <Override PartName="/ppt/media/image11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12.jpeg" ContentType="image/jpeg"/>
  <Override PartName="/ppt/media/image9.wmf" ContentType="image/x-wmf"/>
  <Override PartName="/ppt/media/image29.wmf" ContentType="image/x-wmf"/>
  <Override PartName="/ppt/media/image19.jpeg" ContentType="image/jpeg"/>
  <Override PartName="/ppt/media/image30.wmf" ContentType="image/x-wmf"/>
  <Override PartName="/ppt/media/image32.jpeg" ContentType="image/jpeg"/>
  <Override PartName="/ppt/media/image18.wmf" ContentType="image/x-wmf"/>
  <Override PartName="/ppt/media/image26.jpeg" ContentType="image/jpeg"/>
  <Override PartName="/ppt/media/image5.wmf" ContentType="image/x-wmf"/>
  <Override PartName="/ppt/media/image16.jpeg" ContentType="image/jpeg"/>
  <Override PartName="/ppt/media/chimes.wav" ContentType="audio/x-wav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13.jpeg" ContentType="image/jpeg"/>
  <Override PartName="/ppt/media/image20.gif" ContentType="image/gif"/>
  <Override PartName="/ppt/media/image14.wmf" ContentType="image/x-wmf"/>
  <Override PartName="/ppt/media/image17.wmf" ContentType="image/x-wmf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4665-38A6-48DB-BD54-C5B9888048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0CF7-DF95-4102-AC8A-A2E3BA26DE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55A-ADC9-4BB7-853D-A9C33011C8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354E-8DBC-4277-A598-DC3ED0E492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5C1-B057-4559-A1A6-C9B7F50D0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6D5-52D8-462B-B182-67A3189E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8A3-0A7D-49B9-A4D8-9A4C7649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E08-33EC-4ACF-BE16-2AC1E211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DD1-C290-410E-B1E5-82BFA278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7D3-2888-45CE-9814-28CB8E84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D62-D596-454F-9895-34F8C305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3B6-3810-441E-8F2B-E31912F4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E48-B8DF-4E4A-8C05-ECD33EAB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978-02DD-4FAB-9C8F-1E9111F1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DF0-8971-40FD-BC24-0C1B1A06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FE4-8ABC-4FEA-BD9E-9DE0108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3FD-8A64-443B-9BAF-954A0D94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A30-64EB-4C34-9633-67A05C820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имние свя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1643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есна  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радует сердце веселыми брызгами солнечных зайчиков, ясным голубым неб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Лето –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лняет душу ароматом тр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зи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!  Зима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всегда ожидание чуда. Самое волшебное, ослепительно праздничное время года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ое время года хорошо по-сво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 hidden="1"/>
          <p:cNvSpPr/>
          <p:nvPr/>
        </p:nvSpPr>
        <p:spPr>
          <a:xfrm>
            <a:off x="4398480" y="3244680"/>
            <a:ext cx="3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flipH="1">
            <a:off x="7000920" y="500040"/>
            <a:ext cx="1285920" cy="137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Program Files\Microsoft Office\MEDIA\CAGCAT10\j0183290.wmf"/>
          <p:cNvPicPr/>
          <p:nvPr/>
        </p:nvPicPr>
        <p:blipFill>
          <a:blip r:embed="rId2"/>
          <a:stretch/>
        </p:blipFill>
        <p:spPr>
          <a:xfrm>
            <a:off x="7072200" y="378612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500040" y="1429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воспитателя ГПД ГОУ СОШ №175 Казаковой С.С. И учителя музыки Булгаковой Т.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8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рисунки_курсы\красавица.jpg"/>
          <p:cNvPicPr/>
          <p:nvPr/>
        </p:nvPicPr>
        <p:blipFill>
          <a:blip r:embed="rId1"/>
          <a:stretch/>
        </p:blipFill>
        <p:spPr>
          <a:xfrm>
            <a:off x="4429080" y="214200"/>
            <a:ext cx="4527720" cy="642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6840" y="571320"/>
            <a:ext cx="3543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колос с бревн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зерно с ведр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у песни пое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му сбудетс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му сбудетс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минуе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:\Users\User\AppData\Local\Microsoft\Windows\Temporary Internet Files\Content.IE5\UATBFQJH\MC900300988[1].wmf"/>
          <p:cNvPicPr/>
          <p:nvPr/>
        </p:nvPicPr>
        <p:blipFill>
          <a:blip r:embed="rId2"/>
          <a:stretch/>
        </p:blipFill>
        <p:spPr>
          <a:xfrm>
            <a:off x="1714680" y="4000680"/>
            <a:ext cx="1538280" cy="18270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:\рисунки_курсы\праздник1.jpg"/>
          <p:cNvPicPr/>
          <p:nvPr/>
        </p:nvPicPr>
        <p:blipFill>
          <a:blip r:embed="rId1"/>
          <a:stretch/>
        </p:blipFill>
        <p:spPr>
          <a:xfrm>
            <a:off x="2786040" y="642960"/>
            <a:ext cx="3621240" cy="541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User\AppData\Local\Microsoft\Windows\Temporary Internet Files\Content.IE5\UATBFQJH\MC900412726[1].wmf"/>
          <p:cNvPicPr/>
          <p:nvPr/>
        </p:nvPicPr>
        <p:blipFill>
          <a:blip r:embed="rId2"/>
          <a:stretch/>
        </p:blipFill>
        <p:spPr>
          <a:xfrm>
            <a:off x="6815160" y="214200"/>
            <a:ext cx="2328840" cy="2000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User\AppData\Local\Microsoft\Windows\Temporary Internet Files\Content.IE5\NREN6APY\MC900412700[1].wmf"/>
          <p:cNvPicPr/>
          <p:nvPr/>
        </p:nvPicPr>
        <p:blipFill>
          <a:blip r:embed="rId3"/>
          <a:stretch/>
        </p:blipFill>
        <p:spPr>
          <a:xfrm>
            <a:off x="6715080" y="4143240"/>
            <a:ext cx="242892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User\AppData\Local\Microsoft\Windows\Temporary Internet Files\Content.IE5\UNEL5I3S\MC900412686[1].wmf"/>
          <p:cNvPicPr/>
          <p:nvPr/>
        </p:nvPicPr>
        <p:blipFill>
          <a:blip r:embed="rId4"/>
          <a:stretch/>
        </p:blipFill>
        <p:spPr>
          <a:xfrm>
            <a:off x="142920" y="2143080"/>
            <a:ext cx="2500200" cy="344160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d"/>
    <p:sndAc>
      <p:stSnd>
        <p:snd r:embed="rId5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:\рисунки_курсы\праздник.jpg"/>
          <p:cNvPicPr/>
          <p:nvPr/>
        </p:nvPicPr>
        <p:blipFill>
          <a:blip r:embed="rId1"/>
          <a:stretch/>
        </p:blipFill>
        <p:spPr>
          <a:xfrm>
            <a:off x="509760" y="758880"/>
            <a:ext cx="8123040" cy="5340240"/>
          </a:xfrm>
          <a:prstGeom prst="rect">
            <a:avLst/>
          </a:prstGeom>
          <a:ln w="0">
            <a:noFill/>
          </a:ln>
        </p:spPr>
      </p:pic>
    </p:spTree>
  </p:cSld>
  <p:transition advTm="11000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алекое прошлое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алекие от нас времена жители деревень, которые постарш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ирались на беседы и посиделки. А молодежь и дети, переодевшись ряжеными, ходили по дворам, пели колядки, слави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зяев, желая им доброго здравия и обильных хлеб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http://www.kyxapka.com/wp-content/uploads/2007/01/sviatki-3.jpg"/>
          <p:cNvPicPr/>
          <p:nvPr/>
        </p:nvPicPr>
        <p:blipFill>
          <a:blip r:embed="rId1"/>
          <a:stretch/>
        </p:blipFill>
        <p:spPr>
          <a:xfrm>
            <a:off x="3429000" y="3071880"/>
            <a:ext cx="4848120" cy="300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kraevedenie.net/wp-content/uploads/2009/01/29.jpg"/>
          <p:cNvPicPr/>
          <p:nvPr/>
        </p:nvPicPr>
        <p:blipFill>
          <a:blip r:embed="rId2"/>
          <a:stretch/>
        </p:blipFill>
        <p:spPr>
          <a:xfrm>
            <a:off x="214200" y="2643120"/>
            <a:ext cx="404820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C:\Users\User\AppData\Local\Microsoft\Windows\Temporary Internet Files\Content.IE5\UNEL5I3S\MC900331151[1].wmf"/>
          <p:cNvPicPr/>
          <p:nvPr/>
        </p:nvPicPr>
        <p:blipFill>
          <a:blip r:embed="rId3"/>
          <a:stretch/>
        </p:blipFill>
        <p:spPr>
          <a:xfrm>
            <a:off x="0" y="0"/>
            <a:ext cx="1817640" cy="1646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strips dir="rd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алекое прошло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зяева одаривали колядующих пряникам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етами и пирог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м было весело, душевно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агост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blog.tournavigator.ru/wp-content/uploads/2010/01/894b32a9c9c946f1f216e47777cc223e.jpg"/>
          <p:cNvPicPr/>
          <p:nvPr/>
        </p:nvPicPr>
        <p:blipFill>
          <a:blip r:embed="rId1"/>
          <a:stretch/>
        </p:blipFill>
        <p:spPr>
          <a:xfrm>
            <a:off x="1785960" y="2786040"/>
            <a:ext cx="5715000" cy="3505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User\AppData\Local\Microsoft\Windows\Temporary Internet Files\Content.IE5\ZDJJO5NS\MC900370262[1].wmf"/>
          <p:cNvPicPr/>
          <p:nvPr/>
        </p:nvPicPr>
        <p:blipFill>
          <a:blip r:embed="rId2"/>
          <a:stretch/>
        </p:blipFill>
        <p:spPr>
          <a:xfrm>
            <a:off x="6858000" y="214200"/>
            <a:ext cx="1214280" cy="12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User\AppData\Local\Microsoft\Windows\Temporary Internet Files\Content.IE5\UNEL5I3S\MC900296032[1].wmf"/>
          <p:cNvPicPr/>
          <p:nvPr/>
        </p:nvPicPr>
        <p:blipFill>
          <a:blip r:embed="rId3"/>
          <a:stretch/>
        </p:blipFill>
        <p:spPr>
          <a:xfrm>
            <a:off x="0" y="4572000"/>
            <a:ext cx="1547640" cy="178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User\AppData\Local\Microsoft\Windows\Temporary Internet Files\Content.IE5\UNEL5I3S\MC900296032[1].wmf"/>
          <p:cNvPicPr/>
          <p:nvPr/>
        </p:nvPicPr>
        <p:blipFill>
          <a:blip r:embed="rId4"/>
          <a:stretch/>
        </p:blipFill>
        <p:spPr>
          <a:xfrm rot="10800000">
            <a:off x="1856880" y="5928840"/>
            <a:ext cx="142920" cy="26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User\AppData\Local\Microsoft\Windows\Temporary Internet Files\Content.IE5\UATBFQJH\MC900305453[1].wmf"/>
          <p:cNvPicPr/>
          <p:nvPr/>
        </p:nvPicPr>
        <p:blipFill>
          <a:blip r:embed="rId5"/>
          <a:stretch/>
        </p:blipFill>
        <p:spPr>
          <a:xfrm>
            <a:off x="214200" y="142920"/>
            <a:ext cx="1343160" cy="13986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  <p:sndAc>
      <p:stSnd>
        <p:snd r:embed="rId6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 было дав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ше время интенсивного технического прогресса тради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ого народа уходят от нас все дальше. Нельзя прерывать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и и поколений, не исчезла душа русско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:\Users\User\AppData\Local\Microsoft\Windows\Temporary Internet Files\Content.IE5\NREN6APY\MC900300996[1].wmf"/>
          <p:cNvPicPr/>
          <p:nvPr/>
        </p:nvPicPr>
        <p:blipFill>
          <a:blip r:embed="rId1"/>
          <a:stretch/>
        </p:blipFill>
        <p:spPr>
          <a:xfrm>
            <a:off x="6039000" y="4357800"/>
            <a:ext cx="2592360" cy="2500200"/>
          </a:xfrm>
          <a:prstGeom prst="rect">
            <a:avLst/>
          </a:prstGeom>
          <a:ln w="0">
            <a:noFill/>
          </a:ln>
        </p:spPr>
      </p:pic>
      <p:sp>
        <p:nvSpPr>
          <p:cNvPr id="70" name="5-конечная звезда 4"/>
          <p:cNvSpPr/>
          <p:nvPr/>
        </p:nvSpPr>
        <p:spPr>
          <a:xfrm>
            <a:off x="2571840" y="5429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-конечная звезда 6"/>
          <p:cNvSpPr/>
          <p:nvPr/>
        </p:nvSpPr>
        <p:spPr>
          <a:xfrm>
            <a:off x="7143840" y="28584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-конечная звезда 7"/>
          <p:cNvSpPr/>
          <p:nvPr/>
        </p:nvSpPr>
        <p:spPr>
          <a:xfrm>
            <a:off x="7143840" y="28584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8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blog.tournavigator.ru/wp-content/uploads/2010/01/37348814_Svyatki_triptih.jpg"/>
          <p:cNvPicPr/>
          <p:nvPr/>
        </p:nvPicPr>
        <p:blipFill>
          <a:blip r:embed="rId1"/>
          <a:stretch/>
        </p:blipFill>
        <p:spPr>
          <a:xfrm>
            <a:off x="2857680" y="285840"/>
            <a:ext cx="5743440" cy="619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User\AppData\Local\Microsoft\Windows\Temporary Internet Files\Content.IE5\UNEL5I3S\MC900331151[1].wmf"/>
          <p:cNvPicPr/>
          <p:nvPr/>
        </p:nvPicPr>
        <p:blipFill>
          <a:blip r:embed="rId2"/>
          <a:stretch/>
        </p:blipFill>
        <p:spPr>
          <a:xfrm>
            <a:off x="285840" y="285840"/>
            <a:ext cx="190980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Users\User\AppData\Local\Microsoft\Windows\Temporary Internet Files\Content.IE5\UNEL5I3S\MC900331151[1].wmf"/>
          <p:cNvPicPr/>
          <p:nvPr/>
        </p:nvPicPr>
        <p:blipFill>
          <a:blip r:embed="rId3"/>
          <a:stretch/>
        </p:blipFill>
        <p:spPr>
          <a:xfrm>
            <a:off x="1500120" y="2214720"/>
            <a:ext cx="1246320" cy="114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:\Users\User\AppData\Local\Microsoft\Windows\Temporary Internet Files\Content.IE5\UNEL5I3S\MC900331151[1].wmf"/>
          <p:cNvPicPr/>
          <p:nvPr/>
        </p:nvPicPr>
        <p:blipFill>
          <a:blip r:embed="rId4"/>
          <a:stretch/>
        </p:blipFill>
        <p:spPr>
          <a:xfrm>
            <a:off x="1643040" y="3786120"/>
            <a:ext cx="1031760" cy="93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Users\User\AppData\Local\Microsoft\Windows\Temporary Internet Files\Content.IE5\UNEL5I3S\MC900331151[1].wmf"/>
          <p:cNvPicPr/>
          <p:nvPr/>
        </p:nvPicPr>
        <p:blipFill>
          <a:blip r:embed="rId5"/>
          <a:stretch/>
        </p:blipFill>
        <p:spPr>
          <a:xfrm>
            <a:off x="1000080" y="4786200"/>
            <a:ext cx="817560" cy="717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C:\Users\User\AppData\Local\Microsoft\Windows\Temporary Internet Files\Content.IE5\UNEL5I3S\MC900331151[1].wmf"/>
          <p:cNvPicPr/>
          <p:nvPr/>
        </p:nvPicPr>
        <p:blipFill>
          <a:blip r:embed="rId6"/>
          <a:stretch/>
        </p:blipFill>
        <p:spPr>
          <a:xfrm>
            <a:off x="357120" y="5643720"/>
            <a:ext cx="500040" cy="4284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  <p:sndAc>
      <p:stSnd>
        <p:snd r:embed="rId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img1.liveinternet.ru/images/attach/c/0/53/465/53465599_JanPlays1.jpg"/>
          <p:cNvPicPr/>
          <p:nvPr/>
        </p:nvPicPr>
        <p:blipFill>
          <a:blip r:embed="rId1"/>
          <a:stretch/>
        </p:blipFill>
        <p:spPr>
          <a:xfrm>
            <a:off x="5357880" y="1714680"/>
            <a:ext cx="335268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otvetin.ru/uploads/posts/2009-09/1252405422_gadaniya-v-svyatki.jpg"/>
          <p:cNvPicPr/>
          <p:nvPr/>
        </p:nvPicPr>
        <p:blipFill>
          <a:blip r:embed="rId2"/>
          <a:stretch/>
        </p:blipFill>
        <p:spPr>
          <a:xfrm>
            <a:off x="1214280" y="1285920"/>
            <a:ext cx="2724480" cy="4286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User\AppData\Local\Microsoft\Windows\Temporary Internet Files\Content.IE5\NREN6APY\MC900410635[1].wmf"/>
          <p:cNvPicPr/>
          <p:nvPr/>
        </p:nvPicPr>
        <p:blipFill>
          <a:blip r:embed="rId3"/>
          <a:stretch/>
        </p:blipFill>
        <p:spPr>
          <a:xfrm>
            <a:off x="3786120" y="2571840"/>
            <a:ext cx="1589040" cy="1298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User\AppData\Local\Microsoft\Windows\Temporary Internet Files\Content.IE5\NREN6APY\MC900410635[1].wmf"/>
          <p:cNvPicPr/>
          <p:nvPr/>
        </p:nvPicPr>
        <p:blipFill>
          <a:blip r:embed="rId4"/>
          <a:stretch/>
        </p:blipFill>
        <p:spPr>
          <a:xfrm>
            <a:off x="0" y="5630760"/>
            <a:ext cx="1446120" cy="122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User\AppData\Local\Microsoft\Windows\Temporary Internet Files\Content.IE5\NREN6APY\MC900410635[1].wmf"/>
          <p:cNvPicPr/>
          <p:nvPr/>
        </p:nvPicPr>
        <p:blipFill>
          <a:blip r:embed="rId5"/>
          <a:stretch/>
        </p:blipFill>
        <p:spPr>
          <a:xfrm>
            <a:off x="7215120" y="142920"/>
            <a:ext cx="1517760" cy="144144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8"/>
    <p:sndAc>
      <p:stSnd>
        <p:snd r:embed="rId6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5960" y="45007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ы рису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5480" y="5072040"/>
            <a:ext cx="8643960" cy="10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же, как встарь, должны наши дети быть участ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адиционных на Руси праздников, именуемых  святками, петь колядки, водить хоро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F:\рисунки_курсы\работы2 - копия.jpg"/>
          <p:cNvPicPr/>
          <p:nvPr/>
        </p:nvPicPr>
        <p:blipFill>
          <a:blip r:embed="rId2"/>
          <a:stretch/>
        </p:blipFill>
        <p:spPr>
          <a:xfrm>
            <a:off x="1785960" y="785880"/>
            <a:ext cx="5452920" cy="364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Users\User\AppData\Local\Microsoft\Windows\Temporary Internet Files\Content.IE5\UATBFQJH\MC900410631[1].wmf"/>
          <p:cNvPicPr/>
          <p:nvPr/>
        </p:nvPicPr>
        <p:blipFill>
          <a:blip r:embed="rId3"/>
          <a:stretch/>
        </p:blipFill>
        <p:spPr>
          <a:xfrm>
            <a:off x="7358040" y="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:\Users\User\AppData\Local\Microsoft\Windows\Temporary Internet Files\Content.IE5\NREN6APY\MC900296018[1].wmf"/>
          <p:cNvPicPr/>
          <p:nvPr/>
        </p:nvPicPr>
        <p:blipFill>
          <a:blip r:embed="rId4"/>
          <a:stretch/>
        </p:blipFill>
        <p:spPr>
          <a:xfrm>
            <a:off x="7286760" y="3357720"/>
            <a:ext cx="1571400" cy="218736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ы делаем своими ру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57240" y="85716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прекрасно почувствовать общую радость, которая дает душ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кой, оптимизм, вселяет светлые мысли, желание делать люд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бр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F:\рисунки_курсы\работы1.jpg"/>
          <p:cNvPicPr/>
          <p:nvPr/>
        </p:nvPicPr>
        <p:blipFill>
          <a:blip r:embed="rId2"/>
          <a:stretch/>
        </p:blipFill>
        <p:spPr>
          <a:xfrm>
            <a:off x="1857240" y="928800"/>
            <a:ext cx="5453280" cy="367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User\AppData\Local\Microsoft\Windows\Temporary Internet Files\Content.IE5\NREN6APY\MM900041107[1].gif"/>
          <p:cNvPicPr/>
          <p:nvPr/>
        </p:nvPicPr>
        <p:blipFill>
          <a:blip r:embed="rId3"/>
          <a:stretch/>
        </p:blipFill>
        <p:spPr>
          <a:xfrm>
            <a:off x="7572240" y="4286160"/>
            <a:ext cx="1571760" cy="213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Users\User\AppData\Local\Microsoft\Windows\Temporary Internet Files\Content.IE5\ZDJJO5NS\MC900022578[1].wmf"/>
          <p:cNvPicPr/>
          <p:nvPr/>
        </p:nvPicPr>
        <p:blipFill>
          <a:blip r:embed="rId4"/>
          <a:stretch/>
        </p:blipFill>
        <p:spPr>
          <a:xfrm>
            <a:off x="642960" y="0"/>
            <a:ext cx="1568520" cy="18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User\AppData\Local\Microsoft\Windows\Temporary Internet Files\Content.IE5\UNEL5I3S\MC900250794[1].wmf"/>
          <p:cNvPicPr/>
          <p:nvPr/>
        </p:nvPicPr>
        <p:blipFill>
          <a:blip r:embed="rId5"/>
          <a:stretch/>
        </p:blipFill>
        <p:spPr>
          <a:xfrm>
            <a:off x="7429680" y="285840"/>
            <a:ext cx="1428480" cy="1479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:\Users\User\AppData\Local\Microsoft\Windows\Temporary Internet Files\Content.IE5\UNEL5I3S\MC900030680[1].wmf"/>
          <p:cNvPicPr/>
          <p:nvPr/>
        </p:nvPicPr>
        <p:blipFill>
          <a:blip r:embed="rId6"/>
          <a:stretch/>
        </p:blipFill>
        <p:spPr>
          <a:xfrm>
            <a:off x="285840" y="5429160"/>
            <a:ext cx="1428840" cy="119700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8"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рисунки_курсы\домик.jpg"/>
          <p:cNvPicPr/>
          <p:nvPr/>
        </p:nvPicPr>
        <p:blipFill>
          <a:blip r:embed="rId1"/>
          <a:stretch/>
        </p:blipFill>
        <p:spPr>
          <a:xfrm>
            <a:off x="4286160" y="142920"/>
            <a:ext cx="4670640" cy="6572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шла коляд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оряй ворот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рота отворя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тей принима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Щедрый ден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й день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ем, веем, посеваем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Новым годом поздравля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C:\Users\User\AppData\Local\Microsoft\Windows\Temporary Internet Files\Content.IE5\NREN6APY\MC900410507[1].wmf"/>
          <p:cNvPicPr/>
          <p:nvPr/>
        </p:nvPicPr>
        <p:blipFill>
          <a:blip r:embed="rId2"/>
          <a:stretch/>
        </p:blipFill>
        <p:spPr>
          <a:xfrm>
            <a:off x="1143000" y="4562640"/>
            <a:ext cx="2451240" cy="229536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2:39:24Z</dcterms:created>
  <dc:creator>User</dc:creator>
  <dc:description/>
  <dc:language>en-US</dc:language>
  <cp:lastModifiedBy>kazakov</cp:lastModifiedBy>
  <dcterms:modified xsi:type="dcterms:W3CDTF">2012-01-11T10:52:57Z</dcterms:modified>
  <cp:revision>58</cp:revision>
  <dc:subject/>
  <dc:title>Далекое прошлое В далекие от нас времена жители деревень , которые постарше ,</dc:title>
</cp:coreProperties>
</file>