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5.gif" ContentType="image/gif"/>
  <Override PartName="/ppt/media/image6.jpeg" ContentType="image/jpeg"/>
  <Override PartName="/ppt/media/image21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0.jpeg" ContentType="image/jpeg"/>
  <Override PartName="/ppt/media/image19.png" ContentType="image/png"/>
  <Override PartName="/ppt/media/image14.gif" ContentType="image/gif"/>
  <Override PartName="/ppt/media/image2.png" ContentType="image/png"/>
  <Override PartName="/ppt/media/image26.png" ContentType="image/png"/>
  <Override PartName="/ppt/media/image33.gif" ContentType="image/gif"/>
  <Override PartName="/ppt/media/image17.jpeg" ContentType="image/jpeg"/>
  <Override PartName="/ppt/media/image12.gif" ContentType="image/gif"/>
  <Override PartName="/ppt/media/image3.png" ContentType="image/png"/>
  <Override PartName="/ppt/media/image32.wmf" ContentType="image/x-wmf"/>
  <Override PartName="/ppt/media/image36.png" ContentType="image/png"/>
  <Override PartName="/ppt/media/image8.gif" ContentType="image/gif"/>
  <Override PartName="/ppt/media/image18.jpeg" ContentType="image/jpeg"/>
  <Override PartName="/ppt/media/image38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40.jpeg" ContentType="image/jpeg"/>
  <Override PartName="/ppt/media/image44.png" ContentType="image/png"/>
  <Override PartName="/ppt/media/image45.jpeg" ContentType="image/jpeg"/>
  <Override PartName="/ppt/media/image42.gif" ContentType="image/gif"/>
  <Override PartName="/ppt/media/image35.png" ContentType="image/png"/>
  <Override PartName="/ppt/media/image5.jpeg" ContentType="image/jpeg"/>
  <Override PartName="/ppt/media/image37.wmf" ContentType="image/x-wmf"/>
  <Override PartName="/ppt/media/image46.gif" ContentType="image/gif"/>
  <Override PartName="/ppt/media/image11.gif" ContentType="image/gif"/>
  <Override PartName="/ppt/media/image43.wmf" ContentType="image/x-wmf"/>
  <Override PartName="/ppt/media/image10.gif" ContentType="image/gif"/>
  <Override PartName="/ppt/media/image13.gif" ContentType="image/gif"/>
  <Override PartName="/ppt/media/image16.jpeg" ContentType="image/jpeg"/>
  <Override PartName="/ppt/media/image9.gif" ContentType="image/gif"/>
  <Override PartName="/ppt/media/image7.png" ContentType="image/png"/>
  <Override PartName="/ppt/media/image1.jpeg" ContentType="image/jpeg"/>
  <Override PartName="/ppt/media/image15.wmf" ContentType="image/x-wmf"/>
  <Override PartName="/ppt/media/image34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16CA-0EFA-4B51-A9C0-B2ACE7A903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B6DF-B43A-424B-802A-202DABE66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4F0D-BDAC-456D-B554-E296130CBA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549B-A7B6-4A21-8299-725D23B3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815-4325-49E8-AAF4-854CA304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35D-3E24-4AFC-BADE-5878E947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5C5-1FC0-435E-B993-31437E02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16FD-5D72-4CC2-B9FC-B825C0F3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481B-E2A3-4838-B0BD-7911CC34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0C04-0457-4725-BC7A-AEFC6281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3C95-6956-4715-909A-89F7AF02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5802-9167-4178-967F-73BB2AB7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249B-678C-46A7-B17F-79FF68C3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F1B0-7AD4-4D9A-A5F5-4FD0E4A3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B17-13F8-4F45-A06A-7D213E2C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07BB-19AC-49EE-85D7-7D3923B2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6B66-9F90-427B-99F7-39778B2C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534F-BEE1-4F93-BD4F-A40DDAED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65BB-71A0-4ED9-A624-15AF2B10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857A-D3C0-41EE-9DF1-410B4BF1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F9AD5-7717-4348-8149-010BCEA1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731B5-0C7D-458E-BC97-84D365D3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E52DC-CF33-4878-90D6-F9B962DD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1F2CC-5EDC-4001-896E-6AFEA915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8123F-3E23-4FFC-8D5F-21092111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8A0-F460-438A-9432-38877B6B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0071-2A18-4133-9E52-3B482F07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54FEA-F959-4B61-BD1D-726B4C8B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9E92F-5982-45B8-86AA-B7DC91CB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94C02-845B-4CC5-86D2-43C35B91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8A9A7-82BA-4F6A-9CE1-1338BB85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FB245-1C1F-48A6-8546-CFB5F634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B559D-EEAC-4D19-BFBC-62CBE616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8F73E-8BE1-4D17-990C-95D73EA6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B3139-E073-45BE-865F-70E6814F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731E1-F9BB-4F0E-8742-35D33324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188D-6B24-431C-8161-9114BCF2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0875B-9694-4324-9DD3-8697195B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8D214-C459-4BA6-BCFD-6CABA4E4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575E3-F62F-4D37-A485-DF9223F2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18516-8A07-4BEE-A7D5-F10AAAA3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7D532-437E-4329-B4C9-DF152846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0AA31-76AA-490C-BF76-55F1A161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18770-2307-404E-958E-043D8E18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08D0E-7B47-4191-9AAD-582A23D5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366F3-B32A-452E-BCE8-6253124B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5FD-DBAF-40A6-9D59-14A62699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E11F-FEBE-498A-ABF6-78DCC5C1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FC3-A323-4BEB-85F5-814F3320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A52-0C94-4B21-8C37-F8F4CA69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BFBF-C842-4859-8180-07E53F5D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3D2B-488D-45AF-86B4-F75673460E5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887F-7C7F-4FD4-A5BF-5E7B97C5D89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36C2-425F-49EB-9F2E-B72EA9FC705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FDAF-D2A1-4A1C-8BFE-5D7A7AD45C9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3"/>
          <p:cNvSpPr/>
          <p:nvPr/>
        </p:nvSpPr>
        <p:spPr>
          <a:xfrm>
            <a:off x="395280" y="0"/>
            <a:ext cx="84297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89ca3"/>
                </a:solidFill>
                <a:latin typeface="Constanti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Основные проблемы уче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1 класса, причины их возникновения и пути их преодоления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C:\Documents and Settings\lv\Рабочий стол\Агрессия\3.jpg"/>
          <p:cNvPicPr/>
          <p:nvPr/>
        </p:nvPicPr>
        <p:blipFill>
          <a:blip r:embed="rId2"/>
          <a:stretch/>
        </p:blipFill>
        <p:spPr>
          <a:xfrm>
            <a:off x="684360" y="2214720"/>
            <a:ext cx="7559640" cy="4238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hildren_reading"/>
          <p:cNvPicPr/>
          <p:nvPr/>
        </p:nvPicPr>
        <p:blipFill>
          <a:blip r:embed="rId2"/>
          <a:stretch/>
        </p:blipFill>
        <p:spPr>
          <a:xfrm>
            <a:off x="179280" y="189000"/>
            <a:ext cx="4114800" cy="362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R%20-%20Lessons0379!"/>
          <p:cNvPicPr/>
          <p:nvPr/>
        </p:nvPicPr>
        <p:blipFill>
          <a:blip r:embed="rId3"/>
          <a:stretch/>
        </p:blipFill>
        <p:spPr>
          <a:xfrm>
            <a:off x="4067280" y="2781360"/>
            <a:ext cx="4913280" cy="39542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4500720" y="333360"/>
            <a:ext cx="439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Georgia"/>
              </a:rPr>
              <a:t>На смену </a:t>
            </a:r>
            <a:r>
              <a:rPr b="1" lang="en-US" sz="3200" spc="-1" strike="noStrike">
                <a:solidFill>
                  <a:srgbClr val="990000"/>
                </a:solidFill>
                <a:latin typeface="Georgia"/>
              </a:rPr>
              <a:t>игровой </a:t>
            </a:r>
            <a:r>
              <a:rPr b="1" lang="en-US" sz="3200" spc="-1" strike="noStrike">
                <a:solidFill>
                  <a:srgbClr val="7030a0"/>
                </a:solidFill>
                <a:latin typeface="Georgia"/>
              </a:rPr>
              <a:t>деятельности пришла </a:t>
            </a:r>
            <a:r>
              <a:rPr b="1" lang="en-US" sz="3200" spc="-1" strike="noStrike">
                <a:solidFill>
                  <a:srgbClr val="990000"/>
                </a:solidFill>
                <a:latin typeface="Georgia"/>
              </a:rPr>
              <a:t>познавательная, учеб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0" y="4005360"/>
            <a:ext cx="39956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Учиться – это не только учиться в школе, это получать знания, развивать свои способности, приобретать практические навыки, учиться мастерству; в общем, заниматься осмысленной работой.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964720" cy="13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dbf5f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Главные новообразования возраст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318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0033"/>
                </a:solidFill>
                <a:latin typeface="Arial"/>
              </a:rPr>
              <a:t>Большие изменения происходят в познавательной сфере ребенка.</a:t>
            </a:r>
            <a:r>
              <a:rPr b="0" lang="en-US" sz="27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7192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7192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Интенсивно развиваются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1801800" indent="-2728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восприяти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1801800" indent="-2728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мышлени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1801800" indent="-2728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память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7192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onstantia"/>
            </a:endParaRPr>
          </a:p>
          <a:p>
            <a:pPr marL="7192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627280" y="5805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D:\картинки\анимашки\анимашки\ученица.gif"/>
          <p:cNvPicPr/>
          <p:nvPr/>
        </p:nvPicPr>
        <p:blipFill>
          <a:blip r:embed="rId2"/>
          <a:stretch/>
        </p:blipFill>
        <p:spPr>
          <a:xfrm>
            <a:off x="7072200" y="3201840"/>
            <a:ext cx="1785960" cy="3084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6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nstantia"/>
              </a:rPr>
              <a:t>Мозг первоклассника еще незрел, и поэтому его восприятие, мышление, память, эмоции организуются по другим законам, иначе, чем у взрослых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500720" y="5589720"/>
            <a:ext cx="4321080" cy="10810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395280" y="189000"/>
            <a:ext cx="79930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Comic Sans MS"/>
              </a:rPr>
              <a:t>Возрастныеособенности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Comic Sans MS"/>
              </a:rPr>
              <a:t>первоклассников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Понятие адаптации непосредственно связано с понятием «готовность ребенка к школе» и включает две составляющие: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адаптацию 1)физиологическую,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2) социально-психологическую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403280" y="457200"/>
            <a:ext cx="590544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cc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адаптация</a:t>
            </a:r>
            <a:endParaRPr b="1" lang="en-US" sz="4000" spc="1" strike="noStrike">
              <a:ln w="38160">
                <a:solidFill>
                  <a:srgbClr val="00cc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ff0000"/>
                </a:solidFill>
                <a:uFillTx/>
                <a:latin typeface="Calibri"/>
              </a:rPr>
              <a:t>Адаптация физиологическая</a:t>
            </a:r>
            <a:r>
              <a:rPr b="0" lang="en-US" sz="5000" spc="-1" strike="noStrike" u="sng">
                <a:solidFill>
                  <a:srgbClr val="dbf5f9"/>
                </a:solidFill>
                <a:uFillTx/>
                <a:latin typeface="Calibri"/>
              </a:rPr>
              <a:t>.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nstantia"/>
              </a:rPr>
              <a:t>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Привыкая к новым условиям и требованиям, организм ребенка проходит через несколько этапов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) Первые 2-3 недели обучения получили название "физиологической бури". В этот период на все новые воздействия организм ребенка отвечает значительным напряжением практически всех своих систем, то есть дети тратят значительную часть ресурсов своего организма. Это объясняет тот факт, что в сентябре многие первоклассники болеют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2) Следующий этап адаптации - неустойчивое приспособление. Организм ребенка находит приемлемые, близкие к оптимальным варианты реакций на новые услови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3) После этого наступает период относительно устойчивого приспособления. Организм реагирует на нагрузки с меньшим напряжение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Продолжительность всего периода адаптации варьируется от 2 до 6 месяцев в зависимости от индивидуальных особенностей учени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0000"/>
                </a:solidFill>
                <a:uFillTx/>
                <a:latin typeface="Calibri"/>
              </a:rPr>
              <a:t>Адаптация социально-психологическая.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Социально – психологическая адаптация связана с желанием и умением ребенка принять новую для него роль школьника и достигается целым рядом условий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Развитие у детей умений и способностей, необходимых для успешного обучения в начальной школе: умения слушать, реагировать на действия учителя, планировать свою работу, анализировать полученный результат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910560" y="4379760"/>
            <a:ext cx="2233440" cy="2478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611280" y="1557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Развитие умений, позволяющих устанавливать межличностные отношения со сверстниками и педагогами: умения налаживать контакт с другими детьми, выстраивать отношения со взрослыми, быть общительным и интересным для окружающих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Заголовок 8" descr="sos_1sentebrja"/>
          <p:cNvPicPr/>
          <p:nvPr/>
        </p:nvPicPr>
        <p:blipFill>
          <a:blip r:embed="rId2"/>
          <a:stretch/>
        </p:blipFill>
        <p:spPr>
          <a:xfrm>
            <a:off x="6659640" y="260280"/>
            <a:ext cx="1290600" cy="1290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78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0920" y="620640"/>
            <a:ext cx="8013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Формирование умения правильно оценивать свои действия и действия одноклассников, пользоваться простейшими критериями оценки и самооценки, устойчивой учебной мотивации на фоне позитивных представлений ребенка о себе и низкого уровня школьной тревож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983280" y="3402000"/>
            <a:ext cx="216072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0000"/>
                </a:solidFill>
                <a:uFillTx/>
                <a:latin typeface="Calibri"/>
              </a:rPr>
              <a:t>Адаптация к детскому коллективу</a:t>
            </a:r>
            <a:r>
              <a:rPr b="0" lang="en-US" sz="4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5075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Трудности в этом процессе возникают у детей, не посещавших детский сад, особенно у единственных в семье детей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372360" y="3927600"/>
            <a:ext cx="2474640" cy="2930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нализ  анкетирования с целью выявления проблем, трудностей в период адаптации у детей глазами родителей.</a:t>
            </a:r>
            <a:br>
              <a:rPr sz="2800"/>
            </a:b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С каким настроением ваш сын (дочь) идет в школу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хорошим –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6%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селым –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%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адостью –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 %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тличным –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%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Любит ли он (она) ходить в школу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а-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100%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612720" y="259920"/>
            <a:ext cx="100440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187280" indent="-20952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Содержание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собый этап своего развития - кризис 7 (6) ле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растные особенности первоклассник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даптация: физиологическая, социально-психологическа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ализ  анкетирования с целью выявления проблем в период адаптации у детей и родителей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ичины, по которым возникают эта проблем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зультаты тестирования учащихс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етодики определения комфортности и затруднений ребенка в школ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 помочь ребенку стать успешным. – советы родителям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7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64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Привык ли ваш ребенок к новой обстановке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Да –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100%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Испытывает ли он трудности в общении с одноклассникам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Да –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12 %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Нет –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76%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Иногда –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12%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Единичный ответ: бывает, что рассказывает о конфликтах с другими ребята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9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5. Есть ли у него друзья в классе? Знаете ли вы о них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а –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76%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Нет –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12 %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Не знаю –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12 %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6. Устает ли ваш ребенок? Если да, то почему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а –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18 %;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нет –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64%;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ногда –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6 %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 первое время уставал –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12 %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ричина: адаптация к школе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7. Часто ли ваш ребенок делится впечатлениями о школе, пройденном дне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а –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47%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 каждый день –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41 %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  не всегда –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12 %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8. Соблюдает ли ваш сын (дочь) режим дня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а –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88 %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 не всегда –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12 %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9. Каким умственным трудом занимается ваш ребенок дома после уроков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Чтение -</a:t>
            </a: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10;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рисование – </a:t>
            </a:r>
            <a:r>
              <a:rPr b="1" i="1" lang="ru-RU" sz="3600" spc="-1" strike="noStrike">
                <a:solidFill>
                  <a:srgbClr val="ff0000"/>
                </a:solidFill>
                <a:latin typeface="Constantia"/>
              </a:rPr>
              <a:t>4;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собирает лего; играет в развивающие игры; решает кроссворды, головоломки; примеры; играем в школу – ребенок-учитель, родитель-ученик; пытается сочинять стих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9. С какими трудностями встретились вы и ваш ребенок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трудности в прописи;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нет усидчивости;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невнимательность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в поиске друзей;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адаптация в новом коллективе;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поведение ребенка;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обижается, когда показывают его ошибки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стали чаще боле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прилежа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рисунок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9 родителей трудностей не видят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(53%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6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формирование адекватного поведения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контакт с учащимися и с учителем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овладение навыками учебной деятельност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2771640" y="4624560"/>
            <a:ext cx="3311640" cy="22334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380880" y="457200"/>
            <a:ext cx="8458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cc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Эти трудности можно</a:t>
            </a:r>
            <a:endParaRPr b="1" lang="en-US" sz="4000" spc="1" strike="noStrike">
              <a:ln w="38160">
                <a:solidFill>
                  <a:srgbClr val="00cc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cc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разделить на 3 группы</a:t>
            </a:r>
            <a:endParaRPr b="1" lang="en-US" sz="4000" spc="1" strike="noStrike">
              <a:ln w="38160">
                <a:solidFill>
                  <a:srgbClr val="00cc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трудности в прописи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недостаточная подготовленность ребенка к школе (недоразвитая мелкая моторика -следствие: трудности в обучении письму)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26920" y="333360"/>
            <a:ext cx="784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99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Причины, по которым </a:t>
            </a:r>
            <a:endParaRPr b="1" lang="en-US" sz="4000" spc="1" strike="noStrike">
              <a:ln w="38160">
                <a:solidFill>
                  <a:srgbClr val="3333cc"/>
                </a:solidFill>
                <a:miter/>
              </a:ln>
              <a:solidFill>
                <a:srgbClr val="99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99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возникают эти проблемы</a:t>
            </a:r>
            <a:endParaRPr b="1" lang="en-US" sz="4000" spc="1" strike="noStrike">
              <a:ln w="38160">
                <a:solidFill>
                  <a:srgbClr val="3333cc"/>
                </a:solidFill>
                <a:miter/>
              </a:ln>
              <a:solidFill>
                <a:srgbClr val="99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нет усидчивости, невнимательност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несформированность произвольного внимания - следствие: трудно работать на уроке, ребенок не запоминает, пропускает задания учител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Picture 3" descr="malch63"/>
          <p:cNvPicPr/>
          <p:nvPr/>
        </p:nvPicPr>
        <p:blipFill>
          <a:blip r:embed="rId2"/>
          <a:stretch/>
        </p:blipFill>
        <p:spPr>
          <a:xfrm>
            <a:off x="6659640" y="2060640"/>
            <a:ext cx="1944720" cy="20890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826920" y="333360"/>
            <a:ext cx="784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99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Причины, по которым </a:t>
            </a:r>
            <a:endParaRPr b="1" lang="en-US" sz="4000" spc="1" strike="noStrike">
              <a:ln w="38160">
                <a:solidFill>
                  <a:srgbClr val="3333cc"/>
                </a:solidFill>
                <a:miter/>
              </a:ln>
              <a:solidFill>
                <a:srgbClr val="99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99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возникают эти проблемы</a:t>
            </a:r>
            <a:endParaRPr b="1" lang="en-US" sz="4000" spc="1" strike="noStrike">
              <a:ln w="38160">
                <a:solidFill>
                  <a:srgbClr val="3333cc"/>
                </a:solidFill>
                <a:miter/>
              </a:ln>
              <a:solidFill>
                <a:srgbClr val="99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в поиске друзей; адаптация в новом коллективе; поведение ребенка; прилежание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- недостаточно развита социальная и эмоционально-волевая готовность к школе, как причина трудностей в социально-психологической адаптаци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26920" y="333360"/>
            <a:ext cx="784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99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Причины, по которым </a:t>
            </a:r>
            <a:endParaRPr b="1" lang="en-US" sz="4000" spc="1" strike="noStrike">
              <a:ln w="38160">
                <a:solidFill>
                  <a:srgbClr val="3333cc"/>
                </a:solidFill>
                <a:miter/>
              </a:ln>
              <a:solidFill>
                <a:srgbClr val="99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99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возникают эти проблемы</a:t>
            </a:r>
            <a:endParaRPr b="1" lang="en-US" sz="4000" spc="1" strike="noStrike">
              <a:ln w="38160">
                <a:solidFill>
                  <a:srgbClr val="3333cc"/>
                </a:solidFill>
                <a:miter/>
              </a:ln>
              <a:solidFill>
                <a:srgbClr val="99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nstantia"/>
              </a:rPr>
              <a:t>обижается, когда показывают его ошибки</a:t>
            </a: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- индивидуальные личностные особенности ребен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26920" y="333360"/>
            <a:ext cx="784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99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Причины, по которым </a:t>
            </a:r>
            <a:endParaRPr b="1" lang="en-US" sz="4000" spc="1" strike="noStrike">
              <a:ln w="38160">
                <a:solidFill>
                  <a:srgbClr val="3333cc"/>
                </a:solidFill>
                <a:miter/>
              </a:ln>
              <a:solidFill>
                <a:srgbClr val="99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99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возникают эти проблемы</a:t>
            </a:r>
            <a:endParaRPr b="1" lang="en-US" sz="4000" spc="1" strike="noStrike">
              <a:ln w="38160">
                <a:solidFill>
                  <a:srgbClr val="3333cc"/>
                </a:solidFill>
                <a:miter/>
              </a:ln>
              <a:solidFill>
                <a:srgbClr val="99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стали чаще болеть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- физиологическая адаптация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5500" spc="-1" strike="noStrike">
                <a:solidFill>
                  <a:srgbClr val="ff0000"/>
                </a:solidFill>
                <a:latin typeface="Calibri"/>
              </a:rPr>
              <a:t>Возрастные кризисы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Line 4"/>
          <p:cNvSpPr/>
          <p:nvPr/>
        </p:nvSpPr>
        <p:spPr>
          <a:xfrm flipH="1">
            <a:off x="2124000" y="1628640"/>
            <a:ext cx="50328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4427640" y="220500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2556000" y="3789360"/>
            <a:ext cx="374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Bookman Old Style"/>
              </a:rPr>
              <a:t>От 7 до 9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6443640" y="1700280"/>
            <a:ext cx="43200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651640" y="2492280"/>
            <a:ext cx="30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Bookman Old Style"/>
              </a:rPr>
              <a:t>От 13 до 16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468360" y="2565360"/>
            <a:ext cx="2879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Bookman Old Style"/>
              </a:rPr>
              <a:t>От 2 до 4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" descr="ученица"/>
          <p:cNvPicPr/>
          <p:nvPr/>
        </p:nvPicPr>
        <p:blipFill>
          <a:blip r:embed="rId2"/>
          <a:stretch/>
        </p:blipFill>
        <p:spPr>
          <a:xfrm>
            <a:off x="7308720" y="4149720"/>
            <a:ext cx="1368720" cy="2016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младенец"/>
          <p:cNvPicPr/>
          <p:nvPr/>
        </p:nvPicPr>
        <p:blipFill>
          <a:blip r:embed="rId3"/>
          <a:stretch/>
        </p:blipFill>
        <p:spPr>
          <a:xfrm>
            <a:off x="0" y="620640"/>
            <a:ext cx="1368360" cy="1805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1547640" y="4653000"/>
            <a:ext cx="158616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Ваши предложения, советы.</a:t>
            </a:r>
            <a:br>
              <a:rPr sz="4600"/>
            </a:br>
            <a:br>
              <a:rPr sz="4600"/>
            </a:b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Ваши предложения, советы.</a:t>
            </a: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1280" y="33300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10. Ваши предложения, советы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Все устраивает   - 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76 %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Больше заставлять работать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Находить время для индивидуального общения с ребенком, находить общие мероприятия для сближения одноклассников, как одну команду; чтобы поняли. Что они должны быть вместе – дружить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Чтобы учительница побольше общалась с родителями, проводила чаще собра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alibri"/>
              </a:rPr>
              <a:t>Анализ проведенных диагностик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1001"/>
              </a:spcBef>
              <a:buClr>
                <a:srgbClr val="009dd9"/>
              </a:buClr>
              <a:buSzPct val="70000"/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onstantia"/>
              </a:rPr>
              <a:t>Личностная сфер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Изучение самооценки «Какой Я ?»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Изучение тревожности, самооценки, агрессии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( тест «Несуществующее животное»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Изучение агрессивных проявлений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(методика Ёжик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2519640" cy="1841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graphicFrame>
        <p:nvGraphicFramePr>
          <p:cNvPr id="307" name="Текст 29"/>
          <p:cNvGraphicFramePr/>
          <p:nvPr/>
        </p:nvGraphicFramePr>
        <p:xfrm>
          <a:off x="0" y="260280"/>
          <a:ext cx="9144000" cy="659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8" name="Текст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0280"/>
                    <a:ext cx="914400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908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ОЧЕНЬ ВЫСОКИЙ –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5 ЧЕЛОВЕК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ВЫСОКИЙ – 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8 ЧЕЛОВЕК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АДЕКВАТНАЯ – 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7 ЧЕЛОВЕК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НИЗКАЯ – 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1 ЧЕЛОВЕК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979640" y="304920"/>
            <a:ext cx="4824360" cy="82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99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результаты</a:t>
            </a:r>
            <a:endParaRPr b="1" lang="en-US" sz="4000" spc="1" strike="noStrike">
              <a:ln w="38160">
                <a:solidFill>
                  <a:srgbClr val="3333cc"/>
                </a:solidFill>
                <a:miter/>
              </a:ln>
              <a:solidFill>
                <a:srgbClr val="99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Object 2"/>
          <p:cNvGraphicFramePr/>
          <p:nvPr/>
        </p:nvGraphicFramePr>
        <p:xfrm>
          <a:off x="214200" y="1285920"/>
          <a:ext cx="8715600" cy="557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200" y="1285920"/>
                    <a:ext cx="871560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 txBox="1"/>
          <p:nvPr/>
        </p:nvSpPr>
        <p:spPr>
          <a:xfrm>
            <a:off x="755640" y="0"/>
            <a:ext cx="784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99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тест "Несуществующее животное"</a:t>
            </a:r>
            <a:endParaRPr b="1" lang="en-US" sz="4000" spc="1" strike="noStrike">
              <a:ln w="38160">
                <a:solidFill>
                  <a:srgbClr val="3333cc"/>
                </a:solidFill>
                <a:miter/>
              </a:ln>
              <a:solidFill>
                <a:srgbClr val="99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561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39640" y="836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Изучение агрессивных проявлений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724360" y="4221000"/>
            <a:ext cx="2519640" cy="18417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1042920" y="2852640"/>
            <a:ext cx="67676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3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методика "Ёжик"</a:t>
            </a:r>
            <a:endParaRPr b="1" lang="en-US" sz="40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3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57200" y="285840"/>
            <a:ext cx="8229600" cy="60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3" name="Object 2"/>
          <p:cNvGraphicFramePr/>
          <p:nvPr/>
        </p:nvGraphicFramePr>
        <p:xfrm>
          <a:off x="285840" y="0"/>
          <a:ext cx="8501040" cy="728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0"/>
                    <a:ext cx="8501040" cy="728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Мотивационная сфера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f6fc6"/>
                </a:solidFill>
                <a:latin typeface="Constantia"/>
              </a:rPr>
              <a:t>Изучение мотивации (анкета Лускановой)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5724360" y="4221000"/>
            <a:ext cx="2519640" cy="1841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Анализ результат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57200" y="1285920"/>
            <a:ext cx="8229600" cy="50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0" name="Object 3"/>
          <p:cNvGraphicFramePr/>
          <p:nvPr/>
        </p:nvGraphicFramePr>
        <p:xfrm>
          <a:off x="214200" y="1000080"/>
          <a:ext cx="9144000" cy="585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200" y="1000080"/>
                    <a:ext cx="914400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10717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нализ результатов диагностики внимани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 методике"Корректурная проба"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Object 2"/>
          <p:cNvGraphicFramePr/>
          <p:nvPr/>
        </p:nvGraphicFramePr>
        <p:xfrm>
          <a:off x="214200" y="1571760"/>
          <a:ext cx="8715600" cy="45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200" y="1571760"/>
                    <a:ext cx="871560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96472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«Признаки возрастного кризиса7 лет»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0033"/>
                </a:solidFill>
                <a:latin typeface="Arial"/>
              </a:rPr>
              <a:t>Повышенная утомляемость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0033"/>
                </a:solidFill>
                <a:latin typeface="Arial"/>
              </a:rPr>
              <a:t>Раздражительность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0033"/>
                </a:solidFill>
                <a:latin typeface="Arial"/>
              </a:rPr>
              <a:t>Перепады настроения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0033"/>
                </a:solidFill>
                <a:latin typeface="Arial"/>
              </a:rPr>
              <a:t>Изменения в работе сердечно-сосудистой, нервной и др. систем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0033"/>
                </a:solidFill>
                <a:latin typeface="Arial"/>
              </a:rPr>
              <a:t>Изменения в характере </a:t>
            </a:r>
            <a:r>
              <a:rPr b="0" lang="ru-RU" sz="2100" spc="-1" strike="noStrike">
                <a:solidFill>
                  <a:srgbClr val="660033"/>
                </a:solidFill>
                <a:latin typeface="Arial"/>
              </a:rPr>
              <a:t>(упрямство, непокорность)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0033"/>
                </a:solidFill>
                <a:latin typeface="Arial"/>
              </a:rPr>
              <a:t>Изменения в самооценке (плохой-хороший)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Picture 5" descr="D:\картинки\анимашки\анимашки\раб на компе.gif"/>
          <p:cNvPicPr/>
          <p:nvPr/>
        </p:nvPicPr>
        <p:blipFill>
          <a:blip r:embed="rId2"/>
          <a:stretch/>
        </p:blipFill>
        <p:spPr>
          <a:xfrm>
            <a:off x="6804000" y="5084640"/>
            <a:ext cx="1944720" cy="1368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mann17"/>
          <p:cNvPicPr/>
          <p:nvPr/>
        </p:nvPicPr>
        <p:blipFill>
          <a:blip r:embed="rId3"/>
          <a:stretch/>
        </p:blipFill>
        <p:spPr>
          <a:xfrm>
            <a:off x="179280" y="907920"/>
            <a:ext cx="158436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bf5f9"/>
                </a:solidFill>
                <a:latin typeface="Calibri"/>
              </a:rPr>
              <a:t>. 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Методики определения комфортности и затруднений ребенка в школ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8" name="Picture 5" descr="4"/>
          <p:cNvPicPr/>
          <p:nvPr/>
        </p:nvPicPr>
        <p:blipFill>
          <a:blip r:embed="rId2"/>
          <a:stretch/>
        </p:blipFill>
        <p:spPr>
          <a:xfrm>
            <a:off x="3059280" y="3621240"/>
            <a:ext cx="2233440" cy="32367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380880" y="457200"/>
            <a:ext cx="8458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3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Как помочьребенку стать</a:t>
            </a:r>
            <a:endParaRPr b="1" lang="en-US" sz="40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3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3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успешным школьником</a:t>
            </a:r>
            <a:endParaRPr b="1" lang="en-US" sz="40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3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181080" y="-360"/>
            <a:ext cx="86868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почаще общайтесь с детьми, к рассказу, информации, собственному отношению к человеку или событию, которые доверил вам ребенок, следует относиться «педагогически осторожно». Если ребенок заподозрит, что вы злоупотребляете его откровенностью, то он не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станет больше доверять ва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2"/>
          <a:stretch/>
        </p:blipFill>
        <p:spPr>
          <a:xfrm>
            <a:off x="6732720" y="3213000"/>
            <a:ext cx="2195280" cy="2082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верьте, что ваш ребенок наблюдает за вашей жизнью, работой, делами не меньше, чем это делаете вы в отношении его школьных событий. Спокойно, в меру откровенно и доступно рассказывая ему о своих заботах и радостях, вы сможете рассчитывать и на его открытость. Если такой обмен, диалог станет привычным уже в начальной школе, тогда, даже вступив в пору «трудной подростковости», ваш ребенок не замкнет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5" descr=""/>
          <p:cNvPicPr/>
          <p:nvPr/>
        </p:nvPicPr>
        <p:blipFill>
          <a:blip r:embed="rId2"/>
          <a:stretch/>
        </p:blipFill>
        <p:spPr>
          <a:xfrm>
            <a:off x="611280" y="0"/>
            <a:ext cx="2520720" cy="198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6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Доволен ли ребенок тем, как прошла школьная неделя, и почему?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Что за пять учебных дней стало для него главным, показалось интересным, расстроило, обрадовало?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Какие «роли» ему пришлось выполнять за неделю (ученик, дежурный, зритель, участник дела, события, победитель, наказанный, помощник и т.д.)? Выполнение каких ролей ему понравилось, а каких - нет?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Какой из дней запомнился более всего? Почему?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С чем связана для него грядущая неделя? Будет ли она в его представлении трудной, радостной, скучной, успешной?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920" y="404640"/>
            <a:ext cx="6913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9dd9"/>
                  </a:solidFill>
                  <a:miter/>
                </a:ln>
                <a:solidFill>
                  <a:srgbClr val="99ff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Пять вопросов </a:t>
            </a:r>
            <a:endParaRPr b="1" lang="en-US" sz="4000" spc="1" strike="noStrike">
              <a:ln w="38160">
                <a:solidFill>
                  <a:srgbClr val="009dd9"/>
                </a:solidFill>
                <a:miter/>
              </a:ln>
              <a:solidFill>
                <a:srgbClr val="99ff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9dd9"/>
                  </a:solidFill>
                  <a:miter/>
                </a:ln>
                <a:solidFill>
                  <a:srgbClr val="99ff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в конце недели</a:t>
            </a:r>
            <a:endParaRPr b="1" lang="en-US" sz="4000" spc="1" strike="noStrike">
              <a:ln w="38160">
                <a:solidFill>
                  <a:srgbClr val="009dd9"/>
                </a:solidFill>
                <a:miter/>
              </a:ln>
              <a:solidFill>
                <a:srgbClr val="99ff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0a0"/>
                </a:solidFill>
                <a:latin typeface="Calibri"/>
              </a:rPr>
              <a:t>Беседа по классной фотографии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43588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tantia"/>
              </a:rPr>
              <a:t>Плюсы и минусы школьного дня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0" name="Picture 5" descr=""/>
          <p:cNvPicPr/>
          <p:nvPr/>
        </p:nvPicPr>
        <p:blipFill>
          <a:blip r:embed="rId2"/>
          <a:stretch/>
        </p:blipFill>
        <p:spPr>
          <a:xfrm>
            <a:off x="1619280" y="2276640"/>
            <a:ext cx="612144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7" descr="C:\Program Files\Microsoft Office\Clipart\corpbas\j0079118.wmf"/>
          <p:cNvPicPr/>
          <p:nvPr/>
        </p:nvPicPr>
        <p:blipFill>
          <a:blip r:embed="rId2"/>
          <a:stretch/>
        </p:blipFill>
        <p:spPr>
          <a:xfrm>
            <a:off x="6804000" y="4292640"/>
            <a:ext cx="2052720" cy="23083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1" descr="C:\Program Files\Microsoft Office\Clipart\standard\stddir4\pe02654_.wmf"/>
          <p:cNvPicPr/>
          <p:nvPr/>
        </p:nvPicPr>
        <p:blipFill>
          <a:blip r:embed="rId3"/>
          <a:stretch/>
        </p:blipFill>
        <p:spPr>
          <a:xfrm>
            <a:off x="0" y="0"/>
            <a:ext cx="2268360" cy="1989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0" y="1989000"/>
            <a:ext cx="8458200" cy="250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cc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"Золотые</a:t>
            </a:r>
            <a:endParaRPr b="1" lang="en-US" sz="4000" spc="1" strike="noStrike">
              <a:ln w="38160">
                <a:solidFill>
                  <a:srgbClr val="00cc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cc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1" lang="en-US" sz="4000" spc="1" strike="noStrike">
                <a:ln w="38160">
                  <a:solidFill>
                    <a:srgbClr val="00cc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правила"</a:t>
            </a:r>
            <a:endParaRPr b="1" lang="en-US" sz="4000" spc="1" strike="noStrike">
              <a:ln w="38160">
                <a:solidFill>
                  <a:srgbClr val="00cc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Никогда не отправляйте ребенка одновременно в первый класс и какую-то секцию или кружок. Само начало школьной жизни считается тяжелым стрессом для б-7-летних детей. Если малыш не будет иметь возможности гулять, отдыхать, у него могут возникнуть проблемы со здоровьем, может начаться невроз. Поэтому, если занятия музыкой' и спортом кажутся вам необходимой частью воспитания вашего ребенка, начните водить его туда за год до начала учебы или со второго класс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332000" y="0"/>
            <a:ext cx="684036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57240">
                  <a:solidFill>
                    <a:srgbClr val="009dd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правило 1</a:t>
            </a:r>
            <a:endParaRPr b="1" lang="en-US" sz="4400" spc="1" strike="noStrike">
              <a:ln w="57240">
                <a:solidFill>
                  <a:srgbClr val="009dd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3" descr="C:\Program Files\Microsoft Office\Clipart\smbusbas\bd07030_.wmf"/>
          <p:cNvPicPr/>
          <p:nvPr/>
        </p:nvPicPr>
        <p:blipFill>
          <a:blip r:embed="rId2"/>
          <a:stretch/>
        </p:blipFill>
        <p:spPr>
          <a:xfrm>
            <a:off x="5786280" y="4357800"/>
            <a:ext cx="3357720" cy="250020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5"/>
          <p:cNvSpPr/>
          <p:nvPr/>
        </p:nvSpPr>
        <p:spPr>
          <a:xfrm>
            <a:off x="-158400" y="1483200"/>
            <a:ext cx="8673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пьютер, телевизор и любые занят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бующие зрительной нагруз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продолжаться не бол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а в день - так счит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рачи-офтальмологи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вропатологи во все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анах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762120" y="304920"/>
            <a:ext cx="7481880" cy="11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57240">
                  <a:solidFill>
                    <a:srgbClr val="009dd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правило 2</a:t>
            </a:r>
            <a:endParaRPr b="1" lang="en-US" sz="4400" spc="1" strike="noStrike">
              <a:ln w="57240">
                <a:solidFill>
                  <a:srgbClr val="009dd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29000" y="981000"/>
            <a:ext cx="5464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Больше всего на свете в течение первого года учебы ваш малыш нуждается в поддержке. Он не только формирует свои отношения с одноклассниками и учителями, но и впервые понимает, что с ним самим кто-то хочет дружить, а кто-то - нет, Именно в это время у малыша складывается свой собственный взгляд на себя. И если вы хотите, чтобы из него вырос спокойный и уверенный в себе человек, обязательно хвалите его. Поддерживайте, не ругайте за двойки и грязь в тетради. Все это мелочи по сравнению с тем, что от бесконечных упреков и наказаний ваш ребенок потеряет веру в себ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1" name="Picture 4" descr="cemya"/>
          <p:cNvPicPr/>
          <p:nvPr/>
        </p:nvPicPr>
        <p:blipFill>
          <a:blip r:embed="rId2"/>
          <a:stretch/>
        </p:blipFill>
        <p:spPr>
          <a:xfrm>
            <a:off x="179280" y="1214280"/>
            <a:ext cx="3463920" cy="31435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1476360" y="0"/>
            <a:ext cx="662472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57240">
                  <a:solidFill>
                    <a:srgbClr val="009dd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правило 3</a:t>
            </a:r>
            <a:endParaRPr b="1" lang="en-US" sz="4400" spc="1" strike="noStrike">
              <a:ln w="57240">
                <a:solidFill>
                  <a:srgbClr val="009dd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Уважаемые родители. Давайте украсим наше школьное дерево цветными листиками. Каждый из вас выберет один листик из трех в соответствии со своими ощущениями. Цвета листьев обозначают следующее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- я и мой ребенок не испытываем трудности в школ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- у ребенка есть трудности, но я готова ему помоч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- ребенку в школе очень трудн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95280" y="5084640"/>
            <a:ext cx="2050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желтый</a:t>
            </a:r>
            <a:endParaRPr b="1" lang="en-US" sz="4000" spc="1" strike="noStrike">
              <a:ln w="3816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8360" y="4076640"/>
            <a:ext cx="1958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зеленый</a:t>
            </a:r>
            <a:endParaRPr b="1" lang="en-US" sz="4000" spc="1" strike="noStrike">
              <a:ln w="381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5280" y="5734080"/>
            <a:ext cx="194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красный</a:t>
            </a:r>
            <a:endParaRPr b="1" lang="en-US" sz="4000" spc="1" strike="noStrike">
              <a:ln w="381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1280" y="549360"/>
            <a:ext cx="6913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Comic Sans MS"/>
              </a:rPr>
              <a:t>Школьное дерево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ver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«Признаки возрастного кризиса 7 лет»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        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Изменяется социальный статус бывшего малыша - появляется новая социальная роль "ученик". Можно считать это рождением социального "Я" ребенка</a:t>
            </a: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000080" cy="1114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6877080" y="5300640"/>
            <a:ext cx="1363680" cy="1096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E:\CLIPART\POWERPNT\FLOWER1.WMF"/>
          <p:cNvPicPr/>
          <p:nvPr/>
        </p:nvPicPr>
        <p:blipFill>
          <a:blip r:embed="rId2"/>
          <a:stretch/>
        </p:blipFill>
        <p:spPr>
          <a:xfrm>
            <a:off x="6319800" y="-357120"/>
            <a:ext cx="2824200" cy="2786040"/>
          </a:xfrm>
          <a:prstGeom prst="rect">
            <a:avLst/>
          </a:prstGeom>
          <a:ln w="0">
            <a:noFill/>
          </a:ln>
        </p:spPr>
      </p:pic>
      <p:sp>
        <p:nvSpPr>
          <p:cNvPr id="370" name="WordArt 3"/>
          <p:cNvSpPr txBox="1"/>
          <p:nvPr/>
        </p:nvSpPr>
        <p:spPr>
          <a:xfrm>
            <a:off x="428760" y="1214280"/>
            <a:ext cx="79246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76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dd9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Здоровья и удачи Вам</a:t>
            </a:r>
            <a:endParaRPr b="1" lang="en-US" sz="1800" spc="1" strike="noStrike">
              <a:ln w="9360">
                <a:solidFill>
                  <a:srgbClr val="009dd9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dd9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9dd9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и вашим детям!</a:t>
            </a:r>
            <a:endParaRPr b="1" lang="en-US" sz="1800" spc="1" strike="noStrike">
              <a:ln w="9360">
                <a:solidFill>
                  <a:srgbClr val="009dd9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71" name="Group 145"/>
          <p:cNvGrpSpPr/>
          <p:nvPr/>
        </p:nvGrpSpPr>
        <p:grpSpPr>
          <a:xfrm>
            <a:off x="928800" y="4214880"/>
            <a:ext cx="2113920" cy="2085120"/>
            <a:chOff x="928800" y="4214880"/>
            <a:chExt cx="2113920" cy="2085120"/>
          </a:xfrm>
        </p:grpSpPr>
        <p:sp>
          <p:nvSpPr>
            <p:cNvPr id="372" name="Rectangle 7"/>
            <p:cNvSpPr/>
            <p:nvPr/>
          </p:nvSpPr>
          <p:spPr>
            <a:xfrm flipH="1">
              <a:off x="1820520" y="5389200"/>
              <a:ext cx="610920" cy="24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10"/>
            <p:cNvGrpSpPr/>
            <p:nvPr/>
          </p:nvGrpSpPr>
          <p:grpSpPr>
            <a:xfrm>
              <a:off x="928800" y="5084640"/>
              <a:ext cx="1142640" cy="516960"/>
              <a:chOff x="928800" y="5084640"/>
              <a:chExt cx="1142640" cy="516960"/>
            </a:xfrm>
          </p:grpSpPr>
          <p:sp>
            <p:nvSpPr>
              <p:cNvPr id="374" name="Freeform 8"/>
              <p:cNvSpPr/>
              <p:nvPr/>
            </p:nvSpPr>
            <p:spPr>
              <a:xfrm flipH="1">
                <a:off x="928800" y="5084640"/>
                <a:ext cx="1142640" cy="51696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9"/>
              <p:cNvSpPr/>
              <p:nvPr/>
            </p:nvSpPr>
            <p:spPr>
              <a:xfrm flipH="1">
                <a:off x="1317960" y="5252400"/>
                <a:ext cx="272520" cy="122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14"/>
            <p:cNvGrpSpPr/>
            <p:nvPr/>
          </p:nvGrpSpPr>
          <p:grpSpPr>
            <a:xfrm>
              <a:off x="2071800" y="5470200"/>
              <a:ext cx="690120" cy="784080"/>
              <a:chOff x="2071800" y="5470200"/>
              <a:chExt cx="690120" cy="784080"/>
            </a:xfrm>
          </p:grpSpPr>
          <p:sp>
            <p:nvSpPr>
              <p:cNvPr id="377" name="Freeform 11"/>
              <p:cNvSpPr/>
              <p:nvPr/>
            </p:nvSpPr>
            <p:spPr>
              <a:xfrm flipH="1">
                <a:off x="2071440" y="5470200"/>
                <a:ext cx="690120" cy="78408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2"/>
              <p:cNvSpPr/>
              <p:nvPr/>
            </p:nvSpPr>
            <p:spPr>
              <a:xfrm flipH="1">
                <a:off x="2180160" y="5562000"/>
                <a:ext cx="374400" cy="258480"/>
              </a:xfrm>
              <a:prstGeom prst="pi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3"/>
              <p:cNvSpPr/>
              <p:nvPr/>
            </p:nvSpPr>
            <p:spPr>
              <a:xfrm flipH="1">
                <a:off x="2335680" y="5673240"/>
                <a:ext cx="283680" cy="38376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18"/>
            <p:cNvGrpSpPr/>
            <p:nvPr/>
          </p:nvGrpSpPr>
          <p:grpSpPr>
            <a:xfrm>
              <a:off x="1924200" y="4214880"/>
              <a:ext cx="499680" cy="1377720"/>
              <a:chOff x="1924200" y="4214880"/>
              <a:chExt cx="499680" cy="1377720"/>
            </a:xfrm>
          </p:grpSpPr>
          <p:sp>
            <p:nvSpPr>
              <p:cNvPr id="381" name="Freeform 15"/>
              <p:cNvSpPr/>
              <p:nvPr/>
            </p:nvSpPr>
            <p:spPr>
              <a:xfrm flipH="1">
                <a:off x="1924200" y="4214880"/>
                <a:ext cx="499680" cy="1377720"/>
              </a:xfrm>
              <a:prstGeom prst="pie">
                <a:avLst/>
              </a:prstGeom>
              <a:solidFill>
                <a:srgbClr val="a00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6"/>
              <p:cNvSpPr/>
              <p:nvPr/>
            </p:nvSpPr>
            <p:spPr>
              <a:xfrm flipH="1">
                <a:off x="2068920" y="4317840"/>
                <a:ext cx="272880" cy="25200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"/>
              <p:cNvSpPr/>
              <p:nvPr/>
            </p:nvSpPr>
            <p:spPr>
              <a:xfrm flipH="1">
                <a:off x="2130480" y="4363920"/>
                <a:ext cx="114120" cy="6836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21"/>
            <p:cNvGrpSpPr/>
            <p:nvPr/>
          </p:nvGrpSpPr>
          <p:grpSpPr>
            <a:xfrm>
              <a:off x="2139840" y="4671720"/>
              <a:ext cx="902880" cy="912600"/>
              <a:chOff x="2139840" y="4671720"/>
              <a:chExt cx="902880" cy="912600"/>
            </a:xfrm>
          </p:grpSpPr>
          <p:sp>
            <p:nvSpPr>
              <p:cNvPr id="385" name="Freeform 19"/>
              <p:cNvSpPr/>
              <p:nvPr/>
            </p:nvSpPr>
            <p:spPr>
              <a:xfrm flipH="1">
                <a:off x="2139840" y="4671720"/>
                <a:ext cx="902880" cy="91260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20"/>
              <p:cNvSpPr/>
              <p:nvPr/>
            </p:nvSpPr>
            <p:spPr>
              <a:xfrm flipH="1">
                <a:off x="2388960" y="4741200"/>
                <a:ext cx="463320" cy="50760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25"/>
            <p:cNvGrpSpPr/>
            <p:nvPr/>
          </p:nvGrpSpPr>
          <p:grpSpPr>
            <a:xfrm>
              <a:off x="1256040" y="4430520"/>
              <a:ext cx="823320" cy="995040"/>
              <a:chOff x="1256040" y="4430520"/>
              <a:chExt cx="823320" cy="995040"/>
            </a:xfrm>
          </p:grpSpPr>
          <p:sp>
            <p:nvSpPr>
              <p:cNvPr id="388" name="Freeform 22"/>
              <p:cNvSpPr/>
              <p:nvPr/>
            </p:nvSpPr>
            <p:spPr>
              <a:xfrm flipH="1">
                <a:off x="1255680" y="4430520"/>
                <a:ext cx="823320" cy="99504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3"/>
              <p:cNvSpPr/>
              <p:nvPr/>
            </p:nvSpPr>
            <p:spPr>
              <a:xfrm flipH="1">
                <a:off x="1350000" y="4479480"/>
                <a:ext cx="237600" cy="153360"/>
              </a:xfrm>
              <a:prstGeom prst="pie">
                <a:avLst/>
              </a:pr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24"/>
              <p:cNvSpPr/>
              <p:nvPr/>
            </p:nvSpPr>
            <p:spPr>
              <a:xfrm flipH="1">
                <a:off x="1465560" y="4519080"/>
                <a:ext cx="318600" cy="52488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34"/>
            <p:cNvGrpSpPr/>
            <p:nvPr/>
          </p:nvGrpSpPr>
          <p:grpSpPr>
            <a:xfrm>
              <a:off x="1678680" y="4905000"/>
              <a:ext cx="529200" cy="718560"/>
              <a:chOff x="1678680" y="4905000"/>
              <a:chExt cx="529200" cy="718560"/>
            </a:xfrm>
          </p:grpSpPr>
          <p:sp>
            <p:nvSpPr>
              <p:cNvPr id="392" name="Freeform 26"/>
              <p:cNvSpPr/>
              <p:nvPr/>
            </p:nvSpPr>
            <p:spPr>
              <a:xfrm flipH="1">
                <a:off x="1716120" y="5152320"/>
                <a:ext cx="456840" cy="43956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27"/>
              <p:cNvSpPr/>
              <p:nvPr/>
            </p:nvSpPr>
            <p:spPr>
              <a:xfrm flipH="1">
                <a:off x="2054880" y="5112720"/>
                <a:ext cx="82080" cy="34560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28"/>
              <p:cNvSpPr/>
              <p:nvPr/>
            </p:nvSpPr>
            <p:spPr>
              <a:xfrm flipH="1">
                <a:off x="1989360" y="4990680"/>
                <a:ext cx="155160" cy="54252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29"/>
              <p:cNvSpPr/>
              <p:nvPr/>
            </p:nvSpPr>
            <p:spPr>
              <a:xfrm flipH="1">
                <a:off x="1841400" y="5034960"/>
                <a:ext cx="366120" cy="58860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30"/>
              <p:cNvSpPr/>
              <p:nvPr/>
            </p:nvSpPr>
            <p:spPr>
              <a:xfrm flipH="1">
                <a:off x="1678320" y="5112720"/>
                <a:ext cx="80280" cy="853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31"/>
              <p:cNvSpPr/>
              <p:nvPr/>
            </p:nvSpPr>
            <p:spPr>
              <a:xfrm flipH="1">
                <a:off x="2094120" y="5069880"/>
                <a:ext cx="93240" cy="7740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32"/>
              <p:cNvSpPr/>
              <p:nvPr/>
            </p:nvSpPr>
            <p:spPr>
              <a:xfrm flipH="1">
                <a:off x="1815120" y="4947480"/>
                <a:ext cx="88560" cy="1141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33"/>
              <p:cNvSpPr/>
              <p:nvPr/>
            </p:nvSpPr>
            <p:spPr>
              <a:xfrm flipH="1">
                <a:off x="1965600" y="4905000"/>
                <a:ext cx="85320" cy="1285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64"/>
            <p:cNvGrpSpPr/>
            <p:nvPr/>
          </p:nvGrpSpPr>
          <p:grpSpPr>
            <a:xfrm>
              <a:off x="1357920" y="5298840"/>
              <a:ext cx="1035720" cy="1001160"/>
              <a:chOff x="1357920" y="5298840"/>
              <a:chExt cx="1035720" cy="1001160"/>
            </a:xfrm>
          </p:grpSpPr>
          <p:grpSp>
            <p:nvGrpSpPr>
              <p:cNvPr id="401" name="Group 62"/>
              <p:cNvGrpSpPr/>
              <p:nvPr/>
            </p:nvGrpSpPr>
            <p:grpSpPr>
              <a:xfrm>
                <a:off x="1357920" y="5298840"/>
                <a:ext cx="1035720" cy="1001160"/>
                <a:chOff x="1357920" y="5298840"/>
                <a:chExt cx="1035720" cy="1001160"/>
              </a:xfrm>
            </p:grpSpPr>
            <p:sp>
              <p:nvSpPr>
                <p:cNvPr id="402" name="Freeform 35"/>
                <p:cNvSpPr/>
                <p:nvPr/>
              </p:nvSpPr>
              <p:spPr>
                <a:xfrm flipH="1">
                  <a:off x="1357920" y="5436720"/>
                  <a:ext cx="847440" cy="863280"/>
                </a:xfrm>
                <a:prstGeom prst="pie">
                  <a:avLst/>
                </a:prstGeom>
                <a:solidFill>
                  <a:srgbClr val="c00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36"/>
                <p:cNvSpPr/>
                <p:nvPr/>
              </p:nvSpPr>
              <p:spPr>
                <a:xfrm flipH="1">
                  <a:off x="2257560" y="5488920"/>
                  <a:ext cx="21960" cy="21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Oval 37"/>
                <p:cNvSpPr/>
                <p:nvPr/>
              </p:nvSpPr>
              <p:spPr>
                <a:xfrm flipH="1">
                  <a:off x="2243160" y="5407920"/>
                  <a:ext cx="21960" cy="21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Oval 38"/>
                <p:cNvSpPr/>
                <p:nvPr/>
              </p:nvSpPr>
              <p:spPr>
                <a:xfrm flipH="1">
                  <a:off x="2121120" y="5603400"/>
                  <a:ext cx="21960" cy="234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39"/>
                <p:cNvSpPr/>
                <p:nvPr/>
              </p:nvSpPr>
              <p:spPr>
                <a:xfrm flipH="1">
                  <a:off x="2062800" y="5612760"/>
                  <a:ext cx="20160" cy="234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40"/>
                <p:cNvSpPr/>
                <p:nvPr/>
              </p:nvSpPr>
              <p:spPr>
                <a:xfrm flipH="1">
                  <a:off x="1892520" y="5716080"/>
                  <a:ext cx="21960" cy="234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41"/>
                <p:cNvSpPr/>
                <p:nvPr/>
              </p:nvSpPr>
              <p:spPr>
                <a:xfrm flipH="1">
                  <a:off x="1948320" y="5733360"/>
                  <a:ext cx="20160" cy="21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42"/>
                <p:cNvSpPr/>
                <p:nvPr/>
              </p:nvSpPr>
              <p:spPr>
                <a:xfrm flipH="1">
                  <a:off x="2006640" y="5635080"/>
                  <a:ext cx="14040" cy="14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Oval 43"/>
                <p:cNvSpPr/>
                <p:nvPr/>
              </p:nvSpPr>
              <p:spPr>
                <a:xfrm flipH="1">
                  <a:off x="2082960" y="5598360"/>
                  <a:ext cx="16920" cy="1728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Oval 44"/>
                <p:cNvSpPr/>
                <p:nvPr/>
              </p:nvSpPr>
              <p:spPr>
                <a:xfrm flipH="1">
                  <a:off x="2095560" y="5617440"/>
                  <a:ext cx="12600" cy="108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45"/>
                <p:cNvSpPr/>
                <p:nvPr/>
              </p:nvSpPr>
              <p:spPr>
                <a:xfrm flipH="1">
                  <a:off x="1997640" y="5708160"/>
                  <a:ext cx="10800" cy="108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46"/>
                <p:cNvSpPr/>
                <p:nvPr/>
              </p:nvSpPr>
              <p:spPr>
                <a:xfrm flipH="1">
                  <a:off x="1975320" y="5697000"/>
                  <a:ext cx="9360" cy="90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Oval 47"/>
                <p:cNvSpPr/>
                <p:nvPr/>
              </p:nvSpPr>
              <p:spPr>
                <a:xfrm flipH="1">
                  <a:off x="1905480" y="5689080"/>
                  <a:ext cx="10800" cy="108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48"/>
                <p:cNvSpPr/>
                <p:nvPr/>
              </p:nvSpPr>
              <p:spPr>
                <a:xfrm flipH="1">
                  <a:off x="1922760" y="5739840"/>
                  <a:ext cx="9000" cy="90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Oval 49"/>
                <p:cNvSpPr/>
                <p:nvPr/>
              </p:nvSpPr>
              <p:spPr>
                <a:xfrm flipH="1">
                  <a:off x="1871640" y="5763600"/>
                  <a:ext cx="14040" cy="14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50"/>
                <p:cNvSpPr/>
                <p:nvPr/>
              </p:nvSpPr>
              <p:spPr>
                <a:xfrm flipH="1">
                  <a:off x="2234160" y="5455800"/>
                  <a:ext cx="1224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51"/>
                <p:cNvSpPr/>
                <p:nvPr/>
              </p:nvSpPr>
              <p:spPr>
                <a:xfrm flipH="1">
                  <a:off x="2170800" y="5442840"/>
                  <a:ext cx="13680" cy="14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52"/>
                <p:cNvSpPr/>
                <p:nvPr/>
              </p:nvSpPr>
              <p:spPr>
                <a:xfrm flipH="1">
                  <a:off x="2297160" y="5428800"/>
                  <a:ext cx="14040" cy="1368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53"/>
                <p:cNvSpPr/>
                <p:nvPr/>
              </p:nvSpPr>
              <p:spPr>
                <a:xfrm flipH="1">
                  <a:off x="2292480" y="5404680"/>
                  <a:ext cx="14040" cy="14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54"/>
                <p:cNvSpPr/>
                <p:nvPr/>
              </p:nvSpPr>
              <p:spPr>
                <a:xfrm flipH="1">
                  <a:off x="2357640" y="5444640"/>
                  <a:ext cx="14040" cy="1368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Oval 55"/>
                <p:cNvSpPr/>
                <p:nvPr/>
              </p:nvSpPr>
              <p:spPr>
                <a:xfrm flipH="1">
                  <a:off x="2213640" y="5393880"/>
                  <a:ext cx="13680" cy="1368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Oval 56"/>
                <p:cNvSpPr/>
                <p:nvPr/>
              </p:nvSpPr>
              <p:spPr>
                <a:xfrm flipH="1">
                  <a:off x="2173680" y="5333400"/>
                  <a:ext cx="1080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57"/>
                <p:cNvSpPr/>
                <p:nvPr/>
              </p:nvSpPr>
              <p:spPr>
                <a:xfrm flipH="1">
                  <a:off x="2224440" y="5311080"/>
                  <a:ext cx="9360" cy="93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Oval 58"/>
                <p:cNvSpPr/>
                <p:nvPr/>
              </p:nvSpPr>
              <p:spPr>
                <a:xfrm flipH="1">
                  <a:off x="2278440" y="5339880"/>
                  <a:ext cx="9360" cy="900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59"/>
                <p:cNvSpPr/>
                <p:nvPr/>
              </p:nvSpPr>
              <p:spPr>
                <a:xfrm flipH="1">
                  <a:off x="2331000" y="5298840"/>
                  <a:ext cx="1080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60"/>
                <p:cNvSpPr/>
                <p:nvPr/>
              </p:nvSpPr>
              <p:spPr>
                <a:xfrm flipH="1">
                  <a:off x="2379960" y="5336640"/>
                  <a:ext cx="13680" cy="14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Oval 61"/>
                <p:cNvSpPr/>
                <p:nvPr/>
              </p:nvSpPr>
              <p:spPr>
                <a:xfrm flipH="1">
                  <a:off x="2378160" y="5401800"/>
                  <a:ext cx="14040" cy="1368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Freeform 63"/>
              <p:cNvSpPr/>
              <p:nvPr/>
            </p:nvSpPr>
            <p:spPr>
              <a:xfrm flipH="1">
                <a:off x="1449720" y="5587560"/>
                <a:ext cx="381960" cy="563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4"/>
            <p:cNvGrpSpPr/>
            <p:nvPr/>
          </p:nvGrpSpPr>
          <p:grpSpPr>
            <a:xfrm>
              <a:off x="1764360" y="5181480"/>
              <a:ext cx="624600" cy="605520"/>
              <a:chOff x="1764360" y="5181480"/>
              <a:chExt cx="624600" cy="605520"/>
            </a:xfrm>
          </p:grpSpPr>
          <p:sp>
            <p:nvSpPr>
              <p:cNvPr id="431" name="Oval 65"/>
              <p:cNvSpPr/>
              <p:nvPr/>
            </p:nvSpPr>
            <p:spPr>
              <a:xfrm flipH="1">
                <a:off x="1805040" y="5546160"/>
                <a:ext cx="219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66"/>
              <p:cNvSpPr/>
              <p:nvPr/>
            </p:nvSpPr>
            <p:spPr>
              <a:xfrm flipH="1">
                <a:off x="1803600" y="5612760"/>
                <a:ext cx="219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Oval 67"/>
              <p:cNvSpPr/>
              <p:nvPr/>
            </p:nvSpPr>
            <p:spPr>
              <a:xfrm flipH="1">
                <a:off x="1870560" y="5698440"/>
                <a:ext cx="201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Oval 68"/>
              <p:cNvSpPr/>
              <p:nvPr/>
            </p:nvSpPr>
            <p:spPr>
              <a:xfrm flipH="1">
                <a:off x="1811880" y="5681160"/>
                <a:ext cx="20160" cy="21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Oval 69"/>
              <p:cNvSpPr/>
              <p:nvPr/>
            </p:nvSpPr>
            <p:spPr>
              <a:xfrm flipH="1">
                <a:off x="1839960" y="5763600"/>
                <a:ext cx="20520" cy="234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70"/>
              <p:cNvSpPr/>
              <p:nvPr/>
            </p:nvSpPr>
            <p:spPr>
              <a:xfrm flipH="1">
                <a:off x="1797120" y="5515920"/>
                <a:ext cx="15480" cy="172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71"/>
              <p:cNvSpPr/>
              <p:nvPr/>
            </p:nvSpPr>
            <p:spPr>
              <a:xfrm flipH="1">
                <a:off x="1953000" y="572076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72"/>
              <p:cNvSpPr/>
              <p:nvPr/>
            </p:nvSpPr>
            <p:spPr>
              <a:xfrm flipH="1">
                <a:off x="1973880" y="5730120"/>
                <a:ext cx="10800" cy="12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73"/>
              <p:cNvSpPr/>
              <p:nvPr/>
            </p:nvSpPr>
            <p:spPr>
              <a:xfrm flipH="1">
                <a:off x="1919520" y="5735160"/>
                <a:ext cx="15480" cy="136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74"/>
              <p:cNvSpPr/>
              <p:nvPr/>
            </p:nvSpPr>
            <p:spPr>
              <a:xfrm flipH="1">
                <a:off x="1908360" y="5719320"/>
                <a:ext cx="15480" cy="154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Oval 75"/>
              <p:cNvSpPr/>
              <p:nvPr/>
            </p:nvSpPr>
            <p:spPr>
              <a:xfrm flipH="1">
                <a:off x="1807200" y="5730120"/>
                <a:ext cx="12240" cy="108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Oval 76"/>
              <p:cNvSpPr/>
              <p:nvPr/>
            </p:nvSpPr>
            <p:spPr>
              <a:xfrm flipH="1">
                <a:off x="1952640" y="5681160"/>
                <a:ext cx="20520" cy="21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Oval 77"/>
              <p:cNvSpPr/>
              <p:nvPr/>
            </p:nvSpPr>
            <p:spPr>
              <a:xfrm flipH="1">
                <a:off x="1853280" y="5660280"/>
                <a:ext cx="21600" cy="237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Oval 78"/>
              <p:cNvSpPr/>
              <p:nvPr/>
            </p:nvSpPr>
            <p:spPr>
              <a:xfrm flipH="1">
                <a:off x="1764360" y="5619240"/>
                <a:ext cx="201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79"/>
              <p:cNvSpPr/>
              <p:nvPr/>
            </p:nvSpPr>
            <p:spPr>
              <a:xfrm flipH="1">
                <a:off x="2184480" y="5336640"/>
                <a:ext cx="219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80"/>
              <p:cNvSpPr/>
              <p:nvPr/>
            </p:nvSpPr>
            <p:spPr>
              <a:xfrm flipH="1">
                <a:off x="2366640" y="5431680"/>
                <a:ext cx="21960" cy="237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81"/>
              <p:cNvSpPr/>
              <p:nvPr/>
            </p:nvSpPr>
            <p:spPr>
              <a:xfrm flipH="1">
                <a:off x="2335680" y="5439600"/>
                <a:ext cx="201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82"/>
              <p:cNvSpPr/>
              <p:nvPr/>
            </p:nvSpPr>
            <p:spPr>
              <a:xfrm flipH="1">
                <a:off x="2268720" y="5474520"/>
                <a:ext cx="219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83"/>
              <p:cNvSpPr/>
              <p:nvPr/>
            </p:nvSpPr>
            <p:spPr>
              <a:xfrm flipH="1">
                <a:off x="2281320" y="5377680"/>
                <a:ext cx="2052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84"/>
              <p:cNvSpPr/>
              <p:nvPr/>
            </p:nvSpPr>
            <p:spPr>
              <a:xfrm flipH="1">
                <a:off x="2281320" y="5312880"/>
                <a:ext cx="21960" cy="234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85"/>
              <p:cNvSpPr/>
              <p:nvPr/>
            </p:nvSpPr>
            <p:spPr>
              <a:xfrm flipH="1">
                <a:off x="1909800" y="5606280"/>
                <a:ext cx="21960" cy="237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86"/>
              <p:cNvSpPr/>
              <p:nvPr/>
            </p:nvSpPr>
            <p:spPr>
              <a:xfrm flipH="1">
                <a:off x="1871640" y="5535000"/>
                <a:ext cx="21960" cy="234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87"/>
              <p:cNvSpPr/>
              <p:nvPr/>
            </p:nvSpPr>
            <p:spPr>
              <a:xfrm flipH="1">
                <a:off x="1836720" y="5504760"/>
                <a:ext cx="219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Oval 88"/>
              <p:cNvSpPr/>
              <p:nvPr/>
            </p:nvSpPr>
            <p:spPr>
              <a:xfrm flipH="1">
                <a:off x="2140560" y="5334840"/>
                <a:ext cx="201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89"/>
              <p:cNvSpPr/>
              <p:nvPr/>
            </p:nvSpPr>
            <p:spPr>
              <a:xfrm flipH="1">
                <a:off x="2194560" y="5390640"/>
                <a:ext cx="2160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90"/>
              <p:cNvSpPr/>
              <p:nvPr/>
            </p:nvSpPr>
            <p:spPr>
              <a:xfrm flipH="1">
                <a:off x="2246400" y="5324040"/>
                <a:ext cx="20520" cy="234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91"/>
              <p:cNvSpPr/>
              <p:nvPr/>
            </p:nvSpPr>
            <p:spPr>
              <a:xfrm flipH="1">
                <a:off x="1900440" y="5650920"/>
                <a:ext cx="15480" cy="140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92"/>
              <p:cNvSpPr/>
              <p:nvPr/>
            </p:nvSpPr>
            <p:spPr>
              <a:xfrm flipH="1">
                <a:off x="1829160" y="5627160"/>
                <a:ext cx="15840" cy="154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93"/>
              <p:cNvSpPr/>
              <p:nvPr/>
            </p:nvSpPr>
            <p:spPr>
              <a:xfrm flipH="1">
                <a:off x="1943280" y="5652360"/>
                <a:ext cx="15480" cy="172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94"/>
              <p:cNvSpPr/>
              <p:nvPr/>
            </p:nvSpPr>
            <p:spPr>
              <a:xfrm flipH="1">
                <a:off x="1976760" y="5612760"/>
                <a:ext cx="16920" cy="154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95"/>
              <p:cNvSpPr/>
              <p:nvPr/>
            </p:nvSpPr>
            <p:spPr>
              <a:xfrm flipH="1">
                <a:off x="1990800" y="5639760"/>
                <a:ext cx="14040" cy="140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96"/>
              <p:cNvSpPr/>
              <p:nvPr/>
            </p:nvSpPr>
            <p:spPr>
              <a:xfrm flipH="1">
                <a:off x="1900440" y="5577840"/>
                <a:ext cx="14040" cy="140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97"/>
              <p:cNvSpPr/>
              <p:nvPr/>
            </p:nvSpPr>
            <p:spPr>
              <a:xfrm flipH="1">
                <a:off x="2238480" y="5488920"/>
                <a:ext cx="14040" cy="154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98"/>
              <p:cNvSpPr/>
              <p:nvPr/>
            </p:nvSpPr>
            <p:spPr>
              <a:xfrm flipH="1">
                <a:off x="2240280" y="5449320"/>
                <a:ext cx="18360" cy="18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99"/>
              <p:cNvSpPr/>
              <p:nvPr/>
            </p:nvSpPr>
            <p:spPr>
              <a:xfrm flipH="1">
                <a:off x="2260800" y="5419080"/>
                <a:ext cx="14040" cy="140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100"/>
              <p:cNvSpPr/>
              <p:nvPr/>
            </p:nvSpPr>
            <p:spPr>
              <a:xfrm flipH="1">
                <a:off x="2278080" y="5433480"/>
                <a:ext cx="14040" cy="140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101"/>
              <p:cNvSpPr/>
              <p:nvPr/>
            </p:nvSpPr>
            <p:spPr>
              <a:xfrm flipH="1">
                <a:off x="2221560" y="5303160"/>
                <a:ext cx="13680" cy="154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Oval 102"/>
              <p:cNvSpPr/>
              <p:nvPr/>
            </p:nvSpPr>
            <p:spPr>
              <a:xfrm flipH="1">
                <a:off x="2240640" y="5277960"/>
                <a:ext cx="12240" cy="108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Oval 103"/>
              <p:cNvSpPr/>
              <p:nvPr/>
            </p:nvSpPr>
            <p:spPr>
              <a:xfrm flipH="1">
                <a:off x="2170800" y="5270040"/>
                <a:ext cx="2160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Oval 104"/>
              <p:cNvSpPr/>
              <p:nvPr/>
            </p:nvSpPr>
            <p:spPr>
              <a:xfrm flipH="1">
                <a:off x="2113200" y="5249160"/>
                <a:ext cx="219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Oval 105"/>
              <p:cNvSpPr/>
              <p:nvPr/>
            </p:nvSpPr>
            <p:spPr>
              <a:xfrm flipH="1">
                <a:off x="2205720" y="5249160"/>
                <a:ext cx="2160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Oval 106"/>
              <p:cNvSpPr/>
              <p:nvPr/>
            </p:nvSpPr>
            <p:spPr>
              <a:xfrm flipH="1">
                <a:off x="2237400" y="5587560"/>
                <a:ext cx="20160" cy="21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107"/>
              <p:cNvSpPr/>
              <p:nvPr/>
            </p:nvSpPr>
            <p:spPr>
              <a:xfrm flipH="1">
                <a:off x="2197080" y="5582520"/>
                <a:ext cx="2052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108"/>
              <p:cNvSpPr/>
              <p:nvPr/>
            </p:nvSpPr>
            <p:spPr>
              <a:xfrm flipH="1">
                <a:off x="2257560" y="5536440"/>
                <a:ext cx="219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109"/>
              <p:cNvSpPr/>
              <p:nvPr/>
            </p:nvSpPr>
            <p:spPr>
              <a:xfrm flipH="1">
                <a:off x="2303640" y="5514480"/>
                <a:ext cx="21960" cy="234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110"/>
              <p:cNvSpPr/>
              <p:nvPr/>
            </p:nvSpPr>
            <p:spPr>
              <a:xfrm flipH="1">
                <a:off x="2351160" y="5496840"/>
                <a:ext cx="28440" cy="28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111"/>
              <p:cNvSpPr/>
              <p:nvPr/>
            </p:nvSpPr>
            <p:spPr>
              <a:xfrm flipH="1">
                <a:off x="2149560" y="5484240"/>
                <a:ext cx="2052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112"/>
              <p:cNvSpPr/>
              <p:nvPr/>
            </p:nvSpPr>
            <p:spPr>
              <a:xfrm flipH="1">
                <a:off x="2211480" y="5447880"/>
                <a:ext cx="21960" cy="21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Oval 113"/>
              <p:cNvSpPr/>
              <p:nvPr/>
            </p:nvSpPr>
            <p:spPr>
              <a:xfrm flipH="1">
                <a:off x="2145240" y="5430240"/>
                <a:ext cx="20160" cy="234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114"/>
              <p:cNvSpPr/>
              <p:nvPr/>
            </p:nvSpPr>
            <p:spPr>
              <a:xfrm flipH="1">
                <a:off x="2117880" y="5388840"/>
                <a:ext cx="219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115"/>
              <p:cNvSpPr/>
              <p:nvPr/>
            </p:nvSpPr>
            <p:spPr>
              <a:xfrm flipH="1">
                <a:off x="2111400" y="5307840"/>
                <a:ext cx="2052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116"/>
              <p:cNvSpPr/>
              <p:nvPr/>
            </p:nvSpPr>
            <p:spPr>
              <a:xfrm flipH="1">
                <a:off x="2365560" y="5368320"/>
                <a:ext cx="21960" cy="234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117"/>
              <p:cNvSpPr/>
              <p:nvPr/>
            </p:nvSpPr>
            <p:spPr>
              <a:xfrm flipH="1">
                <a:off x="2235240" y="5365080"/>
                <a:ext cx="219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118"/>
              <p:cNvSpPr/>
              <p:nvPr/>
            </p:nvSpPr>
            <p:spPr>
              <a:xfrm flipH="1">
                <a:off x="2240640" y="5299920"/>
                <a:ext cx="21600" cy="237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119"/>
              <p:cNvSpPr/>
              <p:nvPr/>
            </p:nvSpPr>
            <p:spPr>
              <a:xfrm flipH="1">
                <a:off x="2048400" y="5631840"/>
                <a:ext cx="201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120"/>
              <p:cNvSpPr/>
              <p:nvPr/>
            </p:nvSpPr>
            <p:spPr>
              <a:xfrm flipH="1">
                <a:off x="1862280" y="5600160"/>
                <a:ext cx="219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121"/>
              <p:cNvSpPr/>
              <p:nvPr/>
            </p:nvSpPr>
            <p:spPr>
              <a:xfrm flipH="1">
                <a:off x="1818360" y="5577840"/>
                <a:ext cx="21600" cy="234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122"/>
              <p:cNvSpPr/>
              <p:nvPr/>
            </p:nvSpPr>
            <p:spPr>
              <a:xfrm flipH="1">
                <a:off x="1938960" y="5565240"/>
                <a:ext cx="201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123"/>
              <p:cNvSpPr/>
              <p:nvPr/>
            </p:nvSpPr>
            <p:spPr>
              <a:xfrm flipH="1">
                <a:off x="1815120" y="5485680"/>
                <a:ext cx="21600" cy="237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124"/>
              <p:cNvSpPr/>
              <p:nvPr/>
            </p:nvSpPr>
            <p:spPr>
              <a:xfrm flipH="1">
                <a:off x="1843200" y="5373000"/>
                <a:ext cx="21960" cy="234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125"/>
              <p:cNvSpPr/>
              <p:nvPr/>
            </p:nvSpPr>
            <p:spPr>
              <a:xfrm flipH="1">
                <a:off x="1873440" y="5396760"/>
                <a:ext cx="2196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26"/>
              <p:cNvSpPr/>
              <p:nvPr/>
            </p:nvSpPr>
            <p:spPr>
              <a:xfrm flipH="1">
                <a:off x="2192400" y="5303160"/>
                <a:ext cx="20520" cy="21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127"/>
              <p:cNvSpPr/>
              <p:nvPr/>
            </p:nvSpPr>
            <p:spPr>
              <a:xfrm flipH="1">
                <a:off x="2135880" y="5285880"/>
                <a:ext cx="20160" cy="21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28"/>
              <p:cNvSpPr/>
              <p:nvPr/>
            </p:nvSpPr>
            <p:spPr>
              <a:xfrm flipH="1">
                <a:off x="1878120" y="5455800"/>
                <a:ext cx="21960" cy="21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29"/>
              <p:cNvSpPr/>
              <p:nvPr/>
            </p:nvSpPr>
            <p:spPr>
              <a:xfrm flipH="1">
                <a:off x="1916280" y="5495400"/>
                <a:ext cx="14040" cy="140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130"/>
              <p:cNvSpPr/>
              <p:nvPr/>
            </p:nvSpPr>
            <p:spPr>
              <a:xfrm flipH="1">
                <a:off x="1940040" y="5512680"/>
                <a:ext cx="14040" cy="140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31"/>
              <p:cNvSpPr/>
              <p:nvPr/>
            </p:nvSpPr>
            <p:spPr>
              <a:xfrm flipH="1">
                <a:off x="1962360" y="5538240"/>
                <a:ext cx="15480" cy="154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132"/>
              <p:cNvSpPr/>
              <p:nvPr/>
            </p:nvSpPr>
            <p:spPr>
              <a:xfrm flipH="1">
                <a:off x="1978200" y="5552640"/>
                <a:ext cx="14040" cy="136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Oval 133"/>
              <p:cNvSpPr/>
              <p:nvPr/>
            </p:nvSpPr>
            <p:spPr>
              <a:xfrm flipH="1">
                <a:off x="2338920" y="5374800"/>
                <a:ext cx="18720" cy="18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Oval 134"/>
              <p:cNvSpPr/>
              <p:nvPr/>
            </p:nvSpPr>
            <p:spPr>
              <a:xfrm flipH="1">
                <a:off x="2149920" y="5257080"/>
                <a:ext cx="10800" cy="126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135"/>
              <p:cNvSpPr/>
              <p:nvPr/>
            </p:nvSpPr>
            <p:spPr>
              <a:xfrm flipH="1">
                <a:off x="2278080" y="5216040"/>
                <a:ext cx="14040" cy="136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Oval 136"/>
              <p:cNvSpPr/>
              <p:nvPr/>
            </p:nvSpPr>
            <p:spPr>
              <a:xfrm flipH="1">
                <a:off x="2107080" y="5181480"/>
                <a:ext cx="20160" cy="20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137"/>
              <p:cNvSpPr/>
              <p:nvPr/>
            </p:nvSpPr>
            <p:spPr>
              <a:xfrm flipH="1">
                <a:off x="2067120" y="5442840"/>
                <a:ext cx="21960" cy="219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138"/>
              <p:cNvSpPr/>
              <p:nvPr/>
            </p:nvSpPr>
            <p:spPr>
              <a:xfrm flipH="1">
                <a:off x="2117880" y="5481000"/>
                <a:ext cx="14040" cy="140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139"/>
              <p:cNvSpPr/>
              <p:nvPr/>
            </p:nvSpPr>
            <p:spPr>
              <a:xfrm flipH="1">
                <a:off x="2125800" y="5528520"/>
                <a:ext cx="21960" cy="237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140"/>
              <p:cNvSpPr/>
              <p:nvPr/>
            </p:nvSpPr>
            <p:spPr>
              <a:xfrm flipH="1">
                <a:off x="2081880" y="5479560"/>
                <a:ext cx="21600" cy="2160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141"/>
              <p:cNvSpPr/>
              <p:nvPr/>
            </p:nvSpPr>
            <p:spPr>
              <a:xfrm flipH="1">
                <a:off x="1851120" y="5230080"/>
                <a:ext cx="23400" cy="237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142"/>
              <p:cNvSpPr/>
              <p:nvPr/>
            </p:nvSpPr>
            <p:spPr>
              <a:xfrm flipH="1">
                <a:off x="1927440" y="5192280"/>
                <a:ext cx="14040" cy="1368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43"/>
              <p:cNvSpPr/>
              <p:nvPr/>
            </p:nvSpPr>
            <p:spPr>
              <a:xfrm flipH="1">
                <a:off x="1883160" y="5277960"/>
                <a:ext cx="17280" cy="1548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0" name="Picture 149" descr="C:\Program Files\Microsoft Office\Clipart\WebArt\bd13738_.gif"/>
          <p:cNvPicPr/>
          <p:nvPr/>
        </p:nvPicPr>
        <p:blipFill>
          <a:blip r:embed="rId3"/>
          <a:stretch/>
        </p:blipFill>
        <p:spPr>
          <a:xfrm>
            <a:off x="5786280" y="4579920"/>
            <a:ext cx="3124440" cy="2278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WordArt 3"/>
          <p:cNvSpPr txBox="1"/>
          <p:nvPr/>
        </p:nvSpPr>
        <p:spPr>
          <a:xfrm>
            <a:off x="0" y="500040"/>
            <a:ext cx="9144000" cy="36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пения 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мейн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лагополучия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512" name="Object 4"/>
          <p:cNvGraphicFramePr/>
          <p:nvPr/>
        </p:nvGraphicFramePr>
        <p:xfrm>
          <a:off x="1000080" y="4286160"/>
          <a:ext cx="6500880" cy="20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4286160"/>
                    <a:ext cx="650088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4" name="planetadetstva.mid" descr=""/>
          <p:cNvPicPr/>
          <p:nvPr/>
        </p:nvPicPr>
        <p:blipFill>
          <a:blip r:embed="rId4"/>
          <a:stretch/>
        </p:blipFill>
        <p:spPr>
          <a:xfrm>
            <a:off x="4429080" y="3929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49830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16" name="Picture 2" descr="C:\Documents and Settings\lv\Рабочий стол\Агрессия\200025401.jpg"/>
          <p:cNvPicPr/>
          <p:nvPr/>
        </p:nvPicPr>
        <p:blipFill>
          <a:blip r:embed="rId2"/>
          <a:stretch/>
        </p:blipFill>
        <p:spPr>
          <a:xfrm>
            <a:off x="2901960" y="1935000"/>
            <a:ext cx="3340080" cy="4389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people069"/>
          <p:cNvPicPr/>
          <p:nvPr/>
        </p:nvPicPr>
        <p:blipFill>
          <a:blip r:embed="rId2"/>
          <a:stretch/>
        </p:blipFill>
        <p:spPr>
          <a:xfrm>
            <a:off x="900000" y="189000"/>
            <a:ext cx="7489800" cy="52434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"/>
          <p:cNvSpPr/>
          <p:nvPr/>
        </p:nvSpPr>
        <p:spPr>
          <a:xfrm>
            <a:off x="684360" y="5877000"/>
            <a:ext cx="81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Georgia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«Признаки возрастного кризиса7 лет»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        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Неприятным для родителей кризисным проявлением разделения внешней и внутренней жизни детей часто становятся кривляние, манерность, неестественность поведения, склонность к капризам и конфликтность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300720" y="4941720"/>
            <a:ext cx="158616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Общие выводы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         </a:t>
            </a: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 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Все эти внешние особенности начинают исчезать, когда первоклассник выходит из кризиса и вступает непосредственно в младший школьный возраст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Picture 7" descr="CHILD5"/>
          <p:cNvPicPr/>
          <p:nvPr/>
        </p:nvPicPr>
        <p:blipFill>
          <a:blip r:embed="rId2"/>
          <a:stretch/>
        </p:blipFill>
        <p:spPr>
          <a:xfrm>
            <a:off x="0" y="189000"/>
            <a:ext cx="212400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0000"/>
                </a:solidFill>
                <a:latin typeface="Calibri"/>
              </a:rPr>
              <a:t>Возрастные особенно­сти первоклассников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onstantia"/>
              </a:rPr>
              <a:t>2,5 - 4 года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- "Я сам" - игра с предметами (кубики, мячики). </a:t>
            </a: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onstantia"/>
              </a:rPr>
              <a:t>5-6 лет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- "Я - пилот" - ролевая игра. </a:t>
            </a: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onstantia"/>
              </a:rPr>
              <a:t>6-7 лет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- "Я - ученик, я - школьник" - учебная деятельность.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00"/>
                </a:solidFill>
                <a:latin typeface="Georgia"/>
              </a:rPr>
              <a:t>Главная причина </a:t>
            </a:r>
            <a:r>
              <a:rPr b="1" lang="en-US" sz="5000" spc="-1" strike="noStrike">
                <a:solidFill>
                  <a:srgbClr val="990000"/>
                </a:solidFill>
                <a:latin typeface="Calibri"/>
              </a:rPr>
              <a:t>–</a:t>
            </a:r>
            <a:r>
              <a:rPr b="1" lang="en-US" sz="5000" spc="-1" strike="noStrike">
                <a:solidFill>
                  <a:srgbClr val="990000"/>
                </a:solidFill>
                <a:latin typeface="Georgia"/>
              </a:rPr>
              <a:t> смена деятельности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44" name="Picture 3" descr="class49f2ce813dc8a"/>
          <p:cNvPicPr/>
          <p:nvPr/>
        </p:nvPicPr>
        <p:blipFill>
          <a:blip r:embed="rId2"/>
          <a:stretch/>
        </p:blipFill>
        <p:spPr>
          <a:xfrm>
            <a:off x="1476360" y="1989000"/>
            <a:ext cx="647712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5:26:32Z</dcterms:created>
  <dc:creator>Наташа</dc:creator>
  <dc:description/>
  <dc:language>en-US</dc:language>
  <cp:lastModifiedBy>Admin</cp:lastModifiedBy>
  <dcterms:modified xsi:type="dcterms:W3CDTF">2011-12-16T17:50:53Z</dcterms:modified>
  <cp:revision>88</cp:revision>
  <dc:subject/>
  <dc:title>Слайд 1</dc:title>
</cp:coreProperties>
</file>