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17.gif" ContentType="image/gif"/>
  <Override PartName="/ppt/media/image3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301-907C-4A81-90AE-04AD8854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A61-AFC4-4DB4-9CC5-2E1B384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9DDA1-AAEB-4CEC-A47A-5C52394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FF9E3-4575-4D12-A96A-764A44B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709F-FCA9-49AA-B864-55B7DDB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9F5A2-D3A1-4855-BBD1-F27F254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53D7-7BCF-4F63-8C82-E4C2E0A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330D6-4399-4E45-8B4B-97A1707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7CA9F-30DE-4C99-AA37-C6350DF4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9B1D3-C3C8-4AB1-A007-52585B78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D533-AEA5-4A6E-B1CC-87DEBA5B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355-9051-45C7-A365-9E838ECF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4CD-FADB-411D-9DC0-16CB0C59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7898-F194-47E2-85AE-514AC80D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61FA-E574-4AC7-8407-AA610A5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D70-662D-4B76-94C2-82511851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A64-3DBC-4F2E-9C5B-BE25B7DA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E1B7-7FCE-45FF-A6EA-E95CE3D0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F0E2-39BF-49A8-AEAB-8C77B067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D60-27D0-463D-BD3F-207E256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149-EDC4-4DE7-8F06-FFA18CF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F43-DC27-4FAA-9EEC-38964F03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5B90-E770-48B3-8902-2F44937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95CD-357B-4E31-9F21-7748ED9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1C2-E93D-469B-B69E-DE1BBCEE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646A-B0D4-4050-8495-3AA28FA0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E8F7-2E1A-4FB2-B8BD-DE95A5D6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561F-9E1F-4FD7-9F99-E498D275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555A-7E4B-4C14-A47D-A773AAB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0225-451D-4047-B434-A9F4E08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11F2-2D79-4725-B7FF-410C37A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8C7-A067-4835-8D02-0561BECC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ED6D-64E7-4264-BBAB-793C5050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5B66-E4BA-4F0C-8A93-6970135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40B2-3656-4A8B-A4C3-54919F3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5C8B-D204-4E88-A0BD-687A359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CB16-D71C-481E-B497-0F12CBE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D567-CD3B-400C-A4D0-95966C3B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8C02-B6CA-4738-8456-FEFBB0DC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0045-A018-441B-838B-CC4E2EC5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8C94-E134-4161-97D3-51125A7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1F8C-6EA6-4099-AFE2-7CCA9EC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88B-8D20-4AC5-9ACB-074BEA8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0980-CC4A-498F-A13D-3033E64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EC2D-644F-4FF4-9AEE-EE2A06C8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0822-2F0F-473D-9079-D4A70E3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EFE7-8E20-4160-8C29-06B0332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A7E3-DB23-4DAA-95EF-E3F24A3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467D-BEE3-4464-84A0-2651804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387D-9899-4A9B-856B-B8B910D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A835-844C-48B3-AC47-090D23A9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CB2C-6A73-4106-85B8-582383C9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68F7A-4E69-44CF-AFD9-B5CE3906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05F-BE19-459E-8BDB-479B209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F2546-E34F-4775-BF5E-0F64399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6E71C-565B-404F-80A1-B725E8B8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9C9D-6BB4-4907-A25B-2A17F2B3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6D14-ED8D-45B7-B156-CBF8FB82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8D84-48F3-484E-BD9D-F4037463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6E41-598A-4EE4-9CF3-714C826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1474-E6E8-4412-B118-B36B3973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1080-CDCC-47F4-B434-B417FB4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E843-00C1-4B18-9A9F-AB3810B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F12A-1EEF-4F76-A52F-C09F878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E3C-8C81-4231-AEBE-57DC170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1D13-6BA1-4C9A-B5B8-6F7E89D6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D8EC-5737-4116-9B0B-2959221B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3F00-EA3C-4563-ACE1-7618062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1525-93E1-4A04-B2BF-4C052368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2D53-CD35-4CDB-AEAB-C9EC0E3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ECBB-C468-419E-90EA-895644BD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EA3D-40B0-4C31-B28E-EC574B1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32AE-9159-4305-9E02-EF1545A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F051-F269-444A-BB56-2B76FE3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CD4B-02EB-45F6-A13C-9960F7D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3E4-1CE2-4E03-8F9D-F4386EA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8BCEA-96DD-477D-BEDE-387A344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151B-A164-4DA2-825A-91869D2D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FBB11-D209-4EC1-8410-E0FA235A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1062-EC1D-4F47-BC52-0C8D07DD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12261-4A6C-47F0-B6AC-B012E1D9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4868-467E-4881-A4E9-61D0E63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1A88-A6D4-4A61-A563-DC4E3B1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3ED8-4E7E-4E36-8C63-905586D7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13D0-471B-437C-B2D6-74DF01C9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06FD-5398-4849-9919-742916F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68C-FCB7-463D-AB04-C48DE83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AF8B-93AD-43EF-A84A-6807D41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46A1-0E95-4DFC-B68F-F43349F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5A46-DCA1-4098-B67E-6E9D582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A29A-6365-4314-BD01-C39758E9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4D8DA-40D4-402C-B070-8CA85B1D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38A10-BA15-4B97-862B-3F2070D4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6D74-7C16-4185-8467-20B08BED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D633-D3B9-4E8B-91E1-A6788293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3D80-40C4-415B-A649-25BD092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76AE6-14A2-441D-AF71-44FF394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540-D85C-46CB-9A78-754BBCD0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889B-3814-47EB-9F03-4D20B3E6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4E123-AF7E-4A2F-B9B1-A42CC45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6E76-D2F5-4C50-B003-3EEFC5CB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6A72-AC64-4CE6-8C79-B65B42A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3331-F72A-49C6-AB2B-9584D020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2B3F5-CFB9-44A6-BDF8-D4B8FD43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FBB75-F02C-4513-B537-CB04C197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C445-0354-4089-86FB-13FD8190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A0CD1-D36A-4CCC-9492-7660203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8EC27-97AF-41E4-ACBF-C1A10CB7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8DD-FF7E-468F-BDC7-B2F9753F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D93-40C9-49C1-ABEC-D2CDBEFF31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DB4-C04D-4DD5-B6E4-071127928D2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d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ac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ac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CCE-356A-4DD0-B617-A994B0686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d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ac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ac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bf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b2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b8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4a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6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1cc00"/>
                    </a:gs>
                    <a:gs pos="100000">
                      <a:srgbClr val="918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8d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E69A-C6AD-4327-9A38-DD6336CB07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847-A561-478B-AFF2-C0868DBD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D130-7899-4353-BA6C-6CE9C11B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3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4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2C1-8484-4C1B-AAE3-A6332D4E7B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1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1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2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AF9-96D6-4B8A-887D-27FC7D2F4B2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Урок английского языка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в 6 классе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Тема: «Здоровье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Учител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Ковалевская Алла Сергеев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998" fill="hold"/>
                                        <p:tgtEl>
                                          <p:spTgt spid="7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2627280" y="0"/>
          <a:ext cx="3610080" cy="6857640"/>
        </p:xfrm>
        <a:graphic>
          <a:graphicData uri="http://schemas.openxmlformats.org/drawingml/2006/table">
            <a:tbl>
              <a:tblPr/>
              <a:tblGrid>
                <a:gridCol w="3002040"/>
                <a:gridCol w="608040"/>
              </a:tblGrid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mperat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ad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ught a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omach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Keep w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rink 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lay 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Gar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On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eaa00"/>
                          </a:solidFill>
                          <a:latin typeface="Georgia"/>
                        </a:rPr>
                        <a:t>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Watch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71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468360" y="0"/>
          <a:ext cx="3610080" cy="6857640"/>
        </p:xfrm>
        <a:graphic>
          <a:graphicData uri="http://schemas.openxmlformats.org/drawingml/2006/table">
            <a:tbl>
              <a:tblPr/>
              <a:tblGrid>
                <a:gridCol w="3002040"/>
                <a:gridCol w="608040"/>
              </a:tblGrid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ght a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mach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w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ink 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On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Watch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4" name=""/>
          <p:cNvGraphicFramePr/>
          <p:nvPr/>
        </p:nvGraphicFramePr>
        <p:xfrm>
          <a:off x="4716360" y="0"/>
          <a:ext cx="3595680" cy="6857640"/>
        </p:xfrm>
        <a:graphic>
          <a:graphicData uri="http://schemas.openxmlformats.org/drawingml/2006/table">
            <a:tbl>
              <a:tblPr/>
              <a:tblGrid>
                <a:gridCol w="3001680"/>
                <a:gridCol w="594000"/>
              </a:tblGrid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ght a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mach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w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ink 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ch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a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Heada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ght a col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619280" y="1844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619280" y="1844640"/>
            <a:ext cx="2592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619280" y="1844640"/>
            <a:ext cx="2521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19280" y="1844640"/>
            <a:ext cx="2448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19280" y="1844640"/>
            <a:ext cx="259236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19280" y="1844640"/>
            <a:ext cx="266544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357800" y="1700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y in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85440" y="21319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ep 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12360" y="27082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nk herbal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12360" y="35719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th 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57440" y="4292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59280" y="42926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r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29080" y="522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34160" y="52275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Comic Sans MS"/>
              </a:rPr>
              <a:t>Writ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healthy</a:t>
            </a:r>
            <a:r>
              <a:rPr b="1" i="1" lang="en-US" sz="3600" spc="-1" strike="noStrike">
                <a:solidFill>
                  <a:srgbClr val="ff66ff"/>
                </a:solidFill>
                <a:latin typeface="Comic Sans MS"/>
              </a:rPr>
              <a:t> and </a:t>
            </a:r>
            <a:br>
              <a:rPr sz="3600"/>
            </a:b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unhealthy</a:t>
            </a:r>
            <a:r>
              <a:rPr b="1" i="1" lang="en-US" sz="3600" spc="-1" strike="noStrike">
                <a:solidFill>
                  <a:srgbClr val="ff66ff"/>
                </a:solidFill>
                <a:latin typeface="Comic Sans MS"/>
              </a:rPr>
              <a:t> 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                            Un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rcRect l="23214" t="16137" r="0" b="36810"/>
          <a:stretch/>
        </p:blipFill>
        <p:spPr>
          <a:xfrm>
            <a:off x="0" y="1628640"/>
            <a:ext cx="5435640" cy="49690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rcRect l="0" t="5828" r="55933" b="42709"/>
          <a:stretch/>
        </p:blipFill>
        <p:spPr>
          <a:xfrm>
            <a:off x="5364000" y="189000"/>
            <a:ext cx="34880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hould  /should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 eat vegetables and fr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 drink hot milk and ho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  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eat unfresh f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 ________sleep 8 hours a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 get wet in rainy we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.   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do morning exerci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.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_ walk too much in cold we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8.    You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drink cold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.   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_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air the ro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.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_ consult a doctor every 3 mon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1.  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_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drink much coff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2.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_ eat a lot of sweets (sal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3.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 _________ watch TV too mu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at vegetables and fru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ink hot milk and h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  You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2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eat unfresh f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.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eep 8 hours a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t wet in rainy wea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.  You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do morning exerci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 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k too much in cold wea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8.  You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drink cold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.  You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air the 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0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sult a doctor every 3 mont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1. You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2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drink much coff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2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t a lot of sweets (sal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3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2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 TV too mu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Verdana"/>
              </a:rPr>
              <a:t>DO EXERCIS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rcRect l="21157" t="0" r="17029" b="3639"/>
          <a:stretch/>
        </p:blipFill>
        <p:spPr>
          <a:xfrm>
            <a:off x="1058760" y="2174760"/>
            <a:ext cx="2765520" cy="342288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5902200" y="731880"/>
            <a:ext cx="32418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Verdana"/>
              </a:rPr>
              <a:t>Write the words in the present perfec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rcRect l="60574" t="13978" r="6026" b="74258"/>
          <a:stretch/>
        </p:blipFill>
        <p:spPr>
          <a:xfrm>
            <a:off x="0" y="200988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ake up your dialogu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76"/>
              </a:spcBef>
              <a:buClr>
                <a:srgbClr val="6666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990000"/>
                </a:solidFill>
                <a:latin typeface="Verdana"/>
              </a:rPr>
              <a:t>You ate a lot of sweets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1176"/>
              </a:spcBef>
              <a:buClr>
                <a:srgbClr val="6666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990000"/>
                </a:solidFill>
                <a:latin typeface="Verdana"/>
              </a:rPr>
              <a:t>You caught a cold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1176"/>
              </a:spcBef>
              <a:buClr>
                <a:srgbClr val="6666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990000"/>
                </a:solidFill>
                <a:latin typeface="Verdana"/>
              </a:rPr>
              <a:t>You hurt your arm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aughter is the best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 apple a day keeps the doctor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1128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мех лучшее лек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блоко в день сжуешь ,без доктора прожив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cc"/>
                </a:solidFill>
                <a:latin typeface="Comic Sans MS"/>
              </a:rPr>
              <a:t>Make up jokes. Read and translate them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rcRect l="10560" t="14457" r="8805" b="53717"/>
          <a:stretch/>
        </p:blipFill>
        <p:spPr>
          <a:xfrm>
            <a:off x="0" y="170028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2"/>
          <a:srcRect l="42427" t="14926" r="8513" b="42567"/>
          <a:stretch/>
        </p:blipFill>
        <p:spPr>
          <a:xfrm>
            <a:off x="1736640" y="0"/>
            <a:ext cx="5283360" cy="68580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9453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84360" y="4578480"/>
            <a:ext cx="1439640" cy="14382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755640" y="2563920"/>
            <a:ext cx="1512720" cy="13078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1871640" cy="12495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677320" y="7858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nice work ,excel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50040" y="294480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work, but wee could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986920" y="51562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like 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It was pleasant to meet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68770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316881" fill="hold"/>
                                        <p:tgtEl>
                                          <p:spTgt spid="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9528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66"/>
                </a:solidFill>
                <a:latin typeface="바탕"/>
              </a:rPr>
              <a:t>HEALTH</a:t>
            </a:r>
            <a:br>
              <a:rPr sz="9600"/>
            </a:br>
            <a:r>
              <a:rPr b="1" i="1" lang="en-US" sz="7200" spc="-1" strike="noStrike">
                <a:solidFill>
                  <a:srgbClr val="bbe0e3"/>
                </a:solidFill>
                <a:latin typeface="바탕"/>
              </a:rPr>
              <a:t>Healthy adv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9" name=""/>
          <p:cNvGraphicFramePr/>
          <p:nvPr/>
        </p:nvGraphicFramePr>
        <p:xfrm>
          <a:off x="0" y="1700280"/>
          <a:ext cx="9036000" cy="288108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1079280"/>
                <a:gridCol w="1224000"/>
                <a:gridCol w="1728720"/>
                <a:gridCol w="1249560"/>
                <a:gridCol w="1306440"/>
              </a:tblGrid>
              <a:tr h="7632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Healt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Здоровая п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houl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Со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os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Плак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pe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Защ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Ито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d9a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Tas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earn 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ive advice( should ,shouldn’t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o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ke post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268360" y="189000"/>
          <a:ext cx="4038480" cy="6192360"/>
        </p:xfrm>
        <a:graphic>
          <a:graphicData uri="http://schemas.openxmlformats.org/drawingml/2006/table">
            <a:tbl>
              <a:tblPr/>
              <a:tblGrid>
                <a:gridCol w="3039840"/>
                <a:gridCol w="99864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re thr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ada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l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t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ake tab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324000" y="260280"/>
          <a:ext cx="4038480" cy="6192720"/>
        </p:xfrm>
        <a:graphic>
          <a:graphicData uri="http://schemas.openxmlformats.org/drawingml/2006/table">
            <a:tbl>
              <a:tblPr/>
              <a:tblGrid>
                <a:gridCol w="3039120"/>
                <a:gridCol w="99936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e thr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a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 tab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4648320" y="260280"/>
          <a:ext cx="4038480" cy="6192720"/>
        </p:xfrm>
        <a:graphic>
          <a:graphicData uri="http://schemas.openxmlformats.org/drawingml/2006/table">
            <a:tbl>
              <a:tblPr/>
              <a:tblGrid>
                <a:gridCol w="3039840"/>
                <a:gridCol w="99864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e thr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bal 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a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in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 tab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 with le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re throat</a:t>
            </a:r>
            <a:br>
              <a:rPr sz="4400"/>
            </a:b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050920" y="1844640"/>
            <a:ext cx="216072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050920" y="1844640"/>
            <a:ext cx="2016360" cy="7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50920" y="1844640"/>
            <a:ext cx="1944720" cy="180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050920" y="1844640"/>
            <a:ext cx="2089440" cy="3097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285440" y="1843200"/>
            <a:ext cx="23493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rink herbal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42160" y="2419200"/>
            <a:ext cx="1492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t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97440" y="3427560"/>
            <a:ext cx="1637640" cy="459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y in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12720" y="4795920"/>
            <a:ext cx="2129760" cy="459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rink hot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068000" y="5443560"/>
            <a:ext cx="1782360" cy="459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tab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050920" y="1844640"/>
            <a:ext cx="2016360" cy="3745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9:06:28Z</dcterms:created>
  <dc:creator>Алла</dc:creator>
  <dc:description/>
  <dc:language>en-US</dc:language>
  <cp:lastModifiedBy>Андрей</cp:lastModifiedBy>
  <dcterms:modified xsi:type="dcterms:W3CDTF">2010-03-18T09:41:09Z</dcterms:modified>
  <cp:revision>23</cp:revision>
  <dc:subject/>
  <dc:title>Урок английского языка в 6 классе Тема: «Здоровье»</dc:title>
</cp:coreProperties>
</file>