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28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630-CE50-4EF5-B920-B4C0D6BF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722-646A-4190-A8C7-FDF7D3D3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EB9B0-682B-42CC-A5BC-FA6F4D15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FAD18-18FE-4853-9DFD-2829FCE1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325F4-9F08-455A-8EE7-9E3F3D75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FF5C2-5085-4C27-8E07-63068CD4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40B37-39FD-4E8D-8756-FD9493D2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60E7C-46E7-4B24-A35F-2D555403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F6999-2752-42F2-86F0-6263EA01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94F45-449A-490F-BFE5-FAE2BC05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5F757-351B-4570-A6F0-EBBC3704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453-50F6-485A-BE71-5710D0E5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352-B2B5-48A2-9DC5-3D8B5782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7222-1B1F-42F9-8894-ACF101C5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CECD-B03E-47BC-AEA1-CA76A521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D342-2741-416C-989A-2D3B8DC1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8DA6-CB15-41F9-B8A8-46FBF2B6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2180-952B-4224-9227-20395C94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C6AC-EDDD-4339-B800-33ACC96A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CF35-C396-43EE-B6F2-687191CA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554-909B-41AC-BE14-98B71024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833C-1954-4FEF-A654-A0781BE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CCE6-20F5-4FEA-B330-DDB35083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0DF7-B130-4373-ABB0-54F22F4C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A08B-7821-446B-BF1C-F3373C47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AF6F-D155-435D-8DFD-BBAAD6FD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3369D-4A0C-42D4-A0D6-361C961B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5C308-5957-43EF-8501-DEBE7BCD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80345-A92B-4F8D-8281-1375A9E4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BE6F1-8CA4-4AB7-A4B1-A6FFA1B2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517F5-23BA-439D-A5F1-848B1CF8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B84-5D80-42AC-8302-E9D1FC9B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3A4CF-DABC-4A13-A455-A167B7E4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5713F-C6A8-4E53-9A2C-F2A153F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14C38-E8F7-4302-9DB8-6486D1E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D8EB6-0E2A-4ED8-8C98-908B6B9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6FEEB-6BA6-49C9-8FD0-1BD631C2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A2EED-726D-44EC-B97E-7D52EBCA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21760-78BC-4E43-B999-53C84BE6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A1F0-EB5F-4A3E-B624-78941848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FC4B8-8EEE-4275-B420-43D70DD2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75DD6-C143-494F-A638-95D56855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3DD-7EF3-4341-9C61-BA297053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6C000-F0D4-41AD-B955-0CA64F03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23AB-CDA7-445D-804A-7C1B33F9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6687-1CC6-40E2-A2D6-3609932E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D2FC0-C49E-4488-8751-C1206E0C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A6B62-3F5A-481E-B748-3DAEA77A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7D6D-962B-4D05-9A0E-A616A82A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8397F-416A-4908-A4C6-F66D04F9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A107-3159-472B-8C84-0766A6D3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194CF-5BB8-4473-B70F-89DD227E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C0218-8627-4D29-82F3-D1F1E121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9DB-8F7D-43AA-954C-E758FBBF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6C118-097A-4C4F-B63C-6E77B6C8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E0E4F-F411-4F3F-9413-2262B5AA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D99E0-A01D-4B89-AD89-1B80C6A2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EDA79-33A9-4F3C-933C-47DEA1D0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FA71C-9305-4A14-A3DC-3F87873C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71217-ADE7-450E-B9A7-A3B91DB1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15703-0D40-495D-8509-402EE3DD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2FC28-3B7B-4D81-BDA0-95AA4488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A022D-EA7D-4CF7-82BF-9C86D53A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4883F-E8C1-4155-8CC1-6C09EE86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1EF-06E0-4F68-934C-39FFD943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4E836-0C36-410F-B5FD-A183C23B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032B4-AD75-4796-A2B2-3EDDAB38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63B6A-964A-4985-86E1-8DCD6148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A14F0-AB8E-477E-988F-E4867F6E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4B86F-54A5-4D47-A954-2515CBE6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8AFE0-85AC-400E-80A9-0DF705E7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17DAFB-E3BB-415D-B9BC-07F9DB4F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FD0D7-2773-47AA-BB12-CBE6F94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DED09-7E39-4E5C-99D1-2E04DAFC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91F15-7B26-4568-804D-D7FC228B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F64-9391-4995-9C05-B1B1645C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63469-9C0C-4784-B113-A499816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4C323-9A45-408B-94FF-02FC8721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BBB6A-CBAE-4FC9-A308-3CF2472F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BCFEB-E173-4170-A618-2A0202C3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C0062-8438-450C-BF79-37301D4C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A8748-CCB9-4933-829D-95F356BC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AB3D65-7A98-48C4-96E6-B079B5E4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DA7966-D119-421C-8ECD-BE3E62EF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3C3690-7652-463D-83BB-05211ABF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CE750-9FC3-485F-99B4-F5E240C9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3A2-0D92-4328-ABE6-728BFA2C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9045A-9F82-46DE-9FD6-F79D3264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7CAD8E-F43D-4D7F-AA53-3A45E0F0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D4D55-E2E5-497C-8D6B-72973BD5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AC1369-0BD2-43F1-8D0B-07E6D5E1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ED14D-479F-4A93-BF0B-A8A37FFB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98079-1431-4E05-8BF7-59CBBA82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CCEEF-CC14-454C-AA2D-209A6E16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4435A-DD80-43FC-95F5-EC8AE9E6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72591-CA3D-4B1F-A09D-A8E713CB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18E7D-0D58-412A-8B57-0C7ECE05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A09-E245-4D28-A9B7-F1C9BA24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C34DD-E48D-4D3C-93CC-FACC3A80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DFFF4-C93A-4198-895F-72FF538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F10F4-849E-4DBE-9F67-84A22974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592DC-8D84-40A1-8788-10251666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DDE1D-416B-4AC9-AE1D-D5F1B5F0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D8D08-7481-4696-B5C2-7C204C01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5B931-D687-4319-8B34-1B291B74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C8A5A-86D9-4AA3-AD7A-AB46149F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63D2A-2A1A-4E66-B79A-F0660E4D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0696C-4520-4D09-BE4B-65992B25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62A0-373C-43EA-92AA-B88249845D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6CF7-7769-4651-8EC9-F8000C28B7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356F-F2AA-4689-8664-D4ECE6422F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A2F8-1146-43F4-B446-C4EF757E1B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EA15-A6E3-4075-A019-0674C398C2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B34B-37AA-44E4-B13C-D308BD2B8A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939C-D5A9-47E2-8CA0-4C0AAF7850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902B-4F71-4AB3-AB1A-43D81DB8B4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84AC-0300-4802-85EF-CAB2D910D9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33cc33"/>
                </a:solidFill>
                <a:latin typeface="Times New Roman"/>
              </a:rPr>
              <a:t>АЗБУКА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2499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В</a:t>
            </a:r>
            <a:r>
              <a:rPr b="1" lang="ru-RU" sz="1800" spc="-1" strike="noStrike">
                <a:solidFill>
                  <a:srgbClr val="ff3300"/>
                </a:solidFill>
                <a:latin typeface="Monotype Corsiva"/>
              </a:rPr>
              <a:t>  </a:t>
            </a: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СТИХАХ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Picture 4" descr="j0088542"/>
          <p:cNvPicPr/>
          <p:nvPr/>
        </p:nvPicPr>
        <p:blipFill>
          <a:blip r:embed="rId1"/>
          <a:stretch/>
        </p:blipFill>
        <p:spPr>
          <a:xfrm>
            <a:off x="4583160" y="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j0088542"/>
          <p:cNvPicPr/>
          <p:nvPr/>
        </p:nvPicPr>
        <p:blipFill>
          <a:blip r:embed="rId2"/>
          <a:stretch/>
        </p:blipFill>
        <p:spPr>
          <a:xfrm>
            <a:off x="0" y="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j0088542"/>
          <p:cNvPicPr/>
          <p:nvPr/>
        </p:nvPicPr>
        <p:blipFill>
          <a:blip r:embed="rId3"/>
          <a:stretch/>
        </p:blipFill>
        <p:spPr>
          <a:xfrm>
            <a:off x="0" y="6281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j0088542"/>
          <p:cNvPicPr/>
          <p:nvPr/>
        </p:nvPicPr>
        <p:blipFill>
          <a:blip r:embed="rId4"/>
          <a:stretch/>
        </p:blipFill>
        <p:spPr>
          <a:xfrm>
            <a:off x="4583160" y="6281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j0088542"/>
          <p:cNvPicPr/>
          <p:nvPr/>
        </p:nvPicPr>
        <p:blipFill>
          <a:blip r:embed="rId5"/>
          <a:stretch/>
        </p:blipFill>
        <p:spPr>
          <a:xfrm rot="16200000">
            <a:off x="657540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j0088542"/>
          <p:cNvPicPr/>
          <p:nvPr/>
        </p:nvPicPr>
        <p:blipFill>
          <a:blip r:embed="rId6"/>
          <a:srcRect l="24230" t="0" r="0" b="0"/>
          <a:stretch/>
        </p:blipFill>
        <p:spPr>
          <a:xfrm rot="16200000">
            <a:off x="7451640" y="4544640"/>
            <a:ext cx="2808360" cy="5763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j0088542"/>
          <p:cNvPicPr/>
          <p:nvPr/>
        </p:nvPicPr>
        <p:blipFill>
          <a:blip r:embed="rId7"/>
          <a:stretch/>
        </p:blipFill>
        <p:spPr>
          <a:xfrm rot="16200000">
            <a:off x="-1991880" y="25412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j0088542"/>
          <p:cNvPicPr/>
          <p:nvPr/>
        </p:nvPicPr>
        <p:blipFill>
          <a:blip r:embed="rId8"/>
          <a:srcRect l="11037" t="0" r="23251" b="0"/>
          <a:stretch/>
        </p:blipFill>
        <p:spPr>
          <a:xfrm rot="16200000">
            <a:off x="-1210320" y="5070960"/>
            <a:ext cx="2997360" cy="57636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3"/>
          <p:cNvSpPr/>
          <p:nvPr/>
        </p:nvSpPr>
        <p:spPr>
          <a:xfrm>
            <a:off x="5366160" y="535788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Приходько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МОУ «СОШ №8 г.Выбор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3300"/>
                </a:solidFill>
                <a:latin typeface="Antiqua HW"/>
              </a:rPr>
              <a:t>З З</a:t>
            </a:r>
            <a:endParaRPr b="0" lang="en-US" sz="1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7" name="Picture 9" descr="заяц"/>
          <p:cNvPicPr/>
          <p:nvPr/>
        </p:nvPicPr>
        <p:blipFill>
          <a:blip r:embed="rId1"/>
          <a:stretch/>
        </p:blipFill>
        <p:spPr>
          <a:xfrm>
            <a:off x="785880" y="1635120"/>
            <a:ext cx="3290760" cy="49370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Этот серенький грызун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     – 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Вислоухий топотун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От беды в кустах скрываясь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Задремал трусишка ... (цяаЗ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9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3300"/>
                </a:solidFill>
                <a:latin typeface="Antiqua HW"/>
              </a:rPr>
              <a:t>И Й</a:t>
            </a:r>
            <a:endParaRPr b="0" lang="en-US" sz="1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02" name="Picture 6" descr="индейка"/>
          <p:cNvPicPr/>
          <p:nvPr/>
        </p:nvPicPr>
        <p:blipFill>
          <a:blip r:embed="rId1"/>
          <a:stretch/>
        </p:blipFill>
        <p:spPr>
          <a:xfrm>
            <a:off x="611280" y="1700280"/>
            <a:ext cx="3770280" cy="37702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     </a:t>
            </a:r>
            <a:r>
              <a:rPr b="0" lang="ru-RU" sz="2500" spc="-1" strike="noStrike">
                <a:solidFill>
                  <a:srgbClr val="7598d9"/>
                </a:solidFill>
                <a:latin typeface="Monotype Corsiva"/>
              </a:rPr>
              <a:t>Грозен сей пернатый друг, Называемый ... (кюднИ)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598d9"/>
                </a:solidFill>
                <a:latin typeface="Monotype Corsiva"/>
              </a:rPr>
              <a:t>      </a:t>
            </a:r>
            <a:r>
              <a:rPr b="0" lang="ru-RU" sz="2500" spc="-1" strike="noStrike">
                <a:solidFill>
                  <a:srgbClr val="7598d9"/>
                </a:solidFill>
                <a:latin typeface="Monotype Corsiva"/>
              </a:rPr>
              <a:t>С ним подруга-голошейка,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598d9"/>
                </a:solidFill>
                <a:latin typeface="Monotype Corsiva"/>
              </a:rPr>
              <a:t>      </a:t>
            </a:r>
            <a:r>
              <a:rPr b="0" lang="ru-RU" sz="2500" spc="-1" strike="noStrike">
                <a:solidFill>
                  <a:srgbClr val="7598d9"/>
                </a:solidFill>
                <a:latin typeface="Monotype Corsiva"/>
              </a:rPr>
              <a:t>А зовут её ... (акЙеднИ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4" name="Picture 7" descr="индюк"/>
          <p:cNvPicPr/>
          <p:nvPr/>
        </p:nvPicPr>
        <p:blipFill>
          <a:blip r:embed="rId2"/>
          <a:stretch/>
        </p:blipFill>
        <p:spPr>
          <a:xfrm>
            <a:off x="4932360" y="364500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j0088542"/>
          <p:cNvPicPr/>
          <p:nvPr/>
        </p:nvPicPr>
        <p:blipFill>
          <a:blip r:embed="rId4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800" spc="-1" strike="noStrike">
                <a:solidFill>
                  <a:srgbClr val="ff3300"/>
                </a:solidFill>
                <a:latin typeface="Antiqua HW"/>
              </a:rPr>
              <a:t>К К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08" name="Picture 7" descr="кабан"/>
          <p:cNvPicPr/>
          <p:nvPr/>
        </p:nvPicPr>
        <p:blipFill>
          <a:blip r:embed="rId1"/>
          <a:stretch/>
        </p:blipFill>
        <p:spPr>
          <a:xfrm>
            <a:off x="576360" y="1600200"/>
            <a:ext cx="3419280" cy="4572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Все иметь всегда хотят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Полосатых поросят. Забывая, что потом Каждый станет ... (монабаК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0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800" spc="-1" strike="noStrike">
                <a:solidFill>
                  <a:srgbClr val="ff3300"/>
                </a:solidFill>
                <a:latin typeface="Antiqua HW"/>
              </a:rPr>
              <a:t>Л Л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3" name="Picture 8" descr="лев"/>
          <p:cNvPicPr/>
          <p:nvPr/>
        </p:nvPicPr>
        <p:blipFill>
          <a:blip r:embed="rId1"/>
          <a:stretch/>
        </p:blipFill>
        <p:spPr>
          <a:xfrm>
            <a:off x="655560" y="1600200"/>
            <a:ext cx="3260880" cy="45720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Грозный рык раздался вдруг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Распугал всех птиц вокруг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Ходит в клетке, озверев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Царь зверей, короче … (веЛ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5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М М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8" name="Picture 6" descr="медведь"/>
          <p:cNvPicPr/>
          <p:nvPr/>
        </p:nvPicPr>
        <p:blipFill>
          <a:blip r:embed="rId1"/>
          <a:stretch/>
        </p:blipFill>
        <p:spPr>
          <a:xfrm>
            <a:off x="541440" y="1600200"/>
            <a:ext cx="3670200" cy="47084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Неуклюжий, косолапый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Он сосёт в берлоге лапу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Кто таков? скорей ответь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Ну, конечно же, ... (ьдевдеМ)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0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800" spc="-1" strike="noStrike">
                <a:solidFill>
                  <a:srgbClr val="ff3300"/>
                </a:solidFill>
                <a:latin typeface="Antiqua HW"/>
              </a:rPr>
              <a:t>Н Н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3" name="Picture 6" descr="носорог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Возле речек и болот Этот тучный зверь живёт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На носу имеет рог Африканский ... (горосоН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5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О О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8" name="Picture 6" descr="олень"/>
          <p:cNvPicPr/>
          <p:nvPr/>
        </p:nvPicPr>
        <p:blipFill>
          <a:blip r:embed="rId1"/>
          <a:stretch/>
        </p:blipFill>
        <p:spPr>
          <a:xfrm>
            <a:off x="1006560" y="1600200"/>
            <a:ext cx="2940120" cy="45259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Он рогат и благороден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И мечтает о свободе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Бьёт копытом целый день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За решеткою ... (ьнелО)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0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П П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33" name="Picture 6" descr="пингвин"/>
          <p:cNvPicPr/>
          <p:nvPr/>
        </p:nvPicPr>
        <p:blipFill>
          <a:blip r:embed="rId1"/>
          <a:stretch/>
        </p:blipFill>
        <p:spPr>
          <a:xfrm>
            <a:off x="395280" y="2133720"/>
            <a:ext cx="4216320" cy="31622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Белый ворот, чёрный фрак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Кто забрёл в наш зоопарк?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Это житель южных льдин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Называемый ... (нивгниП)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5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Р Р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38" name="Picture 6" descr="росомаха"/>
          <p:cNvPicPr/>
          <p:nvPr/>
        </p:nvPicPr>
        <p:blipFill>
          <a:blip r:embed="rId1"/>
          <a:stretch/>
        </p:blipFill>
        <p:spPr>
          <a:xfrm>
            <a:off x="324000" y="2060640"/>
            <a:ext cx="4464000" cy="29304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Кто слывёт сестрой куниц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И кого боятся птицы? Всяк грызун дрожит от страха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Если рядом ... (ахамосоР)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0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С С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3" name="Picture 6" descr="слон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7598d9"/>
                </a:solidFill>
                <a:latin typeface="Monotype Corsiva"/>
              </a:rPr>
              <a:t>Он трубит, как паровоз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7598d9"/>
                </a:solidFill>
                <a:latin typeface="Monotype Corsiva"/>
              </a:rPr>
              <a:t>Между глаз имеет хвос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7598d9"/>
                </a:solidFill>
                <a:latin typeface="Monotype Corsiva"/>
              </a:rPr>
              <a:t>Серый и огромный он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7598d9"/>
                </a:solidFill>
                <a:latin typeface="Monotype Corsiva"/>
              </a:rPr>
              <a:t>Догадались? Это ... (нолС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5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А А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7" name="Picture 12" descr="аист"/>
          <p:cNvPicPr/>
          <p:nvPr/>
        </p:nvPicPr>
        <p:blipFill>
          <a:blip r:embed="rId1"/>
          <a:stretch/>
        </p:blipFill>
        <p:spPr>
          <a:xfrm>
            <a:off x="826920" y="2282760"/>
            <a:ext cx="3240360" cy="32180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Этой белокрылой птице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В зоопарке не сидится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Чтобы люди улыбались,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К ним летит со свёртком ..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                             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(тсиА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9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Т Т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8" name="Picture 7" descr="тигр"/>
          <p:cNvPicPr/>
          <p:nvPr/>
        </p:nvPicPr>
        <p:blipFill>
          <a:blip r:embed="rId1"/>
          <a:stretch/>
        </p:blipFill>
        <p:spPr>
          <a:xfrm>
            <a:off x="968400" y="1600200"/>
            <a:ext cx="3016080" cy="452592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Вот еще гигантский кот - 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Полосатый обормот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С ним водить не стоит игр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Он опасен, этот ... (ргиТ)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0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У У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53" name="Picture 6" descr="утка"/>
          <p:cNvPicPr/>
          <p:nvPr/>
        </p:nvPicPr>
        <p:blipFill>
          <a:blip r:embed="rId1"/>
          <a:stretch/>
        </p:blipFill>
        <p:spPr>
          <a:xfrm>
            <a:off x="571680" y="2060640"/>
            <a:ext cx="4144680" cy="32400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Кря–кря–кря!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Сюда, сюда!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Раздается из пруда. Так зовёт своих малюток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Кряква, по-другому ... (актУ)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5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9800" spc="-1" strike="noStrike">
                <a:solidFill>
                  <a:srgbClr val="ff3300"/>
                </a:solidFill>
                <a:latin typeface="Antiqua HW"/>
              </a:rPr>
              <a:t>Ф Ф</a:t>
            </a:r>
            <a:endParaRPr b="0" lang="en-US" sz="9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58" name="Picture 7" descr="филин"/>
          <p:cNvPicPr/>
          <p:nvPr/>
        </p:nvPicPr>
        <p:blipFill>
          <a:blip r:embed="rId1"/>
          <a:stretch/>
        </p:blipFill>
        <p:spPr>
          <a:xfrm>
            <a:off x="968400" y="1600200"/>
            <a:ext cx="3016080" cy="45259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Мигом спрятались утята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От лесного супостата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Видно, клетку не закрыли –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Улетел на волю ... (нилиФ)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0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Х Х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63" name="Picture 7" descr="хорек"/>
          <p:cNvPicPr/>
          <p:nvPr/>
        </p:nvPicPr>
        <p:blipFill>
          <a:blip r:embed="rId1"/>
          <a:stretch/>
        </p:blipFill>
        <p:spPr>
          <a:xfrm>
            <a:off x="633240" y="1600200"/>
            <a:ext cx="3686400" cy="45259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Словно с шубы воротник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Убежал сей озорник! Этот маленький зверёк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Называется ... (кёроХ)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5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Ц Ц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68" name="Picture 19" descr="цапля"/>
          <p:cNvPicPr/>
          <p:nvPr/>
        </p:nvPicPr>
        <p:blipFill>
          <a:blip r:embed="rId1"/>
          <a:stretch/>
        </p:blipFill>
        <p:spPr>
          <a:xfrm>
            <a:off x="977760" y="1994040"/>
            <a:ext cx="2737080" cy="41320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На пруду стоит двуног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И лягушек ловит много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Страшно с ней шутить, не так ли? Острый клюв у белой ... (илпаЦ)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70" name="Picture 7" descr="цапля"/>
          <p:cNvPicPr/>
          <p:nvPr/>
        </p:nvPicPr>
        <p:blipFill>
          <a:blip r:embed="rId2"/>
          <a:stretch/>
        </p:blipFill>
        <p:spPr>
          <a:xfrm>
            <a:off x="4562640" y="3414600"/>
            <a:ext cx="18720" cy="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0" descr="цапля"/>
          <p:cNvPicPr/>
          <p:nvPr/>
        </p:nvPicPr>
        <p:blipFill>
          <a:blip r:embed="rId3"/>
          <a:stretch/>
        </p:blipFill>
        <p:spPr>
          <a:xfrm>
            <a:off x="4562640" y="3414600"/>
            <a:ext cx="18720" cy="288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0" descr="j0088542"/>
          <p:cNvPicPr/>
          <p:nvPr/>
        </p:nvPicPr>
        <p:blipFill>
          <a:blip r:embed="rId4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j0088542"/>
          <p:cNvPicPr/>
          <p:nvPr/>
        </p:nvPicPr>
        <p:blipFill>
          <a:blip r:embed="rId5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Ч Ч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7" descr="черепаха"/>
          <p:cNvPicPr/>
          <p:nvPr/>
        </p:nvPicPr>
        <p:blipFill>
          <a:blip r:embed="rId1"/>
          <a:stretch/>
        </p:blipFill>
        <p:spPr>
          <a:xfrm>
            <a:off x="250920" y="2357280"/>
            <a:ext cx="4089240" cy="27147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Золотым играет глянцем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Из воды торчащий панцирь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Это что за зверь иль птаха?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Без сомнений, ... (ахапереЧ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77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Ш Ш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80" name="Picture 7" descr="шимпанзе"/>
          <p:cNvPicPr/>
          <p:nvPr/>
        </p:nvPicPr>
        <p:blipFill>
          <a:blip r:embed="rId1"/>
          <a:stretch/>
        </p:blipFill>
        <p:spPr>
          <a:xfrm>
            <a:off x="785880" y="3714840"/>
            <a:ext cx="4073400" cy="272232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Любит сладкое примат –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Человека младший бра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От бананов до безе Обожает ... (езнапмиШ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2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Щ Щ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85" name="Picture 10" descr="щитомордник"/>
          <p:cNvPicPr/>
          <p:nvPr/>
        </p:nvPicPr>
        <p:blipFill>
          <a:blip r:embed="rId1"/>
          <a:stretch/>
        </p:blipFill>
        <p:spPr>
          <a:xfrm>
            <a:off x="395280" y="2390760"/>
            <a:ext cx="3962520" cy="28926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Словно в латах корол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Эта стильная змея. За защитный свой намордни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Был так прозван ... (киндромотиЩ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7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Ы Ь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90" name="Picture 7" descr="рысь"/>
          <p:cNvPicPr/>
          <p:nvPr/>
        </p:nvPicPr>
        <p:blipFill>
          <a:blip r:embed="rId1"/>
          <a:stretch/>
        </p:blipFill>
        <p:spPr>
          <a:xfrm>
            <a:off x="324000" y="2462040"/>
            <a:ext cx="3890880" cy="27115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Чутко спит большая кошк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Уши в кисточках-сережка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Ей не скажешь слово «брысь», Потому что это ... (ЬсЫр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2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Ъ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98d9"/>
                </a:solidFill>
                <a:latin typeface="Monotype Corsiva"/>
              </a:rPr>
              <a:t>Не могу найти никак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98d9"/>
                </a:solidFill>
                <a:latin typeface="Monotype Corsiva"/>
              </a:rPr>
              <a:t>В зоопарке твёрдый знак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98d9"/>
                </a:solidFill>
                <a:latin typeface="Monotype Corsiva"/>
              </a:rPr>
              <a:t>Сих зверей не знаю я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98d9"/>
                </a:solidFill>
                <a:latin typeface="Monotype Corsiva"/>
              </a:rPr>
              <a:t>Помогите мне, друзья!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6" name="Picture 10" descr="j0088542"/>
          <p:cNvPicPr/>
          <p:nvPr/>
        </p:nvPicPr>
        <p:blipFill>
          <a:blip r:embed="rId1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900" spc="-1" strike="noStrike">
                <a:solidFill>
                  <a:srgbClr val="ff3300"/>
                </a:solidFill>
                <a:latin typeface="Antiqua Ho"/>
              </a:rPr>
              <a:t>ББ</a:t>
            </a:r>
            <a:endParaRPr b="0" lang="en-US" sz="10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2" name="Picture 6" descr="бегемогт"/>
          <p:cNvPicPr/>
          <p:nvPr/>
        </p:nvPicPr>
        <p:blipFill>
          <a:blip r:embed="rId1"/>
          <a:stretch/>
        </p:blipFill>
        <p:spPr>
          <a:xfrm>
            <a:off x="571680" y="2357280"/>
            <a:ext cx="4356000" cy="3743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859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Толстокож и неуклю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Этот зверь, любитель луж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Гром гремит, когда идё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Большеротый ... (томегеБ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4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800" spc="-1" strike="noStrike">
                <a:solidFill>
                  <a:srgbClr val="ff3300"/>
                </a:solidFill>
                <a:latin typeface="Antiqua HW"/>
              </a:rPr>
              <a:t>Э Э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99" name="Picture 7" descr="эму"/>
          <p:cNvPicPr/>
          <p:nvPr/>
        </p:nvPicPr>
        <p:blipFill>
          <a:blip r:embed="rId1"/>
          <a:stretch/>
        </p:blipFill>
        <p:spPr>
          <a:xfrm>
            <a:off x="457200" y="2093760"/>
            <a:ext cx="3657600" cy="35848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Он полётам не обучен,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Зато в беге – самый лучший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От любой большой проблем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Убегает страус ... (умЭ)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01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800" spc="-1" strike="noStrike">
                <a:solidFill>
                  <a:srgbClr val="ff3300"/>
                </a:solidFill>
                <a:latin typeface="Antiqua HW"/>
              </a:rPr>
              <a:t>Ю Ю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4" name="Picture 7" descr="юрок"/>
          <p:cNvPicPr/>
          <p:nvPr/>
        </p:nvPicPr>
        <p:blipFill>
          <a:blip r:embed="rId1"/>
          <a:stretch/>
        </p:blipFill>
        <p:spPr>
          <a:xfrm>
            <a:off x="223920" y="2286000"/>
            <a:ext cx="3776760" cy="30463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Голосиста эта птичка,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Хоть и ростом невеличка. Взгромоздившись на шесток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7598d9"/>
                </a:solidFill>
                <a:latin typeface="Monotype Corsiva"/>
              </a:rPr>
              <a:t>Расчирикался ... (корЮ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06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Я Я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9" name="Picture 8" descr="ястреб1"/>
          <p:cNvPicPr/>
          <p:nvPr/>
        </p:nvPicPr>
        <p:blipFill>
          <a:blip r:embed="rId1"/>
          <a:stretch/>
        </p:blipFill>
        <p:spPr>
          <a:xfrm>
            <a:off x="457200" y="1771560"/>
            <a:ext cx="3657600" cy="4229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Хищный нрав у этой птиц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С ней вам лучше не водить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Клюв раскрыл в порыве страст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Кровожадный хищник ... (бертсЯ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11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В В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7" name="Picture 12" descr="ВОЛК1"/>
          <p:cNvPicPr/>
          <p:nvPr/>
        </p:nvPicPr>
        <p:blipFill>
          <a:blip r:embed="rId1"/>
          <a:stretch/>
        </p:blipFill>
        <p:spPr>
          <a:xfrm>
            <a:off x="965160" y="1600200"/>
            <a:ext cx="3022560" cy="45259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Рвом глубоким огорожен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Этот хищник от прохожи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Кто в охоте знает толк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Это страшный серый ... (кл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9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800" spc="-1" strike="noStrike">
                <a:solidFill>
                  <a:srgbClr val="ff3300"/>
                </a:solidFill>
                <a:latin typeface="Antiqua HW"/>
              </a:rPr>
              <a:t>Г Г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2" name="Picture 6" descr="горилла"/>
          <p:cNvPicPr/>
          <p:nvPr/>
        </p:nvPicPr>
        <p:blipFill>
          <a:blip r:embed="rId1"/>
          <a:stretch/>
        </p:blipFill>
        <p:spPr>
          <a:xfrm>
            <a:off x="733320" y="1600200"/>
            <a:ext cx="3486240" cy="45259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Ой, смотрите, человек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А на теле - чёрный ме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Мы ошиблись, смотрит мил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Из кустов на нас ... (аллироГ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4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Д Д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7" name="Picture 11" descr="дикобраз"/>
          <p:cNvPicPr/>
          <p:nvPr/>
        </p:nvPicPr>
        <p:blipFill>
          <a:blip r:embed="rId1"/>
          <a:stretch/>
        </p:blipFill>
        <p:spPr>
          <a:xfrm>
            <a:off x="500040" y="2857680"/>
            <a:ext cx="4176720" cy="35287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Очень длинны, очень колк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У зверька того иголк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Бродит, не смотря на нас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98d9"/>
                </a:solidFill>
                <a:latin typeface="Monotype Corsiva"/>
              </a:rPr>
              <a:t>По вольеру ... (зарбокиД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9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Е Е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2" name="Picture 25" descr="енот"/>
          <p:cNvPicPr/>
          <p:nvPr/>
        </p:nvPicPr>
        <p:blipFill>
          <a:blip r:embed="rId1"/>
          <a:stretch/>
        </p:blipFill>
        <p:spPr>
          <a:xfrm>
            <a:off x="539640" y="2573280"/>
            <a:ext cx="3675240" cy="25542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Кто пушистый у воды Моет сладкие плоды? Прежде, чем отправить в рот, Полоскает их ... (тонЕ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4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Ё Ё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7" name="Picture 7" descr="еж"/>
          <p:cNvPicPr/>
          <p:nvPr/>
        </p:nvPicPr>
        <p:blipFill>
          <a:blip r:embed="rId1"/>
          <a:stretch/>
        </p:blipFill>
        <p:spPr>
          <a:xfrm>
            <a:off x="457200" y="2182680"/>
            <a:ext cx="3971880" cy="29782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Быть колючим не обязан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Дальний родич дикобраза. Посмотрите, ну и что ж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Весь в иголках острых ... (жЁ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9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ff3300"/>
                </a:solidFill>
                <a:latin typeface="Antiqua HW"/>
              </a:rPr>
              <a:t>Ж Ж</a:t>
            </a:r>
            <a:endParaRPr b="0" lang="en-US" sz="10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2" name="Picture 8" descr="жираф"/>
          <p:cNvPicPr/>
          <p:nvPr/>
        </p:nvPicPr>
        <p:blipFill>
          <a:blip r:embed="rId1"/>
          <a:stretch/>
        </p:blipFill>
        <p:spPr>
          <a:xfrm>
            <a:off x="812880" y="1943280"/>
            <a:ext cx="2946240" cy="38862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Самый рослый из зверей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     – </a:t>
            </a: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Африканский длинношей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     – </a:t>
            </a: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Ходит гордо, словно граф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7598d9"/>
                </a:solidFill>
                <a:latin typeface="Monotype Corsiva"/>
              </a:rPr>
              <a:t>Называется ... (фариЖ)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4" name="Picture 10" descr="j0088542"/>
          <p:cNvPicPr/>
          <p:nvPr/>
        </p:nvPicPr>
        <p:blipFill>
          <a:blip r:embed="rId2"/>
          <a:stretch/>
        </p:blipFill>
        <p:spPr>
          <a:xfrm rot="16200000">
            <a:off x="-1991880" y="19918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j0088542"/>
          <p:cNvPicPr/>
          <p:nvPr/>
        </p:nvPicPr>
        <p:blipFill>
          <a:blip r:embed="rId3"/>
          <a:stretch/>
        </p:blipFill>
        <p:spPr>
          <a:xfrm rot="16200000">
            <a:off x="-1991880" y="428904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0:44:39Z</dcterms:created>
  <dc:creator>Наталия</dc:creator>
  <dc:description/>
  <dc:language>en-US</dc:language>
  <cp:lastModifiedBy>FIRST</cp:lastModifiedBy>
  <dcterms:modified xsi:type="dcterms:W3CDTF">2012-01-13T18:08:15Z</dcterms:modified>
  <cp:revision>13</cp:revision>
  <dc:subject/>
  <dc:title>АЗБУКА</dc:title>
</cp:coreProperties>
</file>