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gif" ContentType="image/gif"/>
  <Override PartName="/ppt/media/chimes.wav" ContentType="audio/x-wav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036000" y="0"/>
            <a:ext cx="108000" cy="101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Лазарева Лидия Андреевна, учитель начальных классов, Рижская основная школа «ПАРДАУГАВА», Рига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e-mail: lazareva@pdps.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ТЫ ЗНАЕШЬ ЕДИНИЦЫ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ИЗМЕР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692360" y="2492280"/>
            <a:ext cx="1993680" cy="387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1989000"/>
            <a:ext cx="2259000" cy="372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3280" y="1628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8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2560" y="7635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кг в 1 центне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133720"/>
            <a:ext cx="244980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429000"/>
            <a:ext cx="244980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г в 1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г в половине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25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5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г в 1кг 275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275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27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270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минут в 1 ча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20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60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минут в 1 часе 35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35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95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90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секунд в 1 мину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60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70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80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часов в 2 сутках 18 ча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2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66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32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лет в 1 э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лет в 1 ве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5020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198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м  в 1 к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3429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2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1000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16000" y="1268280"/>
            <a:ext cx="698508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2952720" cy="3743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endshow"/>
          </p:cNvPr>
          <p:cNvSpPr/>
          <p:nvPr/>
        </p:nvSpPr>
        <p:spPr>
          <a:xfrm>
            <a:off x="8317080" y="6453360"/>
            <a:ext cx="684000" cy="459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9236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357336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см в 1 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мм  в 10 с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205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350028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20500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см в 1 д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357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дм в 1 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8000" y="3357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133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дм в 5 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5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3357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500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50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мм в 1м 5с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5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335772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5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50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Сколько кг в 1 тон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3357720"/>
            <a:ext cx="244980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100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2060640"/>
            <a:ext cx="244944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20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1482840" cy="288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1733760" cy="28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9:39:15Z</dcterms:created>
  <dc:creator>L. Lazareva</dc:creator>
  <dc:description/>
  <dc:language>en-US</dc:language>
  <cp:lastModifiedBy>User</cp:lastModifiedBy>
  <dcterms:modified xsi:type="dcterms:W3CDTF">2009-03-29T04:21:48Z</dcterms:modified>
  <cp:revision>19</cp:revision>
  <dc:subject>4 klass</dc:subject>
  <dc:title>Edinici izmerenija</dc:title>
</cp:coreProperties>
</file>