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laser.wav" ContentType="audio/x-wav"/>
  <Override PartName="/ppt/media/image17.png" ContentType="image/png"/>
  <Override PartName="/ppt/media/image14.gif" ContentType="image/gif"/>
  <Override PartName="/ppt/media/image16.png" ContentType="image/png"/>
  <Override PartName="/ppt/media/image13.gif" ContentType="image/gif"/>
  <Override PartName="/ppt/media/image3.gif" ContentType="image/gif"/>
  <Override PartName="/ppt/media/image26.png" ContentType="image/png"/>
  <Override PartName="/ppt/media/image1.jpeg" ContentType="image/jpeg"/>
  <Override PartName="/ppt/media/image12.gif" ContentType="image/gif"/>
  <Override PartName="/ppt/media/image15.png" ContentType="image/png"/>
  <Override PartName="/ppt/media/image31.png" ContentType="image/png"/>
  <Override PartName="/ppt/media/image2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9.jpeg" ContentType="image/jpeg"/>
  <Override PartName="/ppt/media/image32.png" ContentType="image/png"/>
  <Override PartName="/ppt/media/image41.jpeg" ContentType="image/jpeg"/>
  <Override PartName="/ppt/media/image11.gif" ContentType="image/gif"/>
  <Override PartName="/ppt/media/image10.jpeg" ContentType="image/jpeg"/>
  <Override PartName="/ppt/media/image38.png" ContentType="image/png"/>
  <Override PartName="/ppt/media/image8.jpeg" ContentType="image/jpeg"/>
  <Override PartName="/ppt/media/whoosh.wav" ContentType="audio/x-wav"/>
  <Override PartName="/ppt/media/image30.png" ContentType="image/png"/>
  <Override PartName="/ppt/media/voltage.wav" ContentType="audio/x-wav"/>
  <Override PartName="/ppt/media/image20.png" ContentType="image/png"/>
  <Override PartName="/ppt/media/image5.gif" ContentType="image/gif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breeze.wav" ContentType="audio/x-wav"/>
  <Override PartName="/ppt/media/image4.gif" ContentType="image/gif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823-93CA-4675-AC5C-AEF2FCCE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6BC-8597-438E-9198-BCDA8FE8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4CF-A4E3-4470-9AE4-1999CC96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9F0-F3BE-473B-9EAC-C07CD41C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B35-9797-4E08-B212-16936185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B54-4258-4648-8064-E8A50CA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5C1-297C-4CBD-B980-778652CC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069-9F1C-4B5B-9B2B-81EB39B7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19F-FA1E-470A-9431-0883905E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978-D49E-4C14-9AEE-88F927C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D55-0910-4FE2-88B4-4837D04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A59-D19C-483E-B897-FA2093D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063A-F56E-4099-8795-3BBED5498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audio" Target="../media/laser.wav"/><Relationship Id="rId11" Type="http://schemas.openxmlformats.org/officeDocument/2006/relationships/audio" Target="../media/breeze.wav"/><Relationship Id="rId12" Type="http://schemas.openxmlformats.org/officeDocument/2006/relationships/audio" Target="../media/whoosh.wav"/><Relationship Id="rId13" Type="http://schemas.openxmlformats.org/officeDocument/2006/relationships/audio" Target="../media/breez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0.png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5084640"/>
            <a:ext cx="43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ТРЕЧА 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СМИЧЕСКИМИ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РУЗЬЯМИ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1116000" y="3716280"/>
            <a:ext cx="691200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Ребята! Здравств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Мы хотим прилететь к 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 гости, но у нас утеря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усочек звездной кар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могите нам восстановить её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3144960" y="1119240"/>
            <a:ext cx="2854080" cy="2241360"/>
            <a:chOff x="3144960" y="1119240"/>
            <a:chExt cx="2854080" cy="2241360"/>
          </a:xfrm>
        </p:grpSpPr>
        <p:sp>
          <p:nvSpPr>
            <p:cNvPr id="44" name="Rectangle 4"/>
            <p:cNvSpPr/>
            <p:nvPr/>
          </p:nvSpPr>
          <p:spPr>
            <a:xfrm>
              <a:off x="3144960" y="1119240"/>
              <a:ext cx="2854080" cy="2241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5" descr="82"/>
            <p:cNvPicPr/>
            <p:nvPr/>
          </p:nvPicPr>
          <p:blipFill>
            <a:blip r:embed="rId3"/>
            <a:stretch/>
          </p:blipFill>
          <p:spPr>
            <a:xfrm>
              <a:off x="3688560" y="1662480"/>
              <a:ext cx="1835280" cy="166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Rectangle 6"/>
          <p:cNvSpPr/>
          <p:nvPr/>
        </p:nvSpPr>
        <p:spPr>
          <a:xfrm>
            <a:off x="3132000" y="1125360"/>
            <a:ext cx="2854440" cy="22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940120" y="372960"/>
            <a:ext cx="33321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АПРО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286000" y="785880"/>
            <a:ext cx="4530600" cy="28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600280" y="1324080"/>
            <a:ext cx="1292400" cy="1423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164120" y="1052640"/>
            <a:ext cx="1563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Book Antiqua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5400000">
            <a:off x="3980520" y="4114080"/>
            <a:ext cx="1346400" cy="160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143840" y="3786120"/>
            <a:ext cx="1773000" cy="1490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786800" y="5500800"/>
            <a:ext cx="1155600" cy="108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-0.15591 -0.41435 E">
                                      <p:cBhvr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289080" y="3933720"/>
            <a:ext cx="8634240" cy="275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пасиб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Мы знаем, что ваша школа наход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 городе Рига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Это  столица Латв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могите нам узнать 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района в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3144960" y="1119240"/>
            <a:ext cx="2854080" cy="2241360"/>
            <a:chOff x="3144960" y="1119240"/>
            <a:chExt cx="2854080" cy="2241360"/>
          </a:xfrm>
        </p:grpSpPr>
        <p:sp>
          <p:nvSpPr>
            <p:cNvPr id="56" name="Rectangle 4"/>
            <p:cNvSpPr/>
            <p:nvPr/>
          </p:nvSpPr>
          <p:spPr>
            <a:xfrm>
              <a:off x="3144960" y="1119240"/>
              <a:ext cx="2854080" cy="2241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5" descr="82"/>
            <p:cNvPicPr/>
            <p:nvPr/>
          </p:nvPicPr>
          <p:blipFill>
            <a:blip r:embed="rId3"/>
            <a:stretch/>
          </p:blipFill>
          <p:spPr>
            <a:xfrm>
              <a:off x="3688560" y="1662480"/>
              <a:ext cx="1835280" cy="166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6"/>
          <p:cNvSpPr/>
          <p:nvPr/>
        </p:nvSpPr>
        <p:spPr>
          <a:xfrm>
            <a:off x="3211560" y="1189080"/>
            <a:ext cx="2720880" cy="2171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2940120" y="372960"/>
            <a:ext cx="33321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АПРО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advTm="7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1175290012_07_space_581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iga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ga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kola2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5"/>
          <p:cNvPicPr/>
          <p:nvPr/>
        </p:nvPicPr>
        <p:blipFill>
          <a:blip r:embed="rId6"/>
          <a:stretch/>
        </p:blipFill>
        <p:spPr>
          <a:xfrm>
            <a:off x="357120" y="372960"/>
            <a:ext cx="4689720" cy="1006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5200560" y="0"/>
            <a:ext cx="3943440" cy="2060640"/>
          </a:xfrm>
          <a:prstGeom prst="wedgeEllipseCallout">
            <a:avLst>
              <a:gd name="adj1" fmla="val -33495"/>
              <a:gd name="adj2" fmla="val 140986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Comic Sans MS"/>
              </a:rPr>
              <a:t>Спасибо, ребята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0" y="0"/>
            <a:ext cx="4932360" cy="2717640"/>
          </a:xfrm>
          <a:prstGeom prst="wedgeEllipseCallout">
            <a:avLst>
              <a:gd name="adj1" fmla="val -11472"/>
              <a:gd name="adj2" fmla="val 8884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Comic Sans MS"/>
              </a:rPr>
              <a:t>Приятно познакомиться с вами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900000" y="3733920"/>
            <a:ext cx="5795640" cy="3123720"/>
            <a:chOff x="900000" y="3733920"/>
            <a:chExt cx="5795640" cy="3123720"/>
          </a:xfrm>
        </p:grpSpPr>
        <p:pic>
          <p:nvPicPr>
            <p:cNvPr id="69" name="Picture 10" descr="29-1"/>
            <p:cNvPicPr/>
            <p:nvPr/>
          </p:nvPicPr>
          <p:blipFill>
            <a:blip r:embed="rId7"/>
            <a:stretch/>
          </p:blipFill>
          <p:spPr>
            <a:xfrm>
              <a:off x="3055680" y="4193640"/>
              <a:ext cx="1962360" cy="22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1" descr="48"/>
            <p:cNvPicPr/>
            <p:nvPr/>
          </p:nvPicPr>
          <p:blipFill>
            <a:blip r:embed="rId8"/>
            <a:stretch/>
          </p:blipFill>
          <p:spPr>
            <a:xfrm>
              <a:off x="4875840" y="3799080"/>
              <a:ext cx="1819800" cy="30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2" descr="2"/>
            <p:cNvPicPr/>
            <p:nvPr/>
          </p:nvPicPr>
          <p:blipFill>
            <a:blip r:embed="rId9"/>
            <a:stretch/>
          </p:blipFill>
          <p:spPr>
            <a:xfrm>
              <a:off x="900000" y="3733920"/>
              <a:ext cx="2088720" cy="292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AutoShape 13"/>
          <p:cNvSpPr/>
          <p:nvPr/>
        </p:nvSpPr>
        <p:spPr>
          <a:xfrm>
            <a:off x="2268360" y="189000"/>
            <a:ext cx="4662720" cy="2232000"/>
          </a:xfrm>
          <a:prstGeom prst="wedgeEllipseCallout">
            <a:avLst>
              <a:gd name="adj1" fmla="val -20615"/>
              <a:gd name="adj2" fmla="val 126314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омогите, пожалуйста, выполнить зад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ам всё это незнако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animMotion origin="layout" path="M -3.12807E-006 -3.8218E-006 L -0.0036 0.61018 E">
                                      <p:cBhvr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3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Скругленный прямоугольник 25"/>
          <p:cNvGrpSpPr/>
          <p:nvPr/>
        </p:nvGrpSpPr>
        <p:grpSpPr>
          <a:xfrm>
            <a:off x="646200" y="2316240"/>
            <a:ext cx="1414440" cy="1407960"/>
            <a:chOff x="646200" y="2316240"/>
            <a:chExt cx="1414440" cy="1407960"/>
          </a:xfrm>
        </p:grpSpPr>
        <p:pic>
          <p:nvPicPr>
            <p:cNvPr id="74" name="Скругленный прямоугольник 25" descr=""/>
            <p:cNvPicPr/>
            <p:nvPr/>
          </p:nvPicPr>
          <p:blipFill>
            <a:blip r:embed="rId2"/>
            <a:stretch/>
          </p:blipFill>
          <p:spPr>
            <a:xfrm>
              <a:off x="646200" y="231624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76160" y="241920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кругленный прямоугольник 26"/>
          <p:cNvGrpSpPr/>
          <p:nvPr/>
        </p:nvGrpSpPr>
        <p:grpSpPr>
          <a:xfrm>
            <a:off x="646200" y="2316240"/>
            <a:ext cx="1414440" cy="1407960"/>
            <a:chOff x="646200" y="2316240"/>
            <a:chExt cx="1414440" cy="1407960"/>
          </a:xfrm>
        </p:grpSpPr>
        <p:pic>
          <p:nvPicPr>
            <p:cNvPr id="77" name="Скругленный 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646200" y="231624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76160" y="241920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+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Скругленный прямоугольник 27"/>
          <p:cNvSpPr/>
          <p:nvPr/>
        </p:nvSpPr>
        <p:spPr>
          <a:xfrm>
            <a:off x="714240" y="2357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Скругленный прямоугольник 28"/>
          <p:cNvGrpSpPr/>
          <p:nvPr/>
        </p:nvGrpSpPr>
        <p:grpSpPr>
          <a:xfrm>
            <a:off x="2077920" y="2316240"/>
            <a:ext cx="1408320" cy="1407960"/>
            <a:chOff x="2077920" y="2316240"/>
            <a:chExt cx="1408320" cy="1407960"/>
          </a:xfrm>
        </p:grpSpPr>
        <p:pic>
          <p:nvPicPr>
            <p:cNvPr id="81" name="Скругленный 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2077920" y="231624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205000" y="241920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29"/>
          <p:cNvGrpSpPr/>
          <p:nvPr/>
        </p:nvGrpSpPr>
        <p:grpSpPr>
          <a:xfrm>
            <a:off x="2077920" y="2316240"/>
            <a:ext cx="1408320" cy="1407960"/>
            <a:chOff x="2077920" y="2316240"/>
            <a:chExt cx="1408320" cy="1407960"/>
          </a:xfrm>
        </p:grpSpPr>
        <p:pic>
          <p:nvPicPr>
            <p:cNvPr id="84" name="Скругленный прямоугольник 29" descr=""/>
            <p:cNvPicPr/>
            <p:nvPr/>
          </p:nvPicPr>
          <p:blipFill>
            <a:blip r:embed="rId5"/>
            <a:stretch/>
          </p:blipFill>
          <p:spPr>
            <a:xfrm>
              <a:off x="2077920" y="231624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205000" y="241920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 -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Скругленный прямоугольник 30"/>
          <p:cNvSpPr/>
          <p:nvPr/>
        </p:nvSpPr>
        <p:spPr>
          <a:xfrm>
            <a:off x="2143080" y="2357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31"/>
          <p:cNvGrpSpPr/>
          <p:nvPr/>
        </p:nvGrpSpPr>
        <p:grpSpPr>
          <a:xfrm>
            <a:off x="3505320" y="2316240"/>
            <a:ext cx="1414440" cy="1407960"/>
            <a:chOff x="3505320" y="2316240"/>
            <a:chExt cx="1414440" cy="1407960"/>
          </a:xfrm>
        </p:grpSpPr>
        <p:pic>
          <p:nvPicPr>
            <p:cNvPr id="88" name="Скругленный прямоугольник 31" descr=""/>
            <p:cNvPicPr/>
            <p:nvPr/>
          </p:nvPicPr>
          <p:blipFill>
            <a:blip r:embed="rId6"/>
            <a:stretch/>
          </p:blipFill>
          <p:spPr>
            <a:xfrm>
              <a:off x="3505320" y="231624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635280" y="241920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2"/>
          <p:cNvGrpSpPr/>
          <p:nvPr/>
        </p:nvGrpSpPr>
        <p:grpSpPr>
          <a:xfrm>
            <a:off x="3505320" y="2316240"/>
            <a:ext cx="1414440" cy="1407960"/>
            <a:chOff x="3505320" y="2316240"/>
            <a:chExt cx="1414440" cy="1407960"/>
          </a:xfrm>
        </p:grpSpPr>
        <p:pic>
          <p:nvPicPr>
            <p:cNvPr id="91" name="Скругленный прямоугольник 32" descr=""/>
            <p:cNvPicPr/>
            <p:nvPr/>
          </p:nvPicPr>
          <p:blipFill>
            <a:blip r:embed="rId7"/>
            <a:stretch/>
          </p:blipFill>
          <p:spPr>
            <a:xfrm>
              <a:off x="3505320" y="231624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635280" y="241920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9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Скругленный прямоугольник 33"/>
          <p:cNvSpPr/>
          <p:nvPr/>
        </p:nvSpPr>
        <p:spPr>
          <a:xfrm>
            <a:off x="3571920" y="2357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34"/>
          <p:cNvGrpSpPr/>
          <p:nvPr/>
        </p:nvGrpSpPr>
        <p:grpSpPr>
          <a:xfrm>
            <a:off x="646200" y="3743280"/>
            <a:ext cx="1414440" cy="1408320"/>
            <a:chOff x="646200" y="3743280"/>
            <a:chExt cx="1414440" cy="1408320"/>
          </a:xfrm>
        </p:grpSpPr>
        <p:pic>
          <p:nvPicPr>
            <p:cNvPr id="95" name="Скругленный прямоугольник 34" descr=""/>
            <p:cNvPicPr/>
            <p:nvPr/>
          </p:nvPicPr>
          <p:blipFill>
            <a:blip r:embed="rId8"/>
            <a:stretch/>
          </p:blipFill>
          <p:spPr>
            <a:xfrm>
              <a:off x="646200" y="374328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76160" y="38498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35"/>
          <p:cNvGrpSpPr/>
          <p:nvPr/>
        </p:nvGrpSpPr>
        <p:grpSpPr>
          <a:xfrm>
            <a:off x="646200" y="3743280"/>
            <a:ext cx="1414440" cy="1408320"/>
            <a:chOff x="646200" y="3743280"/>
            <a:chExt cx="1414440" cy="1408320"/>
          </a:xfrm>
        </p:grpSpPr>
        <p:pic>
          <p:nvPicPr>
            <p:cNvPr id="98" name="Скругленный прямоугольник 35" descr=""/>
            <p:cNvPicPr/>
            <p:nvPr/>
          </p:nvPicPr>
          <p:blipFill>
            <a:blip r:embed="rId9"/>
            <a:stretch/>
          </p:blipFill>
          <p:spPr>
            <a:xfrm>
              <a:off x="646200" y="374328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6160" y="38498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+ 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Скругленный прямоугольник 36"/>
          <p:cNvSpPr/>
          <p:nvPr/>
        </p:nvSpPr>
        <p:spPr>
          <a:xfrm>
            <a:off x="714240" y="3786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Скругленный прямоугольник 37"/>
          <p:cNvGrpSpPr/>
          <p:nvPr/>
        </p:nvGrpSpPr>
        <p:grpSpPr>
          <a:xfrm>
            <a:off x="3505320" y="3743280"/>
            <a:ext cx="1414440" cy="1408320"/>
            <a:chOff x="3505320" y="3743280"/>
            <a:chExt cx="1414440" cy="1408320"/>
          </a:xfrm>
        </p:grpSpPr>
        <p:pic>
          <p:nvPicPr>
            <p:cNvPr id="102" name="Скругленный прямоугольник 37" descr=""/>
            <p:cNvPicPr/>
            <p:nvPr/>
          </p:nvPicPr>
          <p:blipFill>
            <a:blip r:embed="rId10"/>
            <a:stretch/>
          </p:blipFill>
          <p:spPr>
            <a:xfrm>
              <a:off x="3505320" y="374328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635280" y="38498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38"/>
          <p:cNvGrpSpPr/>
          <p:nvPr/>
        </p:nvGrpSpPr>
        <p:grpSpPr>
          <a:xfrm>
            <a:off x="3505320" y="3743280"/>
            <a:ext cx="1414440" cy="1408320"/>
            <a:chOff x="3505320" y="3743280"/>
            <a:chExt cx="1414440" cy="1408320"/>
          </a:xfrm>
        </p:grpSpPr>
        <p:pic>
          <p:nvPicPr>
            <p:cNvPr id="105" name="Скругленный прямоугольник 38" descr=""/>
            <p:cNvPicPr/>
            <p:nvPr/>
          </p:nvPicPr>
          <p:blipFill>
            <a:blip r:embed="rId11"/>
            <a:stretch/>
          </p:blipFill>
          <p:spPr>
            <a:xfrm>
              <a:off x="3505320" y="374328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35280" y="38498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+ 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Скругленный прямоугольник 39"/>
          <p:cNvSpPr/>
          <p:nvPr/>
        </p:nvSpPr>
        <p:spPr>
          <a:xfrm>
            <a:off x="3571920" y="3786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Скругленный прямоугольник 40"/>
          <p:cNvGrpSpPr/>
          <p:nvPr/>
        </p:nvGrpSpPr>
        <p:grpSpPr>
          <a:xfrm>
            <a:off x="3005280" y="5168880"/>
            <a:ext cx="1414440" cy="1407960"/>
            <a:chOff x="3005280" y="5168880"/>
            <a:chExt cx="1414440" cy="1407960"/>
          </a:xfrm>
        </p:grpSpPr>
        <p:pic>
          <p:nvPicPr>
            <p:cNvPr id="109" name="Скругленный прямоугольник 40" descr=""/>
            <p:cNvPicPr/>
            <p:nvPr/>
          </p:nvPicPr>
          <p:blipFill>
            <a:blip r:embed="rId12"/>
            <a:stretch/>
          </p:blipFill>
          <p:spPr>
            <a:xfrm>
              <a:off x="3005280" y="51688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35240" y="527832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41"/>
          <p:cNvGrpSpPr/>
          <p:nvPr/>
        </p:nvGrpSpPr>
        <p:grpSpPr>
          <a:xfrm>
            <a:off x="3005280" y="5168880"/>
            <a:ext cx="1414440" cy="1407960"/>
            <a:chOff x="3005280" y="5168880"/>
            <a:chExt cx="1414440" cy="1407960"/>
          </a:xfrm>
        </p:grpSpPr>
        <p:pic>
          <p:nvPicPr>
            <p:cNvPr id="112" name="Скругленный прямоугольник 41" descr=""/>
            <p:cNvPicPr/>
            <p:nvPr/>
          </p:nvPicPr>
          <p:blipFill>
            <a:blip r:embed="rId13"/>
            <a:stretch/>
          </p:blipFill>
          <p:spPr>
            <a:xfrm>
              <a:off x="3005280" y="51688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135240" y="527832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+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Скругленный прямоугольник 42"/>
          <p:cNvSpPr/>
          <p:nvPr/>
        </p:nvSpPr>
        <p:spPr>
          <a:xfrm>
            <a:off x="3071880" y="52149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Скругленный прямоугольник 43"/>
          <p:cNvGrpSpPr/>
          <p:nvPr/>
        </p:nvGrpSpPr>
        <p:grpSpPr>
          <a:xfrm>
            <a:off x="2077920" y="3743280"/>
            <a:ext cx="1408320" cy="1408320"/>
            <a:chOff x="2077920" y="3743280"/>
            <a:chExt cx="1408320" cy="1408320"/>
          </a:xfrm>
        </p:grpSpPr>
        <p:pic>
          <p:nvPicPr>
            <p:cNvPr id="116" name="Скругленный прямоугольник 43" descr=""/>
            <p:cNvPicPr/>
            <p:nvPr/>
          </p:nvPicPr>
          <p:blipFill>
            <a:blip r:embed="rId14"/>
            <a:stretch/>
          </p:blipFill>
          <p:spPr>
            <a:xfrm>
              <a:off x="2077920" y="3743280"/>
              <a:ext cx="14083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205000" y="38498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Скругленный прямоугольник 44"/>
          <p:cNvGrpSpPr/>
          <p:nvPr/>
        </p:nvGrpSpPr>
        <p:grpSpPr>
          <a:xfrm>
            <a:off x="2077920" y="3743280"/>
            <a:ext cx="1408320" cy="1408320"/>
            <a:chOff x="2077920" y="3743280"/>
            <a:chExt cx="1408320" cy="1408320"/>
          </a:xfrm>
        </p:grpSpPr>
        <p:pic>
          <p:nvPicPr>
            <p:cNvPr id="119" name="Скругленный прямоугольник 44" descr=""/>
            <p:cNvPicPr/>
            <p:nvPr/>
          </p:nvPicPr>
          <p:blipFill>
            <a:blip r:embed="rId15"/>
            <a:stretch/>
          </p:blipFill>
          <p:spPr>
            <a:xfrm>
              <a:off x="2077920" y="3743280"/>
              <a:ext cx="14083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05000" y="38498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8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</a:t>
              </a:r>
              <a:r>
                <a:rPr b="1" lang="ru-RU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Скругленный прямоугольник 45"/>
          <p:cNvSpPr/>
          <p:nvPr/>
        </p:nvSpPr>
        <p:spPr>
          <a:xfrm>
            <a:off x="2143080" y="3786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Скругленный прямоугольник 46"/>
          <p:cNvGrpSpPr/>
          <p:nvPr/>
        </p:nvGrpSpPr>
        <p:grpSpPr>
          <a:xfrm>
            <a:off x="1579680" y="5168880"/>
            <a:ext cx="1407960" cy="1407960"/>
            <a:chOff x="1579680" y="5168880"/>
            <a:chExt cx="1407960" cy="1407960"/>
          </a:xfrm>
        </p:grpSpPr>
        <p:pic>
          <p:nvPicPr>
            <p:cNvPr id="123" name="Скругленный прямоугольник 46" descr=""/>
            <p:cNvPicPr/>
            <p:nvPr/>
          </p:nvPicPr>
          <p:blipFill>
            <a:blip r:embed="rId16"/>
            <a:stretch/>
          </p:blipFill>
          <p:spPr>
            <a:xfrm>
              <a:off x="1579680" y="5168880"/>
              <a:ext cx="14079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706400" y="527832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47"/>
          <p:cNvGrpSpPr/>
          <p:nvPr/>
        </p:nvGrpSpPr>
        <p:grpSpPr>
          <a:xfrm>
            <a:off x="1560600" y="5168880"/>
            <a:ext cx="1438200" cy="1407960"/>
            <a:chOff x="1560600" y="5168880"/>
            <a:chExt cx="1438200" cy="1407960"/>
          </a:xfrm>
        </p:grpSpPr>
        <p:pic>
          <p:nvPicPr>
            <p:cNvPr id="126" name="Скругленный прямоугольник 47" descr=""/>
            <p:cNvPicPr/>
            <p:nvPr/>
          </p:nvPicPr>
          <p:blipFill>
            <a:blip r:embed="rId17"/>
            <a:stretch/>
          </p:blipFill>
          <p:spPr>
            <a:xfrm>
              <a:off x="1560600" y="5168880"/>
              <a:ext cx="1438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706400" y="527832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 - 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Скругленный прямоугольник 48"/>
          <p:cNvSpPr/>
          <p:nvPr/>
        </p:nvSpPr>
        <p:spPr>
          <a:xfrm>
            <a:off x="1643040" y="52149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5072040" y="4214880"/>
            <a:ext cx="3857760" cy="2357280"/>
            <a:chOff x="5072040" y="4214880"/>
            <a:chExt cx="3857760" cy="2357280"/>
          </a:xfrm>
        </p:grpSpPr>
        <p:pic>
          <p:nvPicPr>
            <p:cNvPr id="130" name="Picture 10" descr="29-1"/>
            <p:cNvPicPr/>
            <p:nvPr/>
          </p:nvPicPr>
          <p:blipFill>
            <a:blip r:embed="rId18"/>
            <a:stretch/>
          </p:blipFill>
          <p:spPr>
            <a:xfrm>
              <a:off x="6506640" y="4561560"/>
              <a:ext cx="13060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1" descr="48"/>
            <p:cNvPicPr/>
            <p:nvPr/>
          </p:nvPicPr>
          <p:blipFill>
            <a:blip r:embed="rId19"/>
            <a:stretch/>
          </p:blipFill>
          <p:spPr>
            <a:xfrm>
              <a:off x="7718400" y="4264200"/>
              <a:ext cx="1211400" cy="23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" descr="2"/>
            <p:cNvPicPr/>
            <p:nvPr/>
          </p:nvPicPr>
          <p:blipFill>
            <a:blip r:embed="rId20"/>
            <a:stretch/>
          </p:blipFill>
          <p:spPr>
            <a:xfrm>
              <a:off x="5072040" y="4214880"/>
              <a:ext cx="1390320" cy="22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1"/>
          <p:cNvGrpSpPr/>
          <p:nvPr/>
        </p:nvGrpSpPr>
        <p:grpSpPr>
          <a:xfrm>
            <a:off x="719280" y="2243160"/>
            <a:ext cx="1414440" cy="1407960"/>
            <a:chOff x="719280" y="2243160"/>
            <a:chExt cx="1414440" cy="1407960"/>
          </a:xfrm>
        </p:grpSpPr>
        <p:pic>
          <p:nvPicPr>
            <p:cNvPr id="134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71928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47800" y="234936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2"/>
          <p:cNvGrpSpPr/>
          <p:nvPr/>
        </p:nvGrpSpPr>
        <p:grpSpPr>
          <a:xfrm>
            <a:off x="719280" y="2243160"/>
            <a:ext cx="1414440" cy="1407960"/>
            <a:chOff x="719280" y="2243160"/>
            <a:chExt cx="1414440" cy="1407960"/>
          </a:xfrm>
        </p:grpSpPr>
        <p:pic>
          <p:nvPicPr>
            <p:cNvPr id="13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71928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47800" y="234936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Скругленный прямоугольник 3"/>
          <p:cNvSpPr/>
          <p:nvPr/>
        </p:nvSpPr>
        <p:spPr>
          <a:xfrm>
            <a:off x="785880" y="228600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2146320" y="2243160"/>
            <a:ext cx="1414440" cy="1407960"/>
            <a:chOff x="2146320" y="2243160"/>
            <a:chExt cx="1414440" cy="1407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14632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76640" y="234936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кругленный прямоугольник 5"/>
          <p:cNvGrpSpPr/>
          <p:nvPr/>
        </p:nvGrpSpPr>
        <p:grpSpPr>
          <a:xfrm>
            <a:off x="2146320" y="2243160"/>
            <a:ext cx="1414440" cy="1407960"/>
            <a:chOff x="2146320" y="2243160"/>
            <a:chExt cx="1414440" cy="1407960"/>
          </a:xfrm>
        </p:grpSpPr>
        <p:pic>
          <p:nvPicPr>
            <p:cNvPr id="144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214632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76640" y="234936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Скругленный прямоугольник 6"/>
          <p:cNvSpPr/>
          <p:nvPr/>
        </p:nvSpPr>
        <p:spPr>
          <a:xfrm>
            <a:off x="2214720" y="228600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Скругленный прямоугольник 7"/>
          <p:cNvGrpSpPr/>
          <p:nvPr/>
        </p:nvGrpSpPr>
        <p:grpSpPr>
          <a:xfrm>
            <a:off x="3578400" y="2243160"/>
            <a:ext cx="1407960" cy="1407960"/>
            <a:chOff x="3578400" y="2243160"/>
            <a:chExt cx="1407960" cy="1407960"/>
          </a:xfrm>
        </p:grpSpPr>
        <p:pic>
          <p:nvPicPr>
            <p:cNvPr id="148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578400" y="2243160"/>
              <a:ext cx="14079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706920" y="234936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Скругленный прямоугольник 8"/>
          <p:cNvGrpSpPr/>
          <p:nvPr/>
        </p:nvGrpSpPr>
        <p:grpSpPr>
          <a:xfrm>
            <a:off x="3578400" y="2243160"/>
            <a:ext cx="1407960" cy="1407960"/>
            <a:chOff x="3578400" y="2243160"/>
            <a:chExt cx="1407960" cy="1407960"/>
          </a:xfrm>
        </p:grpSpPr>
        <p:pic>
          <p:nvPicPr>
            <p:cNvPr id="151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578400" y="2243160"/>
              <a:ext cx="14079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706920" y="234936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Скругленный прямоугольник 9"/>
          <p:cNvSpPr/>
          <p:nvPr/>
        </p:nvSpPr>
        <p:spPr>
          <a:xfrm>
            <a:off x="3643200" y="228600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10"/>
          <p:cNvGrpSpPr/>
          <p:nvPr/>
        </p:nvGrpSpPr>
        <p:grpSpPr>
          <a:xfrm>
            <a:off x="719280" y="3670200"/>
            <a:ext cx="1414440" cy="1408320"/>
            <a:chOff x="719280" y="3670200"/>
            <a:chExt cx="1414440" cy="1408320"/>
          </a:xfrm>
        </p:grpSpPr>
        <p:pic>
          <p:nvPicPr>
            <p:cNvPr id="155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71928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47800" y="377820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11"/>
          <p:cNvGrpSpPr/>
          <p:nvPr/>
        </p:nvGrpSpPr>
        <p:grpSpPr>
          <a:xfrm>
            <a:off x="719280" y="3670200"/>
            <a:ext cx="1414440" cy="1408320"/>
            <a:chOff x="719280" y="3670200"/>
            <a:chExt cx="1414440" cy="1408320"/>
          </a:xfrm>
        </p:grpSpPr>
        <p:pic>
          <p:nvPicPr>
            <p:cNvPr id="158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71928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47800" y="377820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Скругленный прямоугольник 12"/>
          <p:cNvSpPr/>
          <p:nvPr/>
        </p:nvSpPr>
        <p:spPr>
          <a:xfrm>
            <a:off x="785880" y="37148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Скругленный прямоугольник 13"/>
          <p:cNvGrpSpPr/>
          <p:nvPr/>
        </p:nvGrpSpPr>
        <p:grpSpPr>
          <a:xfrm>
            <a:off x="3578400" y="3670200"/>
            <a:ext cx="1407960" cy="1408320"/>
            <a:chOff x="3578400" y="3670200"/>
            <a:chExt cx="1407960" cy="1408320"/>
          </a:xfrm>
        </p:grpSpPr>
        <p:pic>
          <p:nvPicPr>
            <p:cNvPr id="16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3578400" y="3670200"/>
              <a:ext cx="14079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706920" y="3778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Скругленный прямоугольник 14"/>
          <p:cNvGrpSpPr/>
          <p:nvPr/>
        </p:nvGrpSpPr>
        <p:grpSpPr>
          <a:xfrm>
            <a:off x="3578400" y="3670200"/>
            <a:ext cx="1407960" cy="1408320"/>
            <a:chOff x="3578400" y="3670200"/>
            <a:chExt cx="1407960" cy="1408320"/>
          </a:xfrm>
        </p:grpSpPr>
        <p:pic>
          <p:nvPicPr>
            <p:cNvPr id="165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3578400" y="3670200"/>
              <a:ext cx="14079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706920" y="3778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+ 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Скругленный прямоугольник 15"/>
          <p:cNvSpPr/>
          <p:nvPr/>
        </p:nvSpPr>
        <p:spPr>
          <a:xfrm>
            <a:off x="3643200" y="37148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Скругленный прямоугольник 16"/>
          <p:cNvGrpSpPr/>
          <p:nvPr/>
        </p:nvGrpSpPr>
        <p:grpSpPr>
          <a:xfrm>
            <a:off x="3005280" y="5102280"/>
            <a:ext cx="1414440" cy="1407960"/>
            <a:chOff x="3005280" y="5102280"/>
            <a:chExt cx="1414440" cy="1407960"/>
          </a:xfrm>
        </p:grpSpPr>
        <p:pic>
          <p:nvPicPr>
            <p:cNvPr id="169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3005280" y="51022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133800" y="52070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17"/>
          <p:cNvGrpSpPr/>
          <p:nvPr/>
        </p:nvGrpSpPr>
        <p:grpSpPr>
          <a:xfrm>
            <a:off x="3005280" y="5102280"/>
            <a:ext cx="1414440" cy="1407960"/>
            <a:chOff x="3005280" y="5102280"/>
            <a:chExt cx="1414440" cy="1407960"/>
          </a:xfrm>
        </p:grpSpPr>
        <p:pic>
          <p:nvPicPr>
            <p:cNvPr id="172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3005280" y="51022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133800" y="52070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+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Скругленный прямоугольник 18"/>
          <p:cNvSpPr/>
          <p:nvPr/>
        </p:nvSpPr>
        <p:spPr>
          <a:xfrm>
            <a:off x="3071880" y="514368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кругленный прямоугольник 19"/>
          <p:cNvGrpSpPr/>
          <p:nvPr/>
        </p:nvGrpSpPr>
        <p:grpSpPr>
          <a:xfrm>
            <a:off x="2146320" y="3670200"/>
            <a:ext cx="1414440" cy="1408320"/>
            <a:chOff x="2146320" y="3670200"/>
            <a:chExt cx="1414440" cy="1408320"/>
          </a:xfrm>
        </p:grpSpPr>
        <p:pic>
          <p:nvPicPr>
            <p:cNvPr id="176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214632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276640" y="377820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Скругленный прямоугольник 20"/>
          <p:cNvGrpSpPr/>
          <p:nvPr/>
        </p:nvGrpSpPr>
        <p:grpSpPr>
          <a:xfrm>
            <a:off x="2146320" y="3670200"/>
            <a:ext cx="1414440" cy="1408320"/>
            <a:chOff x="2146320" y="3670200"/>
            <a:chExt cx="1414440" cy="1408320"/>
          </a:xfrm>
        </p:grpSpPr>
        <p:pic>
          <p:nvPicPr>
            <p:cNvPr id="179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214632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276640" y="377820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Скругленный прямоугольник 21"/>
          <p:cNvSpPr/>
          <p:nvPr/>
        </p:nvSpPr>
        <p:spPr>
          <a:xfrm>
            <a:off x="2214720" y="371484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Скругленный прямоугольник 22"/>
          <p:cNvGrpSpPr/>
          <p:nvPr/>
        </p:nvGrpSpPr>
        <p:grpSpPr>
          <a:xfrm>
            <a:off x="1579680" y="5102280"/>
            <a:ext cx="1407960" cy="1407960"/>
            <a:chOff x="1579680" y="5102280"/>
            <a:chExt cx="1407960" cy="1407960"/>
          </a:xfrm>
        </p:grpSpPr>
        <p:pic>
          <p:nvPicPr>
            <p:cNvPr id="183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1579680" y="5102280"/>
              <a:ext cx="14079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704960" y="52070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Скругленный прямоугольник 23"/>
          <p:cNvGrpSpPr/>
          <p:nvPr/>
        </p:nvGrpSpPr>
        <p:grpSpPr>
          <a:xfrm>
            <a:off x="1560600" y="5102280"/>
            <a:ext cx="1438200" cy="1407960"/>
            <a:chOff x="1560600" y="5102280"/>
            <a:chExt cx="1438200" cy="1407960"/>
          </a:xfrm>
        </p:grpSpPr>
        <p:pic>
          <p:nvPicPr>
            <p:cNvPr id="186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1560600" y="5102280"/>
              <a:ext cx="1438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04960" y="52070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 - 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24"/>
          <p:cNvSpPr/>
          <p:nvPr/>
        </p:nvSpPr>
        <p:spPr>
          <a:xfrm>
            <a:off x="1643040" y="514368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5072040" y="4214880"/>
            <a:ext cx="3857760" cy="2357280"/>
            <a:chOff x="5072040" y="4214880"/>
            <a:chExt cx="3857760" cy="2357280"/>
          </a:xfrm>
        </p:grpSpPr>
        <p:pic>
          <p:nvPicPr>
            <p:cNvPr id="190" name="Picture 10" descr="29-1"/>
            <p:cNvPicPr/>
            <p:nvPr/>
          </p:nvPicPr>
          <p:blipFill>
            <a:blip r:embed="rId18"/>
            <a:stretch/>
          </p:blipFill>
          <p:spPr>
            <a:xfrm>
              <a:off x="6506640" y="4561560"/>
              <a:ext cx="13060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1" descr="48"/>
            <p:cNvPicPr/>
            <p:nvPr/>
          </p:nvPicPr>
          <p:blipFill>
            <a:blip r:embed="rId19"/>
            <a:stretch/>
          </p:blipFill>
          <p:spPr>
            <a:xfrm>
              <a:off x="7718400" y="4264200"/>
              <a:ext cx="1211400" cy="23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2" descr="2"/>
            <p:cNvPicPr/>
            <p:nvPr/>
          </p:nvPicPr>
          <p:blipFill>
            <a:blip r:embed="rId20"/>
            <a:stretch/>
          </p:blipFill>
          <p:spPr>
            <a:xfrm>
              <a:off x="5072040" y="4214880"/>
              <a:ext cx="1390320" cy="22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Скругленный прямоугольник 1"/>
          <p:cNvGrpSpPr/>
          <p:nvPr/>
        </p:nvGrpSpPr>
        <p:grpSpPr>
          <a:xfrm>
            <a:off x="719280" y="2243160"/>
            <a:ext cx="1414440" cy="1407960"/>
            <a:chOff x="719280" y="2243160"/>
            <a:chExt cx="1414440" cy="1407960"/>
          </a:xfrm>
        </p:grpSpPr>
        <p:pic>
          <p:nvPicPr>
            <p:cNvPr id="194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71928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847800" y="234792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Скругленный прямоугольник 2"/>
          <p:cNvGrpSpPr/>
          <p:nvPr/>
        </p:nvGrpSpPr>
        <p:grpSpPr>
          <a:xfrm>
            <a:off x="719280" y="2243160"/>
            <a:ext cx="1414440" cy="1407960"/>
            <a:chOff x="719280" y="2243160"/>
            <a:chExt cx="1414440" cy="1407960"/>
          </a:xfrm>
        </p:grpSpPr>
        <p:pic>
          <p:nvPicPr>
            <p:cNvPr id="19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71928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47800" y="234792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7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Скругленный прямоугольник 3"/>
          <p:cNvSpPr/>
          <p:nvPr/>
        </p:nvSpPr>
        <p:spPr>
          <a:xfrm>
            <a:off x="785880" y="228600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Скругленный прямоугольник 4"/>
          <p:cNvGrpSpPr/>
          <p:nvPr/>
        </p:nvGrpSpPr>
        <p:grpSpPr>
          <a:xfrm>
            <a:off x="2146320" y="2243160"/>
            <a:ext cx="1414440" cy="1407960"/>
            <a:chOff x="2146320" y="2243160"/>
            <a:chExt cx="1414440" cy="1407960"/>
          </a:xfrm>
        </p:grpSpPr>
        <p:pic>
          <p:nvPicPr>
            <p:cNvPr id="20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14632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278080" y="234792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Скругленный прямоугольник 5"/>
          <p:cNvGrpSpPr/>
          <p:nvPr/>
        </p:nvGrpSpPr>
        <p:grpSpPr>
          <a:xfrm>
            <a:off x="2146320" y="2243160"/>
            <a:ext cx="1414440" cy="1407960"/>
            <a:chOff x="2146320" y="2243160"/>
            <a:chExt cx="1414440" cy="1407960"/>
          </a:xfrm>
        </p:grpSpPr>
        <p:pic>
          <p:nvPicPr>
            <p:cNvPr id="204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2146320" y="224316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278080" y="234792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Скругленный прямоугольник 6"/>
          <p:cNvSpPr/>
          <p:nvPr/>
        </p:nvSpPr>
        <p:spPr>
          <a:xfrm>
            <a:off x="2214720" y="228600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Скругленный прямоугольник 7"/>
          <p:cNvGrpSpPr/>
          <p:nvPr/>
        </p:nvGrpSpPr>
        <p:grpSpPr>
          <a:xfrm>
            <a:off x="3578400" y="2243160"/>
            <a:ext cx="1407960" cy="1407960"/>
            <a:chOff x="3578400" y="2243160"/>
            <a:chExt cx="1407960" cy="1407960"/>
          </a:xfrm>
        </p:grpSpPr>
        <p:pic>
          <p:nvPicPr>
            <p:cNvPr id="208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578400" y="2243160"/>
              <a:ext cx="14079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706920" y="234792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Скругленный прямоугольник 8"/>
          <p:cNvGrpSpPr/>
          <p:nvPr/>
        </p:nvGrpSpPr>
        <p:grpSpPr>
          <a:xfrm>
            <a:off x="3578400" y="2243160"/>
            <a:ext cx="1407960" cy="1407960"/>
            <a:chOff x="3578400" y="2243160"/>
            <a:chExt cx="1407960" cy="1407960"/>
          </a:xfrm>
        </p:grpSpPr>
        <p:pic>
          <p:nvPicPr>
            <p:cNvPr id="211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578400" y="2243160"/>
              <a:ext cx="14079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06920" y="234792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Скругленный прямоугольник 9"/>
          <p:cNvSpPr/>
          <p:nvPr/>
        </p:nvSpPr>
        <p:spPr>
          <a:xfrm>
            <a:off x="3643200" y="228600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Скругленный прямоугольник 10"/>
          <p:cNvGrpSpPr/>
          <p:nvPr/>
        </p:nvGrpSpPr>
        <p:grpSpPr>
          <a:xfrm>
            <a:off x="719280" y="3670200"/>
            <a:ext cx="1414440" cy="1408320"/>
            <a:chOff x="719280" y="3670200"/>
            <a:chExt cx="1414440" cy="1408320"/>
          </a:xfrm>
        </p:grpSpPr>
        <p:pic>
          <p:nvPicPr>
            <p:cNvPr id="215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71928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47800" y="377676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Скругленный прямоугольник 11"/>
          <p:cNvGrpSpPr/>
          <p:nvPr/>
        </p:nvGrpSpPr>
        <p:grpSpPr>
          <a:xfrm>
            <a:off x="719280" y="3670200"/>
            <a:ext cx="1414440" cy="1408320"/>
            <a:chOff x="719280" y="3670200"/>
            <a:chExt cx="1414440" cy="1408320"/>
          </a:xfrm>
        </p:grpSpPr>
        <p:pic>
          <p:nvPicPr>
            <p:cNvPr id="218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71928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47800" y="377676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Скругленный прямоугольник 12"/>
          <p:cNvGrpSpPr/>
          <p:nvPr/>
        </p:nvGrpSpPr>
        <p:grpSpPr>
          <a:xfrm>
            <a:off x="2146320" y="3670200"/>
            <a:ext cx="1414440" cy="1408320"/>
            <a:chOff x="2146320" y="3670200"/>
            <a:chExt cx="1414440" cy="1408320"/>
          </a:xfrm>
        </p:grpSpPr>
        <p:pic>
          <p:nvPicPr>
            <p:cNvPr id="221" name="Скругленный прямоугольник 12" descr=""/>
            <p:cNvPicPr/>
            <p:nvPr/>
          </p:nvPicPr>
          <p:blipFill>
            <a:blip r:embed="rId10"/>
            <a:stretch/>
          </p:blipFill>
          <p:spPr>
            <a:xfrm>
              <a:off x="214632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278080" y="377676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Скругленный прямоугольник 13"/>
          <p:cNvGrpSpPr/>
          <p:nvPr/>
        </p:nvGrpSpPr>
        <p:grpSpPr>
          <a:xfrm>
            <a:off x="2146320" y="3670200"/>
            <a:ext cx="1414440" cy="1408320"/>
            <a:chOff x="2146320" y="3670200"/>
            <a:chExt cx="1414440" cy="1408320"/>
          </a:xfrm>
        </p:grpSpPr>
        <p:pic>
          <p:nvPicPr>
            <p:cNvPr id="224" name="Скругленный прямоугольник 13" descr=""/>
            <p:cNvPicPr/>
            <p:nvPr/>
          </p:nvPicPr>
          <p:blipFill>
            <a:blip r:embed="rId11"/>
            <a:stretch/>
          </p:blipFill>
          <p:spPr>
            <a:xfrm>
              <a:off x="2146320" y="3670200"/>
              <a:ext cx="14144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78080" y="377676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+ 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Скругленный прямоугольник 14"/>
          <p:cNvSpPr/>
          <p:nvPr/>
        </p:nvSpPr>
        <p:spPr>
          <a:xfrm>
            <a:off x="785880" y="37148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5"/>
          <p:cNvSpPr/>
          <p:nvPr/>
        </p:nvSpPr>
        <p:spPr>
          <a:xfrm>
            <a:off x="2214720" y="371484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Скругленный прямоугольник 16"/>
          <p:cNvGrpSpPr/>
          <p:nvPr/>
        </p:nvGrpSpPr>
        <p:grpSpPr>
          <a:xfrm>
            <a:off x="3578400" y="3670200"/>
            <a:ext cx="1407960" cy="1408320"/>
            <a:chOff x="3578400" y="3670200"/>
            <a:chExt cx="1407960" cy="1408320"/>
          </a:xfrm>
        </p:grpSpPr>
        <p:pic>
          <p:nvPicPr>
            <p:cNvPr id="229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3578400" y="3670200"/>
              <a:ext cx="14079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706920" y="377676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Скругленный прямоугольник 17"/>
          <p:cNvGrpSpPr/>
          <p:nvPr/>
        </p:nvGrpSpPr>
        <p:grpSpPr>
          <a:xfrm>
            <a:off x="3578400" y="3670200"/>
            <a:ext cx="1407960" cy="1408320"/>
            <a:chOff x="3578400" y="3670200"/>
            <a:chExt cx="1407960" cy="1408320"/>
          </a:xfrm>
        </p:grpSpPr>
        <p:pic>
          <p:nvPicPr>
            <p:cNvPr id="232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3578400" y="3670200"/>
              <a:ext cx="14079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706920" y="377676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- 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Скругленный прямоугольник 18"/>
          <p:cNvSpPr/>
          <p:nvPr/>
        </p:nvSpPr>
        <p:spPr>
          <a:xfrm>
            <a:off x="3643200" y="37148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Скругленный прямоугольник 19"/>
          <p:cNvGrpSpPr/>
          <p:nvPr/>
        </p:nvGrpSpPr>
        <p:grpSpPr>
          <a:xfrm>
            <a:off x="1504800" y="5102280"/>
            <a:ext cx="1414440" cy="1407960"/>
            <a:chOff x="1504800" y="5102280"/>
            <a:chExt cx="1414440" cy="1407960"/>
          </a:xfrm>
        </p:grpSpPr>
        <p:pic>
          <p:nvPicPr>
            <p:cNvPr id="236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1504800" y="51022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633680" y="52070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Скругленный прямоугольник 20"/>
          <p:cNvGrpSpPr/>
          <p:nvPr/>
        </p:nvGrpSpPr>
        <p:grpSpPr>
          <a:xfrm>
            <a:off x="1504800" y="5102280"/>
            <a:ext cx="1414440" cy="1407960"/>
            <a:chOff x="1504800" y="5102280"/>
            <a:chExt cx="1414440" cy="1407960"/>
          </a:xfrm>
        </p:grpSpPr>
        <p:pic>
          <p:nvPicPr>
            <p:cNvPr id="239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1504800" y="51022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633680" y="52070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Скругленный прямоугольник 21"/>
          <p:cNvSpPr/>
          <p:nvPr/>
        </p:nvSpPr>
        <p:spPr>
          <a:xfrm>
            <a:off x="1571760" y="514368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Скругленный прямоугольник 22"/>
          <p:cNvGrpSpPr/>
          <p:nvPr/>
        </p:nvGrpSpPr>
        <p:grpSpPr>
          <a:xfrm>
            <a:off x="2932200" y="5102280"/>
            <a:ext cx="1414440" cy="1407960"/>
            <a:chOff x="2932200" y="5102280"/>
            <a:chExt cx="1414440" cy="1407960"/>
          </a:xfrm>
        </p:grpSpPr>
        <p:pic>
          <p:nvPicPr>
            <p:cNvPr id="243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2932200" y="51022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063960" y="52070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Скругленный прямоугольник 23"/>
          <p:cNvGrpSpPr/>
          <p:nvPr/>
        </p:nvGrpSpPr>
        <p:grpSpPr>
          <a:xfrm>
            <a:off x="2932200" y="5102280"/>
            <a:ext cx="1414440" cy="1407960"/>
            <a:chOff x="2932200" y="5102280"/>
            <a:chExt cx="1414440" cy="1407960"/>
          </a:xfrm>
        </p:grpSpPr>
        <p:pic>
          <p:nvPicPr>
            <p:cNvPr id="246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2932200" y="5102280"/>
              <a:ext cx="14144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063960" y="52070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Скругленный прямоугольник 24"/>
          <p:cNvSpPr/>
          <p:nvPr/>
        </p:nvSpPr>
        <p:spPr>
          <a:xfrm>
            <a:off x="3000240" y="514368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5072040" y="4214880"/>
            <a:ext cx="3857760" cy="2357280"/>
            <a:chOff x="5072040" y="4214880"/>
            <a:chExt cx="3857760" cy="2357280"/>
          </a:xfrm>
        </p:grpSpPr>
        <p:pic>
          <p:nvPicPr>
            <p:cNvPr id="250" name="Picture 10" descr="29-1"/>
            <p:cNvPicPr/>
            <p:nvPr/>
          </p:nvPicPr>
          <p:blipFill>
            <a:blip r:embed="rId18"/>
            <a:stretch/>
          </p:blipFill>
          <p:spPr>
            <a:xfrm>
              <a:off x="6506640" y="4561560"/>
              <a:ext cx="13060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" descr="48"/>
            <p:cNvPicPr/>
            <p:nvPr/>
          </p:nvPicPr>
          <p:blipFill>
            <a:blip r:embed="rId19"/>
            <a:stretch/>
          </p:blipFill>
          <p:spPr>
            <a:xfrm>
              <a:off x="7718400" y="4264200"/>
              <a:ext cx="1211400" cy="23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2" descr="2"/>
            <p:cNvPicPr/>
            <p:nvPr/>
          </p:nvPicPr>
          <p:blipFill>
            <a:blip r:embed="rId20"/>
            <a:stretch/>
          </p:blipFill>
          <p:spPr>
            <a:xfrm>
              <a:off x="5072040" y="4214880"/>
              <a:ext cx="1390320" cy="22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15"/>
          <p:cNvPicPr/>
          <p:nvPr/>
        </p:nvPicPr>
        <p:blipFill>
          <a:blip r:embed="rId2"/>
          <a:stretch/>
        </p:blipFill>
        <p:spPr>
          <a:xfrm>
            <a:off x="468360" y="5084640"/>
            <a:ext cx="4689360" cy="100656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4"/>
          <p:cNvSpPr/>
          <p:nvPr/>
        </p:nvSpPr>
        <p:spPr>
          <a:xfrm>
            <a:off x="1332000" y="0"/>
            <a:ext cx="6264360" cy="2097000"/>
          </a:xfrm>
          <a:prstGeom prst="wedgeEllipseCallout">
            <a:avLst>
              <a:gd name="adj1" fmla="val -1671"/>
              <a:gd name="adj2" fmla="val 59009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Спасибо, 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Вы нам очень по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До новых встре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5"/>
          <p:cNvGrpSpPr/>
          <p:nvPr/>
        </p:nvGrpSpPr>
        <p:grpSpPr>
          <a:xfrm>
            <a:off x="971640" y="3733920"/>
            <a:ext cx="5795640" cy="3123720"/>
            <a:chOff x="971640" y="3733920"/>
            <a:chExt cx="5795640" cy="3123720"/>
          </a:xfrm>
        </p:grpSpPr>
        <p:pic>
          <p:nvPicPr>
            <p:cNvPr id="256" name="Picture 6" descr="29-1"/>
            <p:cNvPicPr/>
            <p:nvPr/>
          </p:nvPicPr>
          <p:blipFill>
            <a:blip r:embed="rId3"/>
            <a:stretch/>
          </p:blipFill>
          <p:spPr>
            <a:xfrm>
              <a:off x="3127320" y="4193640"/>
              <a:ext cx="1962360" cy="22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7" descr="48"/>
            <p:cNvPicPr/>
            <p:nvPr/>
          </p:nvPicPr>
          <p:blipFill>
            <a:blip r:embed="rId4"/>
            <a:stretch/>
          </p:blipFill>
          <p:spPr>
            <a:xfrm>
              <a:off x="4947480" y="3799080"/>
              <a:ext cx="1819800" cy="30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8" descr="2"/>
            <p:cNvPicPr/>
            <p:nvPr/>
          </p:nvPicPr>
          <p:blipFill>
            <a:blip r:embed="rId5"/>
            <a:stretch/>
          </p:blipFill>
          <p:spPr>
            <a:xfrm>
              <a:off x="971640" y="3733920"/>
              <a:ext cx="2088720" cy="2926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Motion origin="layout" path="M -0.01233 -0.05277 L -0.01233 -0.9868 E">
                                      <p:cBhvr>
                                        <p:cTn id="679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8:20:26Z</dcterms:created>
  <dc:creator>L. Lazareva</dc:creator>
  <dc:description/>
  <dc:language>en-US</dc:language>
  <cp:lastModifiedBy>L. Lazareva</cp:lastModifiedBy>
  <dcterms:modified xsi:type="dcterms:W3CDTF">2011-07-10T04:09:48Z</dcterms:modified>
  <cp:revision>13</cp:revision>
  <dc:subject/>
  <dc:title>1 klass</dc:title>
</cp:coreProperties>
</file>