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265-5F43-41B8-AD01-C445DE17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FCB-54BF-46B7-B4D5-DA78AB61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066-25CE-418A-B314-11F333FF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9D1-D851-47FB-8D18-8A71EAA1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6173-5EEF-4E2B-996F-F90BF1CC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F4C-4C31-474E-90AC-11ACC84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DE9C-0103-48D6-932B-A714B6B4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A7DE-DA86-4453-8D8B-D04657B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E9A8-0DCD-46AA-AE21-390BAF1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2D59-FCC8-42CB-B17E-0CBEB40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D112-5A55-4DED-A70D-33D1061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4A9-F5FA-40A3-854C-C3E35DA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7A23-DB48-42FB-9808-B2C2740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BAA8-5A96-433F-BD2D-976DBB7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CC3A-5D36-4C3A-9A7B-CE8A221C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8E7B-061B-472A-B550-B69F0E0C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8C8C-5E19-4986-AD18-0026C67B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745F-A5EC-4A25-A94B-10842E2B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6E92-C323-4EE0-8546-3773528B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9720-CBF9-4D3A-8DDD-3C43767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D10EF-31CC-4A70-BDF8-7BA9F8D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A402-0D21-4179-BC69-00F9AC25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5F8-C61E-442F-931A-6F4DAD2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3A72-155C-42D8-9D87-540BF64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D1D1-6332-4CBE-9CFC-8EC328D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379C-59F7-4C7C-921D-977B256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C92A-DC9F-4FC1-B908-713D4A8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4C93-E425-4F02-AF28-62907C19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E60E-5ECA-47CE-880F-E6DA3FD9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6122-32BE-4D6F-B74B-250928BD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ACE-46C4-4327-8A7B-41FAC54B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BEF-501D-4E7D-9CC6-BB2806C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09A-2AAA-4A8C-AACB-8C9FBBBB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38A-3B0B-4708-B7D1-24BDC37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1B6-DA8D-499B-AAFD-F7891E4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40E-D866-43F9-9207-2AA87FF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C80-49D1-44E3-B3BB-6BD66C799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CC74-B0B2-4F3D-AD7E-2DEB2F5D3B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54DD-259B-48E5-952E-EB34399FD6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granica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tatar.16206s024.edusite.ru/images/p1_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d.wmsite.ru/_mod_files/ce_images/arsk_0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03.olx.ru/ui/9/42/65/1287378994_129763765_1----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nfo.tatcenter.ru/images/article/drugoe-1kvartal2011/3cbf624270d2660be5831937c5a9daf0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stik68.narod.ru/rt/IMG_2520m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ld.ru/sites/default/files/images/0000.preview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ytatarstan.com/_ph/9/2/556054935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sportk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jpeg"/><Relationship Id="rId3" Type="http://schemas.openxmlformats.org/officeDocument/2006/relationships/slide" Target="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x_e7e9cfd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rodokk.ru/fotosmall.php?foto=city/Arsk_01.jpg&amp;w=5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02944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« Арская начальная общеобразовательная школа №3»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Й РОДНОЙ ГОРОД –АР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00720" y="522936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татарского языка и литературы  в начальных классах Закирова Гульшат Ками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Картинка 1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286080"/>
            <a:ext cx="2484360" cy="179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im6-tub-ru.yandex.net/i?id=317731967-60-72"/>
          <p:cNvPicPr/>
          <p:nvPr/>
        </p:nvPicPr>
        <p:blipFill>
          <a:blip r:embed="rId3"/>
          <a:stretch/>
        </p:blipFill>
        <p:spPr>
          <a:xfrm>
            <a:off x="212760" y="4005360"/>
            <a:ext cx="403524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Картинка 5 из 42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716280"/>
            <a:ext cx="41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ТКРЫТИЕ АСФАЛЬТНОГО ЗАВ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Картинка 9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74720"/>
            <a:ext cx="70581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ОМБИНАТ СТРОИТЕЛЬНЫХ МАТЕРИАЛ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2" descr="Картинка 6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916280"/>
            <a:ext cx="70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ЖЕЛЕЗНОДОРОЖНЫЙ ВОКЗА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mytatarstan.com/_ph/9/739122466.jpg"/>
          <p:cNvPicPr/>
          <p:nvPr/>
        </p:nvPicPr>
        <p:blipFill>
          <a:blip r:embed="rId1"/>
          <a:stretch/>
        </p:blipFill>
        <p:spPr>
          <a:xfrm>
            <a:off x="1116000" y="1305000"/>
            <a:ext cx="6624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НТЕРЕР ВОКЗАЛ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Фото интерьер ЖД фокзала Арс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1557360"/>
            <a:ext cx="36385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И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узей Г. Тукая                               Краеведческий муз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http://im6-tub-ru.yandex.net/i?id=356348919-36-72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324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Картинка 73 из 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628640"/>
            <a:ext cx="3840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Й ИСКУССТ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Картинка 32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459080"/>
            <a:ext cx="61930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КУЛЬТУР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2" descr="Картинка 2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6963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ПРАВОСУ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" descr="Картинка 70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57945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ПОРТИВНЫЙ КОМПЛЕК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2" descr="Картинка 28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2520"/>
            <a:ext cx="64818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СКАЯ БАШН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2" descr="http://content.foto.mail.ru/mail/romalaw-007/3614/i-363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2133720"/>
            <a:ext cx="3338640" cy="250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Фото без названия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1125360"/>
            <a:ext cx="3925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чего начинается Родина?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картинки в твоем букваре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хороших и верных товарищей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Живущих в соседнем дв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6" descr="Картинка 54 из 41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08280"/>
            <a:ext cx="5076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РКОВЬ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" descr="Картинка 9 из 4224"/>
          <p:cNvPicPr/>
          <p:nvPr/>
        </p:nvPicPr>
        <p:blipFill>
          <a:blip r:embed="rId1"/>
          <a:stretch/>
        </p:blipFill>
        <p:spPr>
          <a:xfrm>
            <a:off x="2484360" y="1844640"/>
            <a:ext cx="3382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НТРАЛЬНАЯ УЛИЦА ГО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2" descr="Картинка 5 из 4224"/>
          <p:cNvPicPr/>
          <p:nvPr/>
        </p:nvPicPr>
        <p:blipFill>
          <a:blip r:embed="rId1"/>
          <a:stretch/>
        </p:blipFill>
        <p:spPr>
          <a:xfrm>
            <a:off x="1042920" y="1844640"/>
            <a:ext cx="6765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АМЯТ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2" descr="http://content.foto.mail.ru/mail/romalaw-007/3614/p-3638.jpg"/>
          <p:cNvPicPr/>
          <p:nvPr/>
        </p:nvPicPr>
        <p:blipFill>
          <a:blip r:embed="rId1"/>
          <a:stretch/>
        </p:blipFill>
        <p:spPr>
          <a:xfrm>
            <a:off x="900000" y="1628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content.foto.mail.ru/mail/romalaw-007/3614/p-3640.jpg"/>
          <p:cNvPicPr/>
          <p:nvPr/>
        </p:nvPicPr>
        <p:blipFill>
          <a:blip r:embed="rId2"/>
          <a:stretch/>
        </p:blipFill>
        <p:spPr>
          <a:xfrm>
            <a:off x="5724360" y="1700280"/>
            <a:ext cx="2799000" cy="2800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content.foto.mail.ru/mail/romalaw-007/3614/p-3641.jpg"/>
          <p:cNvPicPr/>
          <p:nvPr/>
        </p:nvPicPr>
        <p:blipFill>
          <a:blip r:embed="rId3"/>
          <a:stretch/>
        </p:blipFill>
        <p:spPr>
          <a:xfrm>
            <a:off x="6084720" y="465300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content.foto.mail.ru/mail/romalaw-007/3614/p-3642.jpg"/>
          <p:cNvPicPr/>
          <p:nvPr/>
        </p:nvPicPr>
        <p:blipFill>
          <a:blip r:embed="rId4"/>
          <a:stretch/>
        </p:blipFill>
        <p:spPr>
          <a:xfrm>
            <a:off x="197964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Картинка 79 из 84"/>
          <p:cNvPicPr/>
          <p:nvPr/>
        </p:nvPicPr>
        <p:blipFill>
          <a:blip r:embed="rId5"/>
          <a:stretch/>
        </p:blipFill>
        <p:spPr>
          <a:xfrm>
            <a:off x="4033800" y="1663560"/>
            <a:ext cx="15462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 Арске открыт памятник Учител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2" descr="Картинка 1 из 64"/>
          <p:cNvPicPr/>
          <p:nvPr/>
        </p:nvPicPr>
        <p:blipFill>
          <a:blip r:embed="rId1"/>
          <a:stretch/>
        </p:blipFill>
        <p:spPr>
          <a:xfrm>
            <a:off x="1979640" y="191628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рский район – край великолепно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большие деревеньки, утопающие в зелени, ивы и березы, приветствующие путников ласковым шелестом листвы, журчание Казанки… В Арске ее исток, она здесь только набирает силу, ведь ее цель – столица Татарстана. Маленький ручеек, постепенно разрастаясь, петляет среди холмов – Казанка добежит до Каз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357280" y="3929040"/>
            <a:ext cx="5000760" cy="235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Третья остановка. Рекламная пауз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смотр видеоролика « Отдых в городе Арс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55800" y="2135160"/>
            <a:ext cx="5716440" cy="415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Четвертая остановка. Великие и знаменитые люди моего района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дивительно, что именно эта земля является родиной великого татарского поэта, создателя татарского литературного языка. Габдулла Тукай, «татарский Пушкин», родился в семье приходского муллы в небольшом селении Кушлауч, что располагается совсем недалеко от Арс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. Тукай ( 1886 – 1913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286680" y="3286080"/>
            <a:ext cx="2357280" cy="299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2" descr="Картинка 6 из 35"/>
          <p:cNvPicPr/>
          <p:nvPr/>
        </p:nvPicPr>
        <p:blipFill>
          <a:blip r:embed="rId1"/>
          <a:stretch/>
        </p:blipFill>
        <p:spPr>
          <a:xfrm>
            <a:off x="1643040" y="-1440"/>
            <a:ext cx="62866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ИСАТЕЛИ И ПОЭТЫ АРСКОГО РАЙО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" descr="Картинка 71 из 84"/>
          <p:cNvPicPr/>
          <p:nvPr/>
        </p:nvPicPr>
        <p:blipFill>
          <a:blip r:embed="rId1"/>
          <a:stretch/>
        </p:blipFill>
        <p:spPr>
          <a:xfrm>
            <a:off x="755640" y="1773360"/>
            <a:ext cx="1847880" cy="251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Картинка 26 из 82"/>
          <p:cNvPicPr/>
          <p:nvPr/>
        </p:nvPicPr>
        <p:blipFill>
          <a:blip r:embed="rId2"/>
          <a:stretch/>
        </p:blipFill>
        <p:spPr>
          <a:xfrm>
            <a:off x="3492360" y="184464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Картинка 39 из 50"/>
          <p:cNvPicPr/>
          <p:nvPr/>
        </p:nvPicPr>
        <p:blipFill>
          <a:blip r:embed="rId3"/>
          <a:stretch/>
        </p:blipFill>
        <p:spPr>
          <a:xfrm>
            <a:off x="6084720" y="1844640"/>
            <a:ext cx="229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точ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826920" y="184464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900000" y="256536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2.Города России. Энциклопедия — М.: Большая Российская Энциклопедия. И. Кондратьева. 1994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р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Арск, административный центр Арского муниципального района Татарстана, расположен на берегу реки Казанка, в 60 км от столицы республики. В ней на данный момент проживает 20 тысяч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4323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остановка « История го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389480" y="9036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Картинка 35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421000"/>
            <a:ext cx="3000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ТЕШЕСТВИЕ ПО АРСКОМУ РАЙОНУ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429600" cy="43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 Арск был основан в средневековье как пограничная крепость форп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Users\Гульшат Закирова\Pictures\630b7478ce28.jpg"/>
          <p:cNvPicPr/>
          <p:nvPr/>
        </p:nvPicPr>
        <p:blipFill>
          <a:blip r:embed="rId1"/>
          <a:stretch/>
        </p:blipFill>
        <p:spPr>
          <a:xfrm>
            <a:off x="900000" y="1484280"/>
            <a:ext cx="7142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Арские земли – древнейшие в Казанском ханстве. Когда-то именно здесь, на живописном берегу реки Казанка, размещались личные владения казанских правителей и знати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C:\Users\Гульшат Закирова\Pictures\8653fed0340et.jpg"/>
          <p:cNvPicPr/>
          <p:nvPr/>
        </p:nvPicPr>
        <p:blipFill>
          <a:blip r:embed="rId1"/>
          <a:stretch/>
        </p:blipFill>
        <p:spPr>
          <a:xfrm>
            <a:off x="1042920" y="1484280"/>
            <a:ext cx="6980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ерб и флаг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йма, выполненная из хлебных колосьев и цветков астры обозначает сельское хозяйство - основу современной экономики района. Астра олицетворяет солнце и долголетие. Серебро - символ чистоты, совершенства, благополучия, мира и взаимопонимания. Золото - символ урожая, богатства, стабильности, интеллекта и уважения. Зелёный цвет - символ природы, здоровья, жизненн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C:\Users\Гульшат Закирова\Pictures\герб.jpg"/>
          <p:cNvPicPr/>
          <p:nvPr/>
        </p:nvPicPr>
        <p:blipFill>
          <a:blip r:embed="rId1"/>
          <a:stretch/>
        </p:blipFill>
        <p:spPr>
          <a:xfrm>
            <a:off x="1332000" y="314172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Гульшат Закирова\Pictures\флаг.jpg"/>
          <p:cNvPicPr/>
          <p:nvPr/>
        </p:nvPicPr>
        <p:blipFill>
          <a:blip r:embed="rId2"/>
          <a:stretch/>
        </p:blipFill>
        <p:spPr>
          <a:xfrm>
            <a:off x="5076720" y="3645000"/>
            <a:ext cx="3527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rcRect l="0" t="0" r="0" b="10772"/>
          <a:stretch/>
        </p:blipFill>
        <p:spPr>
          <a:xfrm>
            <a:off x="857160" y="3714840"/>
            <a:ext cx="3786120" cy="23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4210200" y="1631880"/>
            <a:ext cx="4219560" cy="251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3860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aspksbit.narod2.ru/ASPK.jpg?rand=72902794736858"/>
          <p:cNvPicPr/>
          <p:nvPr/>
        </p:nvPicPr>
        <p:blipFill>
          <a:blip r:embed="rId1"/>
          <a:stretch/>
        </p:blipFill>
        <p:spPr>
          <a:xfrm>
            <a:off x="826920" y="2637000"/>
            <a:ext cx="7480440" cy="360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85760" y="1518840"/>
            <a:ext cx="78098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пи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АО "АСП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31:33Z</dcterms:created>
  <dc:creator>Admin</dc:creator>
  <dc:description/>
  <dc:language>en-US</dc:language>
  <cp:lastModifiedBy>Закиров Булат Рафаэлевич</cp:lastModifiedBy>
  <dcterms:modified xsi:type="dcterms:W3CDTF">2011-10-28T09:56:12Z</dcterms:modified>
  <cp:revision>32</cp:revision>
  <dc:subject/>
  <dc:title>Слайд 1</dc:title>
</cp:coreProperties>
</file>