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F8A5-BB61-40F1-97ED-C968BFDF8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0EE3-0B98-41D7-A096-34A26C2EA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BB96-4D20-400B-82A9-784CF4583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AF51-9D48-4F87-8AD9-E93596505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4652D-E78F-4005-950C-764733613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38A55-072C-4DD3-AC7F-A26B6D00E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8FEA7-0204-4882-BE9B-E71C4248D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7674A-5396-4626-AC01-04CB504A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A39A1-1CDE-4A91-BAE2-7A11F171D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02271-0DB7-43EE-AE2C-65AFAE2B1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81DAE-1C0D-4661-928C-5A35D29F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9694-BA0B-4E90-BAF7-02AA8280A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25C50-B4A8-48DE-B588-0F301433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23F22-8020-4897-871F-4998ED39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687E3-70F0-4CC5-8786-845AA712D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94FE4-9847-4102-AB40-F4C6E7985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F9EE8-E025-4481-82CF-EDBE47DAD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45F1C-9190-4682-B1B6-7FAE1501C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1C5BA-9239-4AD6-B85F-A99C7D40E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1F0FD-C775-4315-A077-1F6F0C759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4E144-E091-428F-A1C2-42CDECE21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0F9A9-E56C-497B-9753-20266BB38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B75E-2524-48BB-B915-1D0994E52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D1A1E-A13E-41CF-B532-E8F984245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4A513-FF6B-48CE-8651-22090285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CE7E9-314E-4640-BA4D-3A9ACDCA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7DAEF-C278-4551-A403-00883BB8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198C8-6E8A-4B7C-A5F6-2A6A4D640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BC6A3-6715-4B68-81F5-0A1CA8464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F72FC-D161-4FF2-B144-389E0F92A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96B3-E459-4A14-A731-7E07B2F53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F77A-1526-4B0C-B8EB-3221A28EB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EAFF-A3BE-41CD-AB5E-0CB0FD2AD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2C68-E867-4360-A4B9-73380886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1DFE-4D63-4B60-A2D0-110F11E5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14A1-FA8B-4835-9958-B884EE91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A0994-E2C0-4887-BA48-948515280E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2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E2779-7E43-48F6-8BA5-636F17124F41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86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50CBC-9EAD-4ECD-81D8-555BCF1768E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arskmedia.ru/wp-content/uploads/2010/09/granica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tatar.16206s024.edusite.ru/images/p1_1.jpg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led.wmsite.ru/_mod_files/ce_images/arsk_01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03.olx.ru/ui/9/42/65/1287378994_129763765_1----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info.tatcenter.ru/images/article/drugoe-1kvartal2011/3cbf624270d2660be5831937c5a9daf0.jpg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rustik68.narod.ru/rt/IMG_2520m.jp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yold.ru/sites/default/files/images/0000.preview.jpg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mytatarstan.com/_ph/9/2/556054935.jpg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arskmedia.ru/wp-content/uploads/2010/09/sportk.JPG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4.jpeg"/><Relationship Id="rId3" Type="http://schemas.openxmlformats.org/officeDocument/2006/relationships/slide" Target="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arskmedia.ru/wp-content/uploads/2010/09/x_e7e9cfdb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rodokk.ru/fotosmall.php?foto=city/Arsk_01.jpg&amp;w=500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029440" cy="35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БОУ « Арская начальная общеобразовательная школа №3»</a:t>
            </a:r>
            <a:br>
              <a:rPr sz="2000"/>
            </a:br>
            <a:br>
              <a:rPr sz="20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ОЙ РОДНОЙ ГОРОД –АРС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00720" y="5229360"/>
            <a:ext cx="42480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готовила учитель татарского языка и литературы  в начальных классах Закирова Гульшат Камил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Картинка 13 из 42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3286080"/>
            <a:ext cx="2484360" cy="1793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http://im6-tub-ru.yandex.net/i?id=317731967-60-72"/>
          <p:cNvPicPr/>
          <p:nvPr/>
        </p:nvPicPr>
        <p:blipFill>
          <a:blip r:embed="rId3"/>
          <a:stretch/>
        </p:blipFill>
        <p:spPr>
          <a:xfrm>
            <a:off x="212760" y="4005360"/>
            <a:ext cx="4035240" cy="2232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Картинка 5 из 422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0920" y="3716280"/>
            <a:ext cx="417672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ОТКРЫТИЕ АСФАЛЬТНОГО ЗАВОД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2" descr="Картинка 99 из 42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674720"/>
            <a:ext cx="7058160" cy="44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КОМБИНАТ СТРОИТЕЛЬНЫХ МАТЕРИАЛОВ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2" descr="Картинка 63 из 42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1916280"/>
            <a:ext cx="70563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ЖЕЛЕЗНОДОРОЖНЫЙ ВОКЗАЛ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2" descr="http://www.mytatarstan.com/_ph/9/739122466.jpg"/>
          <p:cNvPicPr/>
          <p:nvPr/>
        </p:nvPicPr>
        <p:blipFill>
          <a:blip r:embed="rId1"/>
          <a:stretch/>
        </p:blipFill>
        <p:spPr>
          <a:xfrm>
            <a:off x="1116000" y="1305000"/>
            <a:ext cx="662472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ИНТЕРЕР ВОКЗАЛ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Picture 2" descr="Фото интерьер ЖД фокзала Арск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916360" y="1557360"/>
            <a:ext cx="363852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МУЗЕИ АРСК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узей Г. Тукая                               Краеведческий муз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2" descr="http://im6-tub-ru.yandex.net/i?id=356348919-36-72"/>
          <p:cNvPicPr/>
          <p:nvPr/>
        </p:nvPicPr>
        <p:blipFill>
          <a:blip r:embed="rId1"/>
          <a:stretch/>
        </p:blipFill>
        <p:spPr>
          <a:xfrm>
            <a:off x="468360" y="1628640"/>
            <a:ext cx="3527280" cy="32403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Картинка 73 из 8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0" y="1628640"/>
            <a:ext cx="384012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МУЗЕЙ ИСКУССТВ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3" descr="Картинка 32 из 42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03280" y="1459080"/>
            <a:ext cx="619308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ДОМ КУЛЬТУРЫ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Picture 2" descr="Картинка 29 из 42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557360"/>
            <a:ext cx="696312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ДОМ ПРАВОСУДИЯ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Picture 2" descr="Картинка 70 из 42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6360" y="1773360"/>
            <a:ext cx="5794560" cy="43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СПОРТИВНЫЙ КОМПЛЕКС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Picture 2" descr="Картинка 28 из 42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1622520"/>
            <a:ext cx="6481800" cy="43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ГОРОДСКАЯ БАШНЯ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Picture 2" descr="http://content.foto.mail.ru/mail/romalaw-007/3614/i-3637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6920" y="2133720"/>
            <a:ext cx="3338640" cy="25034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Фото без названия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572000" y="1125360"/>
            <a:ext cx="392580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54900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С чего начинается Родина?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С картинки в твоем букваре,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С хороших и верных товарищей,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Живущих в соседнем двор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6" descr="Картинка 54 из 419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35280" y="2708280"/>
            <a:ext cx="50767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ЦЕРКОВЬ АРСК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Picture 2" descr="Картинка 9 из 4224"/>
          <p:cNvPicPr/>
          <p:nvPr/>
        </p:nvPicPr>
        <p:blipFill>
          <a:blip r:embed="rId1"/>
          <a:stretch/>
        </p:blipFill>
        <p:spPr>
          <a:xfrm>
            <a:off x="2484360" y="1844640"/>
            <a:ext cx="33829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ЦЕНТРАЛЬНАЯ УЛИЦА ГОРОД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Picture 2" descr="Картинка 5 из 4224"/>
          <p:cNvPicPr/>
          <p:nvPr/>
        </p:nvPicPr>
        <p:blipFill>
          <a:blip r:embed="rId1"/>
          <a:stretch/>
        </p:blipFill>
        <p:spPr>
          <a:xfrm>
            <a:off x="1042920" y="1844640"/>
            <a:ext cx="676584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ПАМЯТНИКИ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4" name="Picture 2" descr="http://content.foto.mail.ru/mail/romalaw-007/3614/p-3638.jpg"/>
          <p:cNvPicPr/>
          <p:nvPr/>
        </p:nvPicPr>
        <p:blipFill>
          <a:blip r:embed="rId1"/>
          <a:stretch/>
        </p:blipFill>
        <p:spPr>
          <a:xfrm>
            <a:off x="900000" y="1628640"/>
            <a:ext cx="3095640" cy="3095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http://content.foto.mail.ru/mail/romalaw-007/3614/p-3640.jpg"/>
          <p:cNvPicPr/>
          <p:nvPr/>
        </p:nvPicPr>
        <p:blipFill>
          <a:blip r:embed="rId2"/>
          <a:stretch/>
        </p:blipFill>
        <p:spPr>
          <a:xfrm>
            <a:off x="5724360" y="1700280"/>
            <a:ext cx="2799000" cy="28004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http://content.foto.mail.ru/mail/romalaw-007/3614/p-3641.jpg"/>
          <p:cNvPicPr/>
          <p:nvPr/>
        </p:nvPicPr>
        <p:blipFill>
          <a:blip r:embed="rId3"/>
          <a:stretch/>
        </p:blipFill>
        <p:spPr>
          <a:xfrm>
            <a:off x="6084720" y="4653000"/>
            <a:ext cx="1943280" cy="19447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http://content.foto.mail.ru/mail/romalaw-007/3614/p-3642.jpg"/>
          <p:cNvPicPr/>
          <p:nvPr/>
        </p:nvPicPr>
        <p:blipFill>
          <a:blip r:embed="rId4"/>
          <a:stretch/>
        </p:blipFill>
        <p:spPr>
          <a:xfrm>
            <a:off x="1979640" y="498636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Картинка 79 из 84"/>
          <p:cNvPicPr/>
          <p:nvPr/>
        </p:nvPicPr>
        <p:blipFill>
          <a:blip r:embed="rId5"/>
          <a:stretch/>
        </p:blipFill>
        <p:spPr>
          <a:xfrm>
            <a:off x="4033800" y="1663560"/>
            <a:ext cx="154620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В Арске открыт памятник Учителю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1" name="Picture 2" descr="Картинка 1 из 64"/>
          <p:cNvPicPr/>
          <p:nvPr/>
        </p:nvPicPr>
        <p:blipFill>
          <a:blip r:embed="rId1"/>
          <a:stretch/>
        </p:blipFill>
        <p:spPr>
          <a:xfrm>
            <a:off x="1979640" y="1916280"/>
            <a:ext cx="5076720" cy="38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Арский район – край великолепной природ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большие деревеньки, утопающие в зелени, ивы и березы, приветствующие путников ласковым шелестом листвы, журчание Казанки… В Арске ее исток, она здесь только набирает силу, ведь ее цель – столица Татарстана. Маленький ручеек, постепенно разрастаясь, петляет среди холмов – Казанка добежит до Казан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2357280" y="3929040"/>
            <a:ext cx="5000760" cy="2357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Третья остановка. Рекламная пауза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071720"/>
            <a:ext cx="8229600" cy="50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Просмотр видеоролика « Отдых в городе Арске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7" name="Picture 1" descr=""/>
          <p:cNvPicPr/>
          <p:nvPr/>
        </p:nvPicPr>
        <p:blipFill>
          <a:blip r:embed="rId1"/>
          <a:stretch/>
        </p:blipFill>
        <p:spPr>
          <a:xfrm>
            <a:off x="1855800" y="2135160"/>
            <a:ext cx="5716440" cy="4151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Четвертая остановка. Великие и знаменитые люди моего района.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285560"/>
            <a:ext cx="82296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удивительно, что именно эта земля является родиной великого татарского поэта, создателя татарского литературного языка. Габдулла Тукай, «татарский Пушкин», родился в семье приходского муллы в небольшом селении Кушлауч, что располагается совсем недалеко от Арск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Г. Тукай ( 1886 – 1913 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6286680" y="3286080"/>
            <a:ext cx="2357280" cy="29908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Picture 2" descr="Картинка 6 из 35"/>
          <p:cNvPicPr/>
          <p:nvPr/>
        </p:nvPicPr>
        <p:blipFill>
          <a:blip r:embed="rId1"/>
          <a:stretch/>
        </p:blipFill>
        <p:spPr>
          <a:xfrm>
            <a:off x="1643040" y="-1440"/>
            <a:ext cx="628668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ПИСАТЕЛИ И ПОЭТЫ АРСКОГО РАЙОН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6" name="Picture 2" descr="Картинка 71 из 84"/>
          <p:cNvPicPr/>
          <p:nvPr/>
        </p:nvPicPr>
        <p:blipFill>
          <a:blip r:embed="rId1"/>
          <a:stretch/>
        </p:blipFill>
        <p:spPr>
          <a:xfrm>
            <a:off x="755640" y="1773360"/>
            <a:ext cx="1847880" cy="25128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Картинка 26 из 82"/>
          <p:cNvPicPr/>
          <p:nvPr/>
        </p:nvPicPr>
        <p:blipFill>
          <a:blip r:embed="rId2"/>
          <a:stretch/>
        </p:blipFill>
        <p:spPr>
          <a:xfrm>
            <a:off x="3492360" y="1844640"/>
            <a:ext cx="1878120" cy="2448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Картинка 39 из 50"/>
          <p:cNvPicPr/>
          <p:nvPr/>
        </p:nvPicPr>
        <p:blipFill>
          <a:blip r:embed="rId3"/>
          <a:stretch/>
        </p:blipFill>
        <p:spPr>
          <a:xfrm>
            <a:off x="6084720" y="1844640"/>
            <a:ext cx="22924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Источники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Прямоугольник 3"/>
          <p:cNvSpPr/>
          <p:nvPr/>
        </p:nvSpPr>
        <p:spPr>
          <a:xfrm>
            <a:off x="826920" y="1844640"/>
            <a:ext cx="595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http://yandex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4"/>
          <p:cNvSpPr/>
          <p:nvPr/>
        </p:nvSpPr>
        <p:spPr>
          <a:xfrm>
            <a:off x="900000" y="2565360"/>
            <a:ext cx="59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2.Города России. Энциклопедия — М.: Большая Российская Энциклопедия. И. Кондратьева. 1994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4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Город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 Арск, административный центр Арского муниципального района Татарстана, расположен на берегу реки Казанка, в 60 км от столицы республики. В ней на данный момент проживает 20 тысяч человек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1476360" y="432360"/>
            <a:ext cx="60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Первая остановка « История город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4389480" y="90360"/>
            <a:ext cx="36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Картинка 35 из 42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16360" y="2421000"/>
            <a:ext cx="300024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ПУТЕШЕСТВИЕ ПО АРСКОМУ РАЙОНУ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1357200" y="1785960"/>
            <a:ext cx="6429600" cy="4329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Город Арск был основан в средневековье как пограничная крепость форпост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2" descr="C:\Users\Гульшат Закирова\Pictures\630b7478ce28.jpg"/>
          <p:cNvPicPr/>
          <p:nvPr/>
        </p:nvPicPr>
        <p:blipFill>
          <a:blip r:embed="rId1"/>
          <a:stretch/>
        </p:blipFill>
        <p:spPr>
          <a:xfrm>
            <a:off x="900000" y="1484280"/>
            <a:ext cx="714240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ahoma"/>
              </a:rPr>
              <a:t>Арские земли – древнейшие в Казанском ханстве. Когда-то именно здесь, на живописном берегу реки Казанка, размещались личные владения казанских правителей и знати. 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2" descr="C:\Users\Гульшат Закирова\Pictures\8653fed0340et.jpg"/>
          <p:cNvPicPr/>
          <p:nvPr/>
        </p:nvPicPr>
        <p:blipFill>
          <a:blip r:embed="rId1"/>
          <a:stretch/>
        </p:blipFill>
        <p:spPr>
          <a:xfrm>
            <a:off x="1042920" y="1484280"/>
            <a:ext cx="698040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Герб и флаг Арск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76500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йма, выполненная из хлебных колосьев и цветков астры обозначает сельское хозяйство - основу современной экономики района. Астра олицетворяет солнце и долголетие. Серебро - символ чистоты, совершенства, благополучия, мира и взаимопонимания. Золото - символ урожая, богатства, стабильности, интеллекта и уважения. Зелёный цвет - символ природы, здоровья, жизненного рос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2" descr="C:\Users\Гульшат Закирова\Pictures\герб.jpg"/>
          <p:cNvPicPr/>
          <p:nvPr/>
        </p:nvPicPr>
        <p:blipFill>
          <a:blip r:embed="rId1"/>
          <a:stretch/>
        </p:blipFill>
        <p:spPr>
          <a:xfrm>
            <a:off x="1332000" y="3141720"/>
            <a:ext cx="2438280" cy="32511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C:\Users\Гульшат Закирова\Pictures\флаг.jpg"/>
          <p:cNvPicPr/>
          <p:nvPr/>
        </p:nvPicPr>
        <p:blipFill>
          <a:blip r:embed="rId2"/>
          <a:stretch/>
        </p:blipFill>
        <p:spPr>
          <a:xfrm>
            <a:off x="5076720" y="3645000"/>
            <a:ext cx="352764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Вторая остановка « Достопримечательности моего города»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1" descr=""/>
          <p:cNvPicPr/>
          <p:nvPr/>
        </p:nvPicPr>
        <p:blipFill>
          <a:blip r:embed="rId1"/>
          <a:srcRect l="0" t="0" r="0" b="10772"/>
          <a:stretch/>
        </p:blipFill>
        <p:spPr>
          <a:xfrm>
            <a:off x="857160" y="3714840"/>
            <a:ext cx="3786120" cy="2357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58" name="Picture 2" descr=""/>
          <p:cNvPicPr/>
          <p:nvPr/>
        </p:nvPicPr>
        <p:blipFill>
          <a:blip r:embed="rId2"/>
          <a:stretch/>
        </p:blipFill>
        <p:spPr>
          <a:xfrm>
            <a:off x="4210200" y="1631880"/>
            <a:ext cx="4219560" cy="2511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Вторая остановка « Достопримечательности моего города»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95280" y="134100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tt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79280" y="3860640"/>
            <a:ext cx="878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http://aspksbit.narod2.ru/ASPK.jpg?rand=72902794736858"/>
          <p:cNvPicPr/>
          <p:nvPr/>
        </p:nvPicPr>
        <p:blipFill>
          <a:blip r:embed="rId1"/>
          <a:stretch/>
        </p:blipFill>
        <p:spPr>
          <a:xfrm>
            <a:off x="826920" y="2637000"/>
            <a:ext cx="7480440" cy="360036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7"/>
          <p:cNvSpPr/>
          <p:nvPr/>
        </p:nvSpPr>
        <p:spPr>
          <a:xfrm>
            <a:off x="185760" y="1518840"/>
            <a:ext cx="7809840" cy="10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31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ск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ирпич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во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ОАО "АСПК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4T17:31:33Z</dcterms:created>
  <dc:creator>Admin</dc:creator>
  <dc:description/>
  <dc:language>en-US</dc:language>
  <cp:lastModifiedBy>Закиров Булат Рафаэлевич</cp:lastModifiedBy>
  <dcterms:modified xsi:type="dcterms:W3CDTF">2011-10-28T09:56:12Z</dcterms:modified>
  <cp:revision>32</cp:revision>
  <dc:subject/>
  <dc:title>Слайд 1</dc:title>
</cp:coreProperties>
</file>