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2C2F-90F0-4166-B867-895AAE6F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1D72-CCBD-4FE9-AD63-BA257F46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1CD8-5081-413B-AF65-C01FBFF0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0024-F422-43F5-9935-FF41425E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5E1B-89D0-4EA6-B166-B7F60401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EA16-BEC5-4DBC-B0D6-72B0D0DC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F764-5631-4A25-8429-9A9E0437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B977-98F3-4AF9-9548-0F9CE668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1DBC-8C12-488F-B595-3B053589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068D-8BF2-40F4-82A2-460C0A05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140A-8C1E-49C3-ADD9-129B1AB6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2A17-AA91-48C7-84A4-19E0031A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E33F-6BE8-468F-AA59-B8449528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AB28-1E13-4D28-AA1F-065C94C2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F18E-631D-4999-A81A-C810BFC6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3881-9D1C-46AB-BA22-3004F75B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B532-58AD-41B6-8620-24F8E2EC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8C0A-8059-4A46-A045-54B7EC43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B5D0-1D3D-47B9-8F97-A9A88FDD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4F6A-3832-48C2-838D-48ECDDCB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733D-206C-431B-AD65-084D42CB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2E7C-28BC-4D44-8908-E66A8159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C822-5546-4B2D-AA90-43C99417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43CF-45D8-4C03-8626-EA9F6707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FABD-7152-423B-9883-F5F00A7AAA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3D7C-F657-4D12-A35C-CC790574AB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Народоведение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втор: учитель начальных классов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лищук Ирина Анатолье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ОУСОШ №2 пХвойна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емы 2 года обуч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естьянские традиции  18 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ша Новгородская земля 16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пирком, да по праздникам  14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мыслы Новгородчины   18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емы 3 года обуч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ировое древо славян   10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Жилище славян    8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ядение и ткачество   12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дежда славян   18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ружие славян        16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Народоведение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Любовь к Отечеству дает воспитанию верный ключ к сердцу человека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.Д.Ушинск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Цел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вивать интерес к русской культуре и её традиция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знакомить с историей развития славянского народа и Новгородского кра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вивать у детей творческие способности в области прикладного искус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дач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знакомить с историей славянского народа, их жизнью и бытом, местом в этой истории Новгородского кра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оспитывать уважение к своему народу, его традициям, культур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вивать умения самостоятельно создавать изделия народных промысл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Знания, умения и навыки  1 год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личать малые разделы русского фолькло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меть величать свою семь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воить практические умения по изготовлению глиняной игруш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полнить поисковую работу по заданной тем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Знания, умения и навыки 2 год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олжны знать исторические места Новгородской обла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риентироваться в традиционных христианских праздник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меть организовать игру, хоров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владеть навыком плетения из бересты, лоскутной техник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полнять народные пес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Знания, умения и навыки 3 год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нать исторические основы о древних славян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радиции построения жилища славя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риентироваться в одежде и оружии славя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амостоятельно изготавливать предметы одежды и оружия славя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езультаты курс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00200"/>
          <a:ext cx="8229600" cy="5192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ширился ли кругозор детей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мог ли курс сплочению родителей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мог ли курс сплочению семьи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а  1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  1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зна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емы 1 года обуч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алые разделы русского фольклора 14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ристианские праздники 12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емья великая  10 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ысяча предметов в доме. Откуда они?  28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7:12:08Z</dcterms:created>
  <dc:creator>User</dc:creator>
  <dc:description/>
  <dc:language>en-US</dc:language>
  <cp:lastModifiedBy>User</cp:lastModifiedBy>
  <dcterms:modified xsi:type="dcterms:W3CDTF">2007-02-21T17:02:47Z</dcterms:modified>
  <cp:revision>4</cp:revision>
  <dc:subject/>
  <dc:title>Народоведение</dc:title>
</cp:coreProperties>
</file>