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F28-2D66-4B69-949B-4BDBE5C9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235-C0DB-41F8-B155-A2A1D11A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768-9925-411E-A106-5548A03F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AD2-41ED-4F8D-AD59-B517646A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8E8D-16B6-483A-8D07-5D304128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B31A-4266-4A6C-AA8C-DF60F996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9FB9-3014-4FB0-A594-D9FF88D8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F617-285A-48AC-A0FB-5412799E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D610-E588-4A0E-A322-854058C5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9E17-CC2E-438A-810B-4B9E1132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0B9F-593E-4E6D-AADD-C41A98EB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D04-C8A1-49D1-BF86-EC33DC3B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9027-F10E-4729-932E-2D454513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AD78-B621-4FF0-8DA3-E1E24E2D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429E-5BDC-4AE6-9D6D-13607CDF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2666-D3E5-4E14-BF86-CFB1A057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D558-6621-4FD1-8F9E-3F457407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F29-A3F2-4097-965A-5C2EC407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9A5-ACBC-4329-9F04-ED51A1F8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715-7AA5-41DA-9018-1E58E316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2E7-F635-4E82-B60D-E25F9083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189-3B67-4A9B-BE47-7801A33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C22-3AE7-4C87-8A95-49A18102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81D-FE6D-436A-AB74-82997C29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99DF-8DDD-431B-BDFF-CEFBF9E23A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8418-7A71-443D-893E-7F74DC0D48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6;&#1085;&#1077;&#1090;&#1080;&#1082;&#1072;" TargetMode="External"/><Relationship Id="rId2" Type="http://schemas.openxmlformats.org/officeDocument/2006/relationships/hyperlink" Target="http://ru.wikipedia.org/wiki/&#1051;&#1077;&#1082;&#1089;&#1080;&#1082;&#1072;" TargetMode="External"/><Relationship Id="rId3" Type="http://schemas.openxmlformats.org/officeDocument/2006/relationships/hyperlink" Target="http://ru.wikipedia.org/wiki/&#1043;&#1088;&#1072;&#1084;&#1084;&#1072;&#1090;&#1080;&#1095;&#1077;&#1089;&#1082;&#1080;&#1081;_&#1089;&#1090;&#1088;&#1086;&#1081;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765000"/>
            <a:ext cx="6985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ff"/>
                </a:solidFill>
                <a:latin typeface="Arial"/>
              </a:rPr>
              <a:t>Работа психологической службы с детьми логопедических груп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2920" y="2707920"/>
            <a:ext cx="6264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ff"/>
                </a:solidFill>
                <a:latin typeface="Verdana"/>
              </a:rPr>
              <a:t>МБДОУ</a:t>
            </a:r>
            <a:r>
              <a:rPr b="0" i="1" lang="ru-RU" sz="3600" spc="-1" strike="noStrike">
                <a:solidFill>
                  <a:srgbClr val="ff99ff"/>
                </a:solidFill>
                <a:latin typeface="Verdana"/>
              </a:rPr>
              <a:t> </a:t>
            </a:r>
            <a:r>
              <a:rPr b="0" i="1" lang="ru-RU" sz="3600" spc="-1" strike="noStrike">
                <a:solidFill>
                  <a:srgbClr val="ff66ff"/>
                </a:solidFill>
                <a:latin typeface="Verdana"/>
              </a:rPr>
              <a:t>комбинированного вида детский сад № 14 «Дельфинята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ff"/>
                </a:solidFill>
                <a:latin typeface="Verdana"/>
              </a:rPr>
              <a:t>г.Коломна, Московская обла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ff"/>
                </a:solidFill>
                <a:latin typeface="Times New Roman"/>
              </a:rPr>
              <a:t>Уровень развития психических процессов у детей старших групп (2) (психодиагностика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4680" y="1847880"/>
          <a:ext cx="567684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847880"/>
                    <a:ext cx="567684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Параметры обследования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низкий уровень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809640" indent="0">
              <a:spcBef>
                <a:spcPts val="1001"/>
              </a:spcBef>
              <a:buNone/>
              <a:tabLst>
                <a:tab algn="l" pos="0"/>
                <a:tab algn="l" pos="266760"/>
                <a:tab algn="l" pos="99072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Моторика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4" marL="809640" indent="0">
              <a:spcBef>
                <a:spcPts val="1001"/>
              </a:spcBef>
              <a:buNone/>
              <a:tabLst>
                <a:tab algn="l" pos="0"/>
                <a:tab algn="l" pos="266760"/>
                <a:tab algn="l" pos="99072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4" marL="809640" indent="0">
              <a:spcBef>
                <a:spcPts val="1001"/>
              </a:spcBef>
              <a:buNone/>
              <a:tabLst>
                <a:tab algn="l" pos="0"/>
                <a:tab algn="l" pos="266760"/>
                <a:tab algn="l" pos="99072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Мышление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4" marL="809640" indent="0">
              <a:spcBef>
                <a:spcPts val="1001"/>
              </a:spcBef>
              <a:buNone/>
              <a:tabLst>
                <a:tab algn="l" pos="0"/>
                <a:tab algn="l" pos="266760"/>
                <a:tab algn="l" pos="99072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Воображ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ff"/>
                </a:solidFill>
                <a:latin typeface="Arial"/>
              </a:rPr>
              <a:t>Развивающая и коррекционная рабо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7128000" y="2349360"/>
            <a:ext cx="201600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Слуховые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Неречевой сл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Речевой слух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фонематическ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восприят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16000" y="1916280"/>
            <a:ext cx="1871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1557360"/>
            <a:ext cx="2374920" cy="43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Verdana"/>
              </a:rPr>
              <a:t>Логоп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349360"/>
            <a:ext cx="262728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Зритель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пространственные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Зрительные фун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Пространственные фун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476360" y="1916280"/>
            <a:ext cx="216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557360"/>
            <a:ext cx="2160720" cy="35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Verdana"/>
              </a:rPr>
              <a:t>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2349360"/>
            <a:ext cx="305928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3300"/>
                </a:solidFill>
                <a:latin typeface="Verdana"/>
              </a:rPr>
              <a:t>Двигательные функции (кинезиолог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66ff"/>
                </a:solidFill>
                <a:latin typeface="Verdana"/>
              </a:rPr>
              <a:t>Общая мотор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66ff"/>
                </a:solidFill>
                <a:latin typeface="Verdana"/>
              </a:rPr>
              <a:t>Артикуляционная мотор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66ff"/>
                </a:solidFill>
                <a:latin typeface="Verdana"/>
              </a:rPr>
              <a:t>Произвольная мимическая мотор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66ff"/>
                </a:solidFill>
                <a:latin typeface="Verdana"/>
              </a:rPr>
              <a:t>Тонкая ручная мотор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3716280"/>
            <a:ext cx="3166920" cy="9874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Мысли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Способность удерживать в памяти слов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циф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Логическое мыш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Анализ, синтез, сравнение, обобщ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2920" y="4797360"/>
            <a:ext cx="2521080" cy="1008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Устная 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Просодическая сторона реч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Звуковая сторона реч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Лекс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Грамматика и связная реч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Языковый анализ и синте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869000"/>
            <a:ext cx="2736720" cy="987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Эмоционально- личнос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особенности 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Коммуникативная 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Игровая 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Продуктивная 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916280"/>
            <a:ext cx="10083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95720" y="2952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1844640"/>
            <a:ext cx="158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372360" y="1989000"/>
            <a:ext cx="5032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1989000"/>
            <a:ext cx="50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1989000"/>
            <a:ext cx="21600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403280" y="3429000"/>
            <a:ext cx="432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124000" y="1915920"/>
            <a:ext cx="14436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абота с родителя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ндивидуальные консультации (Влияние родительских установок на развитие детей», «70 способов сказать ребенку «Хорошо», «Как помочь эмоциональным детям?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одительские собрания («Психологические особенности детей с ОНР», «Психологическая готовность ребенка к школе», «Леворукий ребенок», «Избалованные дети»)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ренинги («Развитие произвольного внимания», «Развитие мелкой моторики руки», «Развитие логического мышления»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Формы работы с педагога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 тренинги: «Тревожный ребенок», «Общение воспитателей с детьми», «Куклотерапия», «Агрессивный ребенок» и многие друг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Вариант совместного занятия психолога и логопеда</a:t>
            </a:r>
            <a:br>
              <a:rPr sz="2400"/>
            </a:b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«Как Зайчишка Тишка интерес искал»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Цель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автоматизация звука Ш в словах и предложениях; развитие  базовых эмоций у детей дошкольного возраста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Задач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Образовательные.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креплять правильное произношение звука; учить различать и называть основные эмоции и чувства, выражать их с помощью мимики, жестов, пантомимики, соотносить мимику и жесты с эмоциональным состоянием, понимать, какие чувства вызывают те или иные поступки и как настроение влияет на поведение человека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Развивающие.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вивать фонематический слух (умение определять наличие звука в словах), навыки звукового анализа и синтеза, связную речь, подвижность речевого аппарата, умение действовать по образцу, целостность зрительного восприятия, память, внимание, мышление, воображение, речь; координацию, двигательную и эмоциональную выразительность, навыки социальной коммуникации; стимулировать сенсорное развитие детей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Воспитательные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Воспитывать трудолюбие, умение занять себя делом, внимание и доброжелательное отношение к окружающим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Оздоровительные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Создавать положительный эмоциональный фон, оптимизировать состояние нервной систем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борудование и материал к занят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Мягкие игрушк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ек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идактический материа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едварительная рабо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Чтение и обсуждение сказк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Герой-помощник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АНТОШК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ерчаточные куклы с разными эмоция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Радость, грусть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4319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Функция психологической служб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Основная функция психологической службы в дошкольном образовательном учреждении - это создание условий, способствующих охране физического и психического здоровья детей, обеспечению их эмоционального благополучия, свободному и эффективному развитию способностей каждого ребенка. Особенно важна роль психологической службы в организации работы с детьми, имеющими различные нарушения в здоровь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Декорации к занятию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Домик грустного Зайчика, удивленная Ворон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881080" cy="3251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25152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еселая лягушка,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ердитая Белк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27640" y="2708280"/>
            <a:ext cx="2438640" cy="3251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начала игрушки были рисованные, потом превратились в мягки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ветствие друг друг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дготовка к занятию. Массаж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435640" y="357336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66ff"/>
                </a:solidFill>
                <a:latin typeface="Arial"/>
              </a:rPr>
              <a:t>Вхождение в сказку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4419720"/>
            <a:ext cx="3251520" cy="2438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251520" cy="2438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547640" y="4419720"/>
            <a:ext cx="3251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Сопряженная гимнастика для языка и пальцев рук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Игра «Узнай звук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394080" cy="2592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374472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Arial"/>
              </a:rPr>
              <a:t>Упражнения психолога на развитие внимания(игрушки перепутались), мышления(«Четвертый лишний»),</a:t>
            </a:r>
            <a:br>
              <a:rPr sz="2000"/>
            </a:br>
            <a:r>
              <a:rPr b="0" lang="en-US" sz="2000" spc="-1" strike="noStrike">
                <a:solidFill>
                  <a:srgbClr val="cc66ff"/>
                </a:solidFill>
                <a:latin typeface="Arial"/>
              </a:rPr>
              <a:t>упражнение логопеда «Подбор слов-признаков к игрушкам»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456000" cy="2376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076720" y="4221000"/>
            <a:ext cx="3456000" cy="2438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050920" y="4183200"/>
            <a:ext cx="24386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инамическая пауз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476360" y="41497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148360" y="41497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403280" y="162864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731376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Работа психологической службы с детьми логопедических групп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1640" y="1483920"/>
            <a:ext cx="6769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о-педагогическое обследование детей с речевыми нарушениями выявляет у многих из них характерные недостатки в развитии познавательной сферы, обусловленные речевым дефектом и низкой умственной и физической работоспособностью. Наблюдается нарушение внимания, памяти, гиперактивное поведение. Кроме психических процессов у детей данной категории часто страдает эмоционально-волевая сфера, т.е. воспитанники осознают свои недостатки, что приводит к дефициту речевого общения, что способствует появлению аффективных реакций на исполнение словесных инструкций или невозможность высказать свое пожелание, повышенная обидчивость и ранимость. Результативность всего коррекционно-образовательного процесса достигается координацией работы психологической службы с педагогами учреждения, детьми и их родителями. Поэтому идея сопровождения ребенка с речевыми нарушениями реализуется через сотрудничество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Воспитатель– Логопед - Родитель - Психолог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Упражнение логопеда «Составление предложений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3456000" cy="2725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148360" y="3141720"/>
            <a:ext cx="34671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Продолжение предложения «Чтобы не было скучно, я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Ритуал прощания</a:t>
            </a:r>
            <a:br>
              <a:rPr sz="3200"/>
            </a:b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 «Доброе животно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508720" y="34290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ff"/>
                </a:solidFill>
                <a:latin typeface="Arial"/>
              </a:rPr>
              <a:t>Отбор детей в логопедические груп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Работа с детьми начинается заранее, еще до комплектования логопедических групп. В эти группы поступают дети, имеющие речевые дефекты, в основном из массовых групп нашего учреждения. Поэтому мы уже владеем определенными сведениями о личностных особенностях развития каждого ребенка, претендующих в логопедические группы, из ранее проводимой диагностики предыдущего возрастного этапа. Дети, имеющие речевые дефекты, углубленно обследуются не только учителем-логопедом, но и педагогом-психологом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11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2400" spc="-1" strike="noStrike">
                <a:solidFill>
                  <a:srgbClr val="cc66ff"/>
                </a:solidFill>
                <a:latin typeface="Arial"/>
              </a:rPr>
              <a:t>Речевые нарушения у детей логопедической группы(подготовительной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79640" y="1125360"/>
          <a:ext cx="6648480" cy="46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25360"/>
                    <a:ext cx="664848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ff"/>
                </a:solidFill>
                <a:latin typeface="Arial"/>
              </a:rPr>
              <a:t>Речевые нарушения у детей логопедической группы (старшей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47640" y="620640"/>
          <a:ext cx="6707520" cy="55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620640"/>
                    <a:ext cx="670752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7313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аруш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35156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ислалия–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это нарушение звукопроизношения при нормально развитом речевом аппарате. Выделяют механическую и функциональную дислалию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фект может проявляться по-разному. Кто-то из малышей искажает звуки, кто-то заменяет одни звуки на друг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изартрия–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нарушение произносительной стороны речи, обусловленное недостаточной иннервацией речевого аппарат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переводе слово дизартрия означает расстройство артикуляции. Оно возникает, когда скорость, сила и объем движений органов речи ограничены. Причиной этого является парез мышц артикуляционного аппарата. Прежде всего ограничен в движениях основной орган артикуляции – язык. Он становится неловким, непослушным, при высовывании может отклоняться в сторону. Затруднено движение и других частей речевого аппарата (губ, неба, голосовых связок, диафрагмы). Мышцы лица тоже малоподвижны, поэтому мимические движения невыразительные и однообразные. Ребенок с трудом надувает щеки, хмурит и поднимает бров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НР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II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азличные сложные речевые расстройства, при которых нарушается формирование всех компонентов речевой системы, то есть звуковой стороны (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фонетик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и смысловой стороны (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лексик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грамматик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при нормальном слухе и интеллект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Сопровождение ребенка по направлениям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Просвещ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23640" y="907920"/>
            <a:ext cx="16542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981000"/>
            <a:ext cx="230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626920" y="907920"/>
            <a:ext cx="165564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981000"/>
            <a:ext cx="143964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5013360"/>
            <a:ext cx="403236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Просвещение и консуль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родителей,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268280"/>
            <a:ext cx="3240000" cy="1150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Прикла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психодиагно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1773360"/>
            <a:ext cx="381636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Развивающая и коррекцио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4076640"/>
            <a:ext cx="374472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Социально-нравств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268280"/>
            <a:ext cx="3240000" cy="1150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Прикла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психодиагно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ff"/>
                </a:solidFill>
                <a:latin typeface="Times New Roman"/>
              </a:rPr>
              <a:t>Уровень развития психических процессов у детей   подготовительных групп (3) (психодиагностика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403280" y="1844640"/>
          <a:ext cx="73137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73137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1:13:54Z</dcterms:created>
  <dc:creator>-</dc:creator>
  <dc:description/>
  <dc:language>en-US</dc:language>
  <cp:lastModifiedBy>DNA7 X86</cp:lastModifiedBy>
  <dcterms:modified xsi:type="dcterms:W3CDTF">2012-01-14T14:19:26Z</dcterms:modified>
  <cp:revision>35</cp:revision>
  <dc:subject/>
  <dc:title>Работа психологической службы с детьми логопедических групп</dc:title>
</cp:coreProperties>
</file>