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2A1-F58E-42E1-BD24-33EBA9556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313-46E0-4862-BDF9-D7F9AA77D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CE4-17E6-434C-A4AC-7E13257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B95-F70E-43A7-ADB3-6941AE5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9C5-8B0A-44CF-94F0-D6B10085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590-AB5E-41D2-9703-36432F4A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0EB-C409-4A49-AC57-6D8EC9F0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3DB-7D1F-4934-82CD-4F5480A7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FFB-2F88-4FA2-A316-0657919A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E57-55E3-4A14-B488-65633D9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AB1-C99E-4C52-B151-35847A31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54B-CE62-4DBD-8858-191AD132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585-154F-4CA7-B1D3-B366734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04F-C4B9-45BE-BC6E-196EA90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68C-D5D7-4FD3-A38A-789809D26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Азбука журналис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440" y="392904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чкова А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ызр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дак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кладывается редак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ся виде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уда без корр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 сделать газету продаваемо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кономика и маркетинг 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зучаем рынок и потребителе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м опрос аудитории (учеников, учителей и родителей): «Какая информация им нужна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двигаем С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уем другие и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ываем рекламный слоган для своего СМИ, развлекательные и интеллектуальные  «игры», определяем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е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ть проект школьной (или молодежной) газеты (теле- или радио передач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аудитории (старшеклассники, вся школа, старшеклассники и учителя, учителя и родители, школа и близлежащий район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целей и задач с учетом аудитории и конкурент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рублик с учетом аудитории, целей и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ём (время для передачи или количество полос в газете), расположение рублик и особенности оформления с учетом целей и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источник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ы продвижения на рынок (рекламный слоган, рекламная акция, объявлен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омер газ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 и 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ма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яем заглавную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онтитулы и пл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ставляем текст и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 полосы на кол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яем заголовоч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ираем шриф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ем фо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 графически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13920"/>
            <a:ext cx="8472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ановский 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торая древнейшая. Беседы о журналис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мощь начинающим журналис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ушкова Е.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ческая стилистика на уроках 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ревич С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омер газ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зайн школьных газет и жур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убина 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изай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ес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илистика и литературное редакт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зутина Г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новы творческой деятельности журнал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щук О.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актирование информационных сооб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илкина О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Азбука журнали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укина М.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я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ы журнала «Журналис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ы студентов института им. Наян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богатько В. Школа диза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тычный А.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анры периодической печа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остак М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Журналист и его произ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я - это всё.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Владеющий информацией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ладеет ми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Журналист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щественная деятельность по сбору, обработке, хранению и периодическому распространению актуальной социальной информации с помощью средств массовой информации (печать, радио, телевидение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Этико-правовые основы деятельности журна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законом не шут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ку не наруш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офессиональные качества журнали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ъе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говорить только прав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Беспристраст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статировать факт и, только исходя из него, давать оценку происходящему. Ваше личное отношение к факту не должно выраж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нципиаль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 гражданин и личность журналист имеет право на собственную точку з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Толерант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небрежение чужим мнением не только показатель отсутствия уважения к человеку, но и более длинный путь к подлинной сути вещ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оммуникабе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мение устанавливать контакты и связи, общ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пера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бота с информацией не терпит промед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Грамот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ладение нормами того языка, на котором журналист говорит и пиш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иды средств масс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Газета (венецианская монета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azette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- столько стоил рукописный лист, распространяемый в Венеци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еративно передаёт информацию о событиях различных сфер жизни. Газеты имеют различные форматы и ти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Журнал (лат.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diurnal is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ежедневный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ализирует факты, выявляет причинно-следственные отношения между ними, на основе чего создается целостная картина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Электронные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нформация рассчитана на слуховое восприятие. Текст должен быть доступен и понятен слушателю. Речь радиожурналиста должна быть грамотной и вня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левид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ъединяет в себе возможности аудиального и визуального восприятия информации. Тележурналист должен  не только грамотно и внятно говорить , но и быть телеген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ая пр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зникла в сети Интернет. Объеденяет в себе возможность получать и аудиовизуальную, и текстовую информацию. Выходит очень опера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лектронная п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лоны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гибриды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оригина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етевые версии            предлагают информацию       проекты, изначально возникши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традиционных СМИ        трад. СМИ и собственную      Сети и не имеющие прототипов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        среди трад. С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2500200" y="4572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06728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715000" y="4572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Типы СМИ</a:t>
            </a:r>
            <a:br>
              <a:rPr sz="44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(в зависимости от аудитор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ё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игиозны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сновные виды сбора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ок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руглые сто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труктура журналистского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начинается с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Основные публицистически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ор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лье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н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9:38:41Z</dcterms:created>
  <dc:creator>User</dc:creator>
  <dc:description/>
  <dc:language>en-US</dc:language>
  <cp:lastModifiedBy>Zver</cp:lastModifiedBy>
  <dcterms:modified xsi:type="dcterms:W3CDTF">2009-10-26T17:32:41Z</dcterms:modified>
  <cp:revision>12</cp:revision>
  <dc:subject/>
  <dc:title>Азбука журналистики.</dc:title>
</cp:coreProperties>
</file>