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324B-E42F-4CA6-8AA9-F0EED0FB22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E44E-B9F7-4A6C-B4BC-CE1AB76FEA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319-C400-449E-B94F-EE659654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CAF-ED22-4C96-9C42-9E1805EB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883F-AA8E-4AED-9E51-771C985E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135-7CBE-496B-9492-3532B89C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4DC-37C4-4B2F-8AE4-C79D3439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927-56B9-4DA2-84DD-1438B700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024-8CF7-4A73-9733-C61F65D3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46E-965E-4F93-AD64-0E1E0C8A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4C3-2371-4752-BED6-DC2CDA6F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CF4-70E7-4EFB-BFF7-6611F4BC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4F0F-F662-4B00-B55C-7AF32AA8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543-3893-413B-9EF0-A3C00810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4293-9AE5-45D7-B9AC-4F28B3CD5A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30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Азбука журналист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28440" y="392904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чкова А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ызр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едактиро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чего складывается редак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мся видеть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уда без корре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Как сделать газету продаваемой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Экономика и маркетинг С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зучаем рынок и потребителе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м опрос аудитории (учеников, учителей и родителей): «Какая информация им нужна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одвигаем С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ируем другие из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умываем рекламный слоган для своего СМИ, развлекательные и интеллектуальные  «игры», определяем ц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Проек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азработать проект школьной (или молодежной) газеты (теле- или радио передачи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аудитории (старшеклассники, вся школа, старшеклассники и учителя, учителя и родители, школа и близлежащий район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целей и задач с учетом аудитории и конкуренто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рублик с учетом аудитории, целей и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ём (время для передачи или количество полос в газете), расположение рублик и особенности оформления с учетом целей и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мый источник до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ы продвижения на рынок (рекламный слоган, рекламная акция, объявления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Номер газ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зайн газ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 и объ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ческая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мак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ормляем заглавную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онтитулы и пл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ставляем текст и иллюст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им полосы на коло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ормляем заголовочный компле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ираем шриф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щаем фот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олнительные графические 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47260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грановский 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Вторая древнейшая. Беседы о журналис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омощь начинающим журналист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олушкова Е.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ктическая стилистика на уроках русского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уревич С.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Номер газ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зайн школьных газет и журн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убина 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Дизай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есник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тилистика и литературное редактиров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азутина Г.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Основы творческой деятельности журнали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ащук О.Р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актирование информационных сообщ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епилкина О.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Азбука журналис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укина М.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ология интер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алы журнала «Журналис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ы студентов института им. Наян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богатько В. Школа дизай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тычный А.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анры периодической печа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Шостак М.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Журналист и его произве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19280" y="2743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формация - это всё.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Владеющий информацией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владеет мир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Журналисти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общественная деятельность по сбору, обработке, хранению и периодическому распространению актуальной социальной информации с помощью средств массовой информации (печать, радио, телевидение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Этико-правовые основы деятельности журнал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законом не шут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ку не наруша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офессиональные качества журнал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бъе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говорить только прав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Беспристрастность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нстатировать факт и, только исходя из него, давать оценку происходящему. Ваше личное отношение к факту не должно выража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Принципиальность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ак гражданин и личность журналист имеет право на собственную точку зр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Толерантность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ренебрежение чужим мнением не только показатель отсутствия уважения к человеку, но и более длинный путь к подлинной сути вещ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Коммуникабель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умение устанавливать контакты и связи, обща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ператив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абота с информацией не терпит промедл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Грамот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ладение нормами того языка, на котором журналист говорит и пиш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иды средств массов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Газета (венецианская монета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gazette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- столько стоил рукописный лист, распространяемый в Венеции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перативно передаёт информацию о событиях различных сфер жизни. Газеты имеют различные форматы и тира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Журнал (лат.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diurnal is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ежедневный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нализирует факты, выявляет причинно-следственные отношения между ними, на основе чего создается целостная картина действ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Электронные С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ди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информация рассчитана на слуховое восприятие. Текст должен быть доступен и понятен слушателю. Речь радиожурналиста должна быть грамотной и внят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левидение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бъединяет в себе возможности аудиального и визуального восприятия информации. Тележурналист должен  не только грамотно и внятно говорить , но и быть телегенич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лектронная прес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озникла в сети Интернет. Объеденяет в себе возможность получать и аудиовизуальную, и текстовую информацию. Выходит очень оператив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лектронная пр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клоны»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гибриды»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оригина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сетевые версии            предлагают информацию       проекты, изначально возникшие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традиционных СМИ        трад. СМИ и собственную      Сети и не имеющие прототипов 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         среди трад. С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 flipH="1">
            <a:off x="2500200" y="4572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406728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5715000" y="4572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Типы СМИ</a:t>
            </a:r>
            <a:br>
              <a:rPr sz="44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(в зависимости от аудитор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ион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ж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дё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лигиозные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сновные виды сбора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докумен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лю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ние с 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сс-конфе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руглые стол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00040" y="42876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труктура журналистского тек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начинается с 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пи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Основные публицистические жан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пор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лье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цен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9:38:41Z</dcterms:created>
  <dc:creator>User</dc:creator>
  <dc:description/>
  <dc:language>en-US</dc:language>
  <cp:lastModifiedBy>Zver</cp:lastModifiedBy>
  <dcterms:modified xsi:type="dcterms:W3CDTF">2009-10-26T17:32:41Z</dcterms:modified>
  <cp:revision>12</cp:revision>
  <dc:subject/>
  <dc:title>Азбука журналистики.</dc:title>
</cp:coreProperties>
</file>