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003F-B4CE-4502-96F4-BA2C865036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FE27-632D-4284-AEAE-B9A5106B4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645-DBE5-4131-BD26-EB274F69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06A-3998-4B0B-B4ED-30589F99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7FFA-902C-4FDA-99F5-4B5F1803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D54-58A5-4979-8CC5-A89BEC8C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5389-A5EC-41A2-BDD4-E99A314B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11A8-E4D2-45D2-911C-52B98AD0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F855-B96A-4F0A-838F-DD80F4AD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9AC5-7B60-4826-AC65-C5497F2C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E863-DE71-4E0A-AA55-D455FE88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8BE3-FC6E-44B9-8B0E-33B6AC2A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E636-AA50-4D4A-985E-7FBB5BB4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1A08-B0F8-479E-AA11-7D267350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53B1-1208-48F0-85E4-57660559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9B91-9816-4AB1-92BD-9729E281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CF32-1CCC-45B5-960D-8A943753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CF11-5D92-4B37-A656-16007EA0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30ED-F1D3-4B74-AB43-39705782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3D34C-26EA-485F-92DA-FFBA9415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82B03-1698-4EEC-988B-61122A1C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1D73A-0789-4BEA-A80B-68480842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61E9-CAB3-4147-B014-9CBBBE94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FD169-8D4E-428B-AEAE-E104E95D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809-C2D6-435B-8AD5-104BF47C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9D522-413F-4617-BA46-BCAD5105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107E4-60DC-4A4A-910D-D6A20AD6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9C3D7-FEBB-47A3-856B-85B4114C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D9947-3C4D-4092-92A1-C62BEFFF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0791C-0F11-47D8-B613-DB069674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7C02-AEF0-40EF-A03F-78662E3D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5F7CE-ADCC-4021-8191-13BBF2F6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478E1-2853-4960-8D2D-0A8D2826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02A38-322F-4E57-A5E1-63FBDFDE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4BB99-32FB-4451-A95A-EA5B1A4A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9BE-F096-49E0-8852-D623C231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E058B-5E23-4C85-8508-030E5395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3D406-AF15-4A8F-B6CE-D8CCFBAB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A0EE4-9232-4E25-BA98-83DD6FC5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D8AF9-5539-4752-BBD2-82919456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92484-EBDA-4340-ACCB-7791BA6D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19BE7-4350-4AE9-B4FB-9C4296D1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932F-5C76-4F50-B674-708C78D1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3A7A7-B02B-4CD9-A8E9-D2E8CD55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3DA5D-82FF-49E4-8D16-32CE646E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8C285-FE95-48DA-A23B-5874060E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D19-7D32-4145-824C-C6EAC324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748EE-D868-424B-B4F5-54374B30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026A1-C17E-4E2B-90D0-7F6BB5E5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3CB2A-C8F5-41C4-AF4A-F125FA28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0BC00-0D04-4FB2-BEB5-BBD9D87D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59718-3F53-46D5-A99F-319CC4F9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5C320-B201-4FD3-A18D-90A056A6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92FFC-3204-4F00-82F9-AA35139C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A5D7B-8EDB-454C-B9B3-1A0087EC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BBA4A-88A9-4F9B-83C9-67EE5200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A5CC7-2DA9-4738-B830-82867B35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A27-7690-4CF7-9386-A88FD8BD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246B2-97BA-4A99-BADC-6DE474E3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D62-32ED-40B6-9A69-132FC69F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A326-88E6-4BE8-8F3F-FBD798F8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AD2-3A31-4F6A-950D-D55D747A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4B56-BFF4-4E65-839C-9494EA4F03FB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2AB6-8167-4E1D-ABBF-E5A57FD60C3F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1E00-9441-492E-9021-136DC3BACED1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DD71-EDFF-45BD-AE32-24EB046C331F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CEAC-EC13-4651-91A0-1D9C7AA9A056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3b6431"/>
                </a:solidFill>
                <a:latin typeface="Verdana"/>
              </a:rPr>
              <a:t>Они такие разные.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3b6431"/>
                </a:solidFill>
                <a:latin typeface="Verdana"/>
              </a:rPr>
              <a:t>Средства массовой информации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b6431"/>
                </a:solidFill>
                <a:latin typeface="Verdana"/>
              </a:rPr>
              <a:t>Свечкова А.Н.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b6431"/>
                </a:solidFill>
                <a:latin typeface="Verdana"/>
              </a:rPr>
              <a:t>учитель русского языка и литератур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b6431"/>
                </a:solidFill>
                <a:latin typeface="Verdana"/>
              </a:rPr>
              <a:t>ОУ СОШ № 1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b6431"/>
                </a:solidFill>
                <a:latin typeface="Verdana"/>
              </a:rPr>
              <a:t>г. Сызран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7858080" cy="130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Интернет – издание</a:t>
            </a:r>
            <a:r>
              <a:rPr b="1" lang="en-US" sz="3600" spc="-1" strike="noStrike">
                <a:solidFill>
                  <a:srgbClr val="f07f0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07f09"/>
                </a:solidFill>
                <a:latin typeface="Verdana"/>
              </a:rPr>
              <a:t>www. sovetnik.ru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57120" y="1499760"/>
            <a:ext cx="8429760" cy="4071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5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vetnik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- интернет-газета новостей российского и зарубежного PR-сообществ. Учредитель - редакция профессионального журнала "Советник" и компания "Интер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диа Холдинг"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5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воначально www.sovetnik.ru создавался как электронная версия профессионального журнала о связях с общественность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5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смотря на то, что сай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autami"/>
              </a:rPr>
              <a:t>sovetnik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является, по сути, электронной версией одноименного журнала, всё же дополнен другими раздел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" descr="C:\Documents and Settings\Сергей\Рабочий стол\Советник!\logo5.gif"/>
          <p:cNvPicPr/>
          <p:nvPr/>
        </p:nvPicPr>
        <p:blipFill>
          <a:blip r:embed="rId1"/>
          <a:stretch/>
        </p:blipFill>
        <p:spPr>
          <a:xfrm>
            <a:off x="1928880" y="4929120"/>
            <a:ext cx="6526080" cy="1728720"/>
          </a:xfrm>
          <a:prstGeom prst="rect">
            <a:avLst/>
          </a:prstGeom>
          <a:ln w="9360">
            <a:solidFill>
              <a:srgbClr val="48365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1357200" y="1428840"/>
            <a:ext cx="657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b6431"/>
                </a:solidFill>
                <a:latin typeface="Arial"/>
              </a:rPr>
              <a:t>Взаимодействуем с аудиторией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1"/>
          <p:cNvSpPr/>
          <p:nvPr/>
        </p:nvSpPr>
        <p:spPr>
          <a:xfrm>
            <a:off x="928800" y="857160"/>
            <a:ext cx="7715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но аудитория определяет, какой быть передаче, газете или журналу. Вся аудитория делится на реальную (которая является потребителем данного СМИ) и потенциальную (которая могла бы стать реальной). Любая редакция изучает обе разновидности ауди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642960" y="500040"/>
            <a:ext cx="80010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ос (предполагает ответ на один или несколько вопросов большого количества люде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кетирование (вопросы задаются в письменной форме, они бывают открытые – развернутый ответ, закрытые – «да», «нет», комбинированны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телевидение использует электронный счетчик, который подключается к телевизору и показывает, какой канал включен. Так определяется рейтинг пере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Формы взаимодействия с аудиторией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еписк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горячий телефон»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прямая линия»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итательские конферен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ворческие вторник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сс-клубы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ественные приемные и т.д.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исьма читателе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642960" y="1714680"/>
            <a:ext cx="8215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b6431"/>
                </a:solidFill>
                <a:latin typeface="Arial"/>
              </a:rPr>
              <a:t>Структура редакции и распределение функций в н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едакция газеты – это сложная система, от слаженной работы которой зависит успешность самого издания.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 редакции работают специалисты разных направлений, и каждый из них занимает определенную должность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8d3e"/>
                </a:solidFill>
                <a:latin typeface="Verdana"/>
              </a:rPr>
              <a:t>Структура редакции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4000680" y="1125360"/>
            <a:ext cx="2143080" cy="5749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лавн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12"/>
          <p:cNvSpPr/>
          <p:nvPr/>
        </p:nvSpPr>
        <p:spPr>
          <a:xfrm>
            <a:off x="1500120" y="2143080"/>
            <a:ext cx="2643120" cy="8571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меститель главного реда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13"/>
          <p:cNvSpPr/>
          <p:nvPr/>
        </p:nvSpPr>
        <p:spPr>
          <a:xfrm>
            <a:off x="5580000" y="1989000"/>
            <a:ext cx="2098800" cy="93528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ветственный секрет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Прямая со стрелкой 16"/>
          <p:cNvCxnSpPr/>
          <p:nvPr/>
        </p:nvCxnSpPr>
        <p:spPr>
          <a:xfrm flipH="1">
            <a:off x="1356480" y="3070800"/>
            <a:ext cx="786600" cy="5007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56" name="Прямая со стрелкой 18"/>
          <p:cNvCxnSpPr/>
          <p:nvPr/>
        </p:nvCxnSpPr>
        <p:spPr>
          <a:xfrm>
            <a:off x="3214440" y="3071520"/>
            <a:ext cx="572040" cy="5007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57" name="Скругленный прямоугольник 19"/>
          <p:cNvSpPr/>
          <p:nvPr/>
        </p:nvSpPr>
        <p:spPr>
          <a:xfrm>
            <a:off x="428760" y="3573360"/>
            <a:ext cx="1550880" cy="792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дел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20"/>
          <p:cNvSpPr/>
          <p:nvPr/>
        </p:nvSpPr>
        <p:spPr>
          <a:xfrm>
            <a:off x="3071880" y="371484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дел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Прямая со стрелкой 22"/>
          <p:cNvCxnSpPr/>
          <p:nvPr/>
        </p:nvCxnSpPr>
        <p:spPr>
          <a:xfrm flipH="1">
            <a:off x="5928480" y="2857680"/>
            <a:ext cx="143640" cy="7149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60" name="Прямая со стрелкой 24"/>
          <p:cNvCxnSpPr/>
          <p:nvPr/>
        </p:nvCxnSpPr>
        <p:spPr>
          <a:xfrm>
            <a:off x="7215120" y="2857320"/>
            <a:ext cx="215280" cy="6433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61" name="Скругленный прямоугольник 25"/>
          <p:cNvSpPr/>
          <p:nvPr/>
        </p:nvSpPr>
        <p:spPr>
          <a:xfrm>
            <a:off x="4859280" y="3643200"/>
            <a:ext cx="1657440" cy="57168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отограф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26"/>
          <p:cNvSpPr/>
          <p:nvPr/>
        </p:nvSpPr>
        <p:spPr>
          <a:xfrm>
            <a:off x="7072200" y="357192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ерс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Прямая со стрелкой 28"/>
          <p:cNvCxnSpPr/>
          <p:nvPr/>
        </p:nvCxnSpPr>
        <p:spPr>
          <a:xfrm>
            <a:off x="6643800" y="2857680"/>
            <a:ext cx="72000" cy="171504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64" name="Скругленный прямоугольник 29"/>
          <p:cNvSpPr/>
          <p:nvPr/>
        </p:nvSpPr>
        <p:spPr>
          <a:xfrm>
            <a:off x="5929200" y="471492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ррек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Прямая со стрелкой 31"/>
          <p:cNvCxnSpPr/>
          <p:nvPr/>
        </p:nvCxnSpPr>
        <p:spPr>
          <a:xfrm flipH="1">
            <a:off x="2626920" y="3071880"/>
            <a:ext cx="16560" cy="12945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66" name="Скругленный прямоугольник 32"/>
          <p:cNvSpPr/>
          <p:nvPr/>
        </p:nvSpPr>
        <p:spPr>
          <a:xfrm>
            <a:off x="1785960" y="4437000"/>
            <a:ext cx="2354400" cy="6476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дел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35"/>
          <p:cNvSpPr/>
          <p:nvPr/>
        </p:nvSpPr>
        <p:spPr>
          <a:xfrm>
            <a:off x="522360" y="5157720"/>
            <a:ext cx="1962000" cy="71928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кламн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Прямая со стрелкой 39"/>
          <p:cNvCxnSpPr/>
          <p:nvPr/>
        </p:nvCxnSpPr>
        <p:spPr>
          <a:xfrm flipH="1">
            <a:off x="1475640" y="3142800"/>
            <a:ext cx="881640" cy="18709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69" name="Прямая соединительная линия 42"/>
          <p:cNvSpPr/>
          <p:nvPr/>
        </p:nvSpPr>
        <p:spPr>
          <a:xfrm>
            <a:off x="5072040" y="1700280"/>
            <a:ext cx="0" cy="1569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44"/>
          <p:cNvSpPr/>
          <p:nvPr/>
        </p:nvSpPr>
        <p:spPr>
          <a:xfrm>
            <a:off x="2786040" y="1857240"/>
            <a:ext cx="4143240" cy="1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52"/>
          <p:cNvSpPr/>
          <p:nvPr/>
        </p:nvSpPr>
        <p:spPr>
          <a:xfrm>
            <a:off x="2785320" y="1857240"/>
            <a:ext cx="214200" cy="2858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54"/>
          <p:cNvSpPr/>
          <p:nvPr/>
        </p:nvSpPr>
        <p:spPr>
          <a:xfrm flipH="1">
            <a:off x="6629400" y="1857240"/>
            <a:ext cx="93600" cy="1317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ЕССА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Газета (от венец.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gazetta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– венецианская разменная монета) – периодическое издание, цель которого – оперативно передавать информацию о событиях общественно-политической, культурной, спортивной и иных сфер жизни. Газеты могут быть разной периодичности: от ежедневных до одного-двух раз в месяц. Они имеют разные форматы и тираж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Журнал (от лат.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diurnalis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– ежедневный) предназначен для оперативного освещения хода событий. Перед журналом стоит задача анализа фактов, выявление причинно-следственных отношений между ними, на основе чего создается целостная картина действительности. Внешне журнал отличается тем, что должен быть сброшюрован и иметь обложк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лектронные СМ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Радио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ормация рассчитана на аудиальное восприятие; оперативнее печатных СМИ, поскольку имеет возможность мгновенно передавать информацию в эфир; преимущество – использование в эфире различных зву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Телевидение: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амое распространенное сегодня СМИ, объединяет в себе возможности аудиального и визуального восприятия информации; можно создать «эффект присутствия» на месте событ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797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ff8d3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8d3e"/>
                </a:solidFill>
                <a:uFillTx/>
                <a:latin typeface="Verdana"/>
              </a:rPr>
              <a:t>Сетевые издания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зникли в глобальной сети. Их особенность – возможность для потребителя получать аудиовизуальную и текстовую информацию одновременно, оперативность. Недостаток – для просмотра и прочтения необходим компьютер, подключенный к интерне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2960" y="552600"/>
            <a:ext cx="822960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Электронная пресса делится на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лон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это сетевые версии традиционных СМИ, их большинство («Известия»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izvestia.r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«Комсомольская правда»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k.r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«Радио России»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radiorus.r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«Первый канал»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1tv.r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ибрид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агают как информацию традиционных СМИ, на базе которых они созданы, так и собственную («Независимая газета»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ng.r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канал НТВ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ntv.r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ригиналы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екты, изначально возникшие в Сети и не имеющие прототипов среди традиционных СМИ («Газета.Ру»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gazeta.r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«Журнал.Ру» 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zhurnal.r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317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f2936"/>
                </a:solidFill>
                <a:latin typeface="Verdana"/>
              </a:rPr>
              <a:t>Сетевые издания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Verdana"/>
              </a:rPr>
              <a:t>Интернет-газе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688240" cy="64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D:\Мои документы\Анечка\Элективный курс Журналистика\Приложения к элективному курсу по журналистике\Электронные приложения\РЕГИОН 65 интернет-газета.jpg"/>
          <p:cNvPicPr/>
          <p:nvPr/>
        </p:nvPicPr>
        <p:blipFill>
          <a:blip r:embed="rId1"/>
          <a:stretch/>
        </p:blipFill>
        <p:spPr>
          <a:xfrm>
            <a:off x="785880" y="201600"/>
            <a:ext cx="735804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D:\Мои документы\Анечка\Элективный курс Журналистика\Приложения к элективному курсу по журналистике\Электронные приложения\ТОБОЛЬСК интернет-газета.jpg"/>
          <p:cNvPicPr/>
          <p:nvPr/>
        </p:nvPicPr>
        <p:blipFill>
          <a:blip r:embed="rId1"/>
          <a:stretch/>
        </p:blipFill>
        <p:spPr>
          <a:xfrm>
            <a:off x="285840" y="214200"/>
            <a:ext cx="84772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04:41:25Z</dcterms:created>
  <dc:creator>Zver</dc:creator>
  <dc:description/>
  <dc:language>en-US</dc:language>
  <cp:lastModifiedBy>DNA7 X86</cp:lastModifiedBy>
  <dcterms:modified xsi:type="dcterms:W3CDTF">2011-09-18T20:47:56Z</dcterms:modified>
  <cp:revision>21</cp:revision>
  <dc:subject/>
  <dc:title>Интернет-издания</dc:title>
</cp:coreProperties>
</file>