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E5CB-2193-4D5C-9582-B8A0E7789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587A-7F91-4AFB-9E1B-7D6FCE36F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652-17D2-4043-8C19-2AC7263F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D92-B001-4442-BDB9-DCA9CD0F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6AC-8C1B-40C7-B8C7-3873FF15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330-540B-4239-BBCB-4B2911DA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6452-E159-451A-B94B-F3D942DF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04F1-2906-4519-9A7C-8A14C104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1859-6340-4D40-AB2D-94502221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FECB-76CC-4B01-ABDD-A445C1D9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081E-E6E1-4B91-8CED-BD01303B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8F84-1B66-4B4F-B3CB-1E016501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AFB6-C7D1-4878-B1F3-0268E7FD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F06-C167-42A8-B013-31CF0E85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4A9E-A5C9-4D83-A0ED-D4AC795E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EE1D-1499-47BB-BDA1-0038C51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8964-34A7-45E0-A47A-7FC8D3A1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24CE-99BC-4C2A-A4BB-2DF7F50E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A855-2861-47FC-90E6-AA746613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80B5-E99C-4DE6-BD8F-4A437931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DB41-CC57-4F59-95B8-651827DB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848F-0272-4C3C-AF75-FC812340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CBC2-9F8C-4C12-87B0-A1BD8EB7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7ABB6-4189-4F72-B808-B6812886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4CA-60E1-4D61-99FF-6015FBC5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CA13E-6C43-4AFA-A798-D9B67B57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4954-75B5-409A-A0D4-2C4A3218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0E06-AAC2-438F-AEB4-A926CC57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3F29-4BBE-45D1-AD4D-5750411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EC48D-4B8E-48CE-B683-EEE85A36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09F59-A58C-4203-AEB8-788296C2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471E-C32C-4308-B315-A25A569F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31B4D-AF74-4B50-BC9A-43B323A8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8E5B-DC1C-4F25-BA63-D70835CC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96F7-968E-437F-87E2-212D8BEF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A2F-18E9-4E09-B96F-659A34F5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1525-269A-4B01-B020-218D2992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2F0F7-A79B-4E44-9FE2-5E841B59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00942-F4F1-4D43-A5CB-0095927F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EBCD-552D-4583-B98D-91FCC2A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964C-23B3-46A4-8AD8-6E55505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44968-6E6E-497F-922B-70605F25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A0075-F648-4E3E-B8C9-46B89605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FFB3-EE7A-4AE2-A88E-C54A9CF7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C39F2-57D4-4AF9-8526-7BD295E9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CAB05-C16F-44EB-AB6E-D565E80C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8BF-04EC-4962-A272-9F8E6C69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D5659-03AE-4169-990D-079BFDF3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6718E-E62F-479F-A8AB-6B735C66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C0788-1A7A-483A-9EE2-56F91EDF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68E9-29A8-42F7-9232-E2EF5E29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5398D-824E-4730-816E-7B786DAD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D27A0-6DD2-42A4-AA4F-D119CAE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9EDCF-2799-46E6-8BD8-F8D60800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6379-1490-4F93-81B5-BE2B5E53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900D-778B-4588-BD05-EE8421D0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F755E-7A97-4F61-9760-3DCE75B2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9B0-DCD6-4222-A4A9-4CE6F778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7226-ADBB-43BD-A1AA-BD426CBF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1FE-C312-43B5-867E-19276CB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320-503F-4C66-B24F-F8634214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922-51A4-4D0D-AE6E-188745A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3D57-6C69-4713-A04E-86C0901A900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B0D7-A508-4626-ACC1-486CD3DC1D6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D393-F4B6-4E01-8FF7-47CC37B4BB3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3441-F9F1-432E-947D-830F38A2292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6AA8-BB00-4C9A-B8C3-A0B9FCA1BA5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b6431"/>
                </a:solidFill>
                <a:latin typeface="Verdana"/>
              </a:rPr>
              <a:t>Они такие разные.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b6431"/>
                </a:solidFill>
                <a:latin typeface="Verdana"/>
              </a:rPr>
              <a:t>Средства массовой информации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b6431"/>
                </a:solidFill>
                <a:latin typeface="Verdana"/>
              </a:rPr>
              <a:t>Свечкова А.Н.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b6431"/>
                </a:solidFill>
                <a:latin typeface="Verdana"/>
              </a:rPr>
              <a:t>учитель русского языка и литератур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b6431"/>
                </a:solidFill>
                <a:latin typeface="Verdana"/>
              </a:rPr>
              <a:t>ОУ СОШ № 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b6431"/>
                </a:solidFill>
                <a:latin typeface="Verdana"/>
              </a:rPr>
              <a:t>г. Сызран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7858080" cy="130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Интернет – издание</a:t>
            </a:r>
            <a:r>
              <a:rPr b="1" lang="en-US" sz="36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07f09"/>
                </a:solidFill>
                <a:latin typeface="Verdana"/>
              </a:rPr>
              <a:t>www. sovetnik.ru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57120" y="1499760"/>
            <a:ext cx="8429760" cy="4071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5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etnik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интернет-газета новостей российского и зарубежного PR-сообществ. Учредитель - редакция профессионального журнала "Советник" и компания "Интер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диа Холдинг"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5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воначально www.sovetnik.ru создавался как электронная версия профессионального журнала о связях с общественность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5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смотря на то, что сай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autami"/>
              </a:rPr>
              <a:t>sovetnik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является, по сути, электронной версией одноименного журнала, всё же дополнен другими раздел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C:\Documents and Settings\Сергей\Рабочий стол\Советник!\logo5.gif"/>
          <p:cNvPicPr/>
          <p:nvPr/>
        </p:nvPicPr>
        <p:blipFill>
          <a:blip r:embed="rId1"/>
          <a:stretch/>
        </p:blipFill>
        <p:spPr>
          <a:xfrm>
            <a:off x="1928880" y="4929120"/>
            <a:ext cx="6526080" cy="1728720"/>
          </a:xfrm>
          <a:prstGeom prst="rect">
            <a:avLst/>
          </a:prstGeom>
          <a:ln w="9360">
            <a:solidFill>
              <a:srgbClr val="48365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1357200" y="1428840"/>
            <a:ext cx="657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b6431"/>
                </a:solidFill>
                <a:latin typeface="Arial"/>
              </a:rPr>
              <a:t>Взаимодействуем с аудиторие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928800" y="857160"/>
            <a:ext cx="7715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но аудитория определяет, какой быть передаче, газете или журналу. Вся аудитория делится на реальную (которая является потребителем данного СМИ) и потенциальную (которая могла бы стать реальной). Любая редакция изучает обе разновидности ауд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642960" y="500040"/>
            <a:ext cx="8001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ос (предполагает ответ на один или несколько вопросов большого количества люде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кетирование (вопросы задаются в письменной форме, они бывают открытые – развернутый ответ, закрытые – «да», «нет», комбинированн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елевидение использует электронный счетчик, который подключается к телевизору и показывает, какой канал включен. Так определяется рейтинг пере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Формы взаимодействия с аудиторией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писк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горячий телефон»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прямая линия»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итательские конферен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ворческие вторник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сс-клубы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ественные приемные и т.д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исьма читателе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642960" y="1714680"/>
            <a:ext cx="8215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b6431"/>
                </a:solidFill>
                <a:latin typeface="Arial"/>
              </a:rPr>
              <a:t>Структура редакции и распределение функций в н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едакция газеты – это сложная система, от слаженной работы которой зависит успешность самого издания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 редакции работают специалисты разных направлений, и каждый из них занимает определенную должность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Структура редакции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4000680" y="1125360"/>
            <a:ext cx="2143080" cy="574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лавн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2"/>
          <p:cNvSpPr/>
          <p:nvPr/>
        </p:nvSpPr>
        <p:spPr>
          <a:xfrm>
            <a:off x="1500120" y="2143080"/>
            <a:ext cx="2643120" cy="8571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меститель главного реда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3"/>
          <p:cNvSpPr/>
          <p:nvPr/>
        </p:nvSpPr>
        <p:spPr>
          <a:xfrm>
            <a:off x="5580000" y="1989000"/>
            <a:ext cx="2098800" cy="93528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ветственный секрет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16"/>
          <p:cNvCxnSpPr/>
          <p:nvPr/>
        </p:nvCxnSpPr>
        <p:spPr>
          <a:xfrm flipH="1">
            <a:off x="1356480" y="3070800"/>
            <a:ext cx="786600" cy="5007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56" name="Прямая со стрелкой 18"/>
          <p:cNvCxnSpPr/>
          <p:nvPr/>
        </p:nvCxnSpPr>
        <p:spPr>
          <a:xfrm>
            <a:off x="3214440" y="3071520"/>
            <a:ext cx="572040" cy="5007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7" name="Скругленный прямоугольник 19"/>
          <p:cNvSpPr/>
          <p:nvPr/>
        </p:nvSpPr>
        <p:spPr>
          <a:xfrm>
            <a:off x="428760" y="3573360"/>
            <a:ext cx="1550880" cy="792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дел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20"/>
          <p:cNvSpPr/>
          <p:nvPr/>
        </p:nvSpPr>
        <p:spPr>
          <a:xfrm>
            <a:off x="3071880" y="371484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дел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Прямая со стрелкой 22"/>
          <p:cNvCxnSpPr/>
          <p:nvPr/>
        </p:nvCxnSpPr>
        <p:spPr>
          <a:xfrm flipH="1">
            <a:off x="5928480" y="2857680"/>
            <a:ext cx="143640" cy="7149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60" name="Прямая со стрелкой 24"/>
          <p:cNvCxnSpPr/>
          <p:nvPr/>
        </p:nvCxnSpPr>
        <p:spPr>
          <a:xfrm>
            <a:off x="7215120" y="2857320"/>
            <a:ext cx="215280" cy="643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61" name="Скругленный прямоугольник 25"/>
          <p:cNvSpPr/>
          <p:nvPr/>
        </p:nvSpPr>
        <p:spPr>
          <a:xfrm>
            <a:off x="4859280" y="3643200"/>
            <a:ext cx="1657440" cy="57168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отограф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26"/>
          <p:cNvSpPr/>
          <p:nvPr/>
        </p:nvSpPr>
        <p:spPr>
          <a:xfrm>
            <a:off x="7072200" y="357192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рс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28"/>
          <p:cNvCxnSpPr/>
          <p:nvPr/>
        </p:nvCxnSpPr>
        <p:spPr>
          <a:xfrm>
            <a:off x="6643800" y="2857680"/>
            <a:ext cx="72000" cy="17150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64" name="Скругленный прямоугольник 29"/>
          <p:cNvSpPr/>
          <p:nvPr/>
        </p:nvSpPr>
        <p:spPr>
          <a:xfrm>
            <a:off x="5929200" y="471492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рек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Прямая со стрелкой 31"/>
          <p:cNvCxnSpPr/>
          <p:nvPr/>
        </p:nvCxnSpPr>
        <p:spPr>
          <a:xfrm flipH="1">
            <a:off x="2626920" y="3071880"/>
            <a:ext cx="16560" cy="12945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66" name="Скругленный прямоугольник 32"/>
          <p:cNvSpPr/>
          <p:nvPr/>
        </p:nvSpPr>
        <p:spPr>
          <a:xfrm>
            <a:off x="1785960" y="4437000"/>
            <a:ext cx="2354400" cy="6476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дел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35"/>
          <p:cNvSpPr/>
          <p:nvPr/>
        </p:nvSpPr>
        <p:spPr>
          <a:xfrm>
            <a:off x="522360" y="5157720"/>
            <a:ext cx="1962000" cy="71928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кламн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Прямая со стрелкой 39"/>
          <p:cNvCxnSpPr/>
          <p:nvPr/>
        </p:nvCxnSpPr>
        <p:spPr>
          <a:xfrm flipH="1">
            <a:off x="1475640" y="3142800"/>
            <a:ext cx="881640" cy="18709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69" name="Прямая соединительная линия 42"/>
          <p:cNvSpPr/>
          <p:nvPr/>
        </p:nvSpPr>
        <p:spPr>
          <a:xfrm>
            <a:off x="5072040" y="1700280"/>
            <a:ext cx="0" cy="1569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44"/>
          <p:cNvSpPr/>
          <p:nvPr/>
        </p:nvSpPr>
        <p:spPr>
          <a:xfrm>
            <a:off x="2786040" y="1857240"/>
            <a:ext cx="41432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52"/>
          <p:cNvSpPr/>
          <p:nvPr/>
        </p:nvSpPr>
        <p:spPr>
          <a:xfrm>
            <a:off x="2785320" y="1857240"/>
            <a:ext cx="214200" cy="2858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54"/>
          <p:cNvSpPr/>
          <p:nvPr/>
        </p:nvSpPr>
        <p:spPr>
          <a:xfrm flipH="1">
            <a:off x="6629400" y="1857240"/>
            <a:ext cx="93600" cy="1317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ЕССА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Газета (от венец.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gazetta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– венецианская разменная монета) – периодическое издание, цель которого – оперативно передавать информацию о событиях общественно-политической, культурной, спортивной и иных сфер жизни. Газеты могут быть разной периодичности: от ежедневных до одного-двух раз в месяц. Они имеют разные форматы и тираж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Журнал (от лат.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iurnalis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– ежедневный) предназначен для оперативного освещения хода событий. Перед журналом стоит задача анализа фактов, выявление причинно-следственных отношений между ними, на основе чего создается целостная картина действительности. Внешне журнал отличается тем, что должен быть сброшюрован и иметь обложк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лектронные СМ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адио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ормация рассчитана на аудиальное восприятие; оперативнее печатных СМИ, поскольку имеет возможность мгновенно передавать информацию в эфир; преимущество – использование в эфире различных зву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Телевидение: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амое распространенное сегодня СМИ, объединяет в себе возможности аудиального и визуального восприятия информации; можно создать «эффект присутствия» на месте событ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797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f8d3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Сетевые издания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зникли в глобальной сети. Их особенность – возможность для потребителя получать аудиовизуальную и текстовую информацию одновременно, оперативность. Недостаток – для просмотра и прочтения необходим компьютер, подключенный к интерне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55260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лектронная пресса делится на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лон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это сетевые версии традиционных СМИ, их большинство («Известия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izvestia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«Комсомольская правда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k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«Радио России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radiorus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«Первый канал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1tv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ибрид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агают как информацию традиционных СМИ, на базе которых они созданы, так и собственную («Независимая газета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ng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канал НТВ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ntv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ригиналы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екты, изначально возникшие в Сети и не имеющие прототипов среди традиционных СМИ («Газета.Ру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gazeta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«Журнал.Ру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zhurnal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317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f2936"/>
                </a:solidFill>
                <a:latin typeface="Verdana"/>
              </a:rPr>
              <a:t>Сетевые издания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Verdana"/>
              </a:rPr>
              <a:t>Интернет-газе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68824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D:\Мои документы\Анечка\Элективный курс Журналистика\Приложения к элективному курсу по журналистике\Электронные приложения\РЕГИОН 65 интернет-газета.jpg"/>
          <p:cNvPicPr/>
          <p:nvPr/>
        </p:nvPicPr>
        <p:blipFill>
          <a:blip r:embed="rId1"/>
          <a:stretch/>
        </p:blipFill>
        <p:spPr>
          <a:xfrm>
            <a:off x="785880" y="201600"/>
            <a:ext cx="73580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Мои документы\Анечка\Элективный курс Журналистика\Приложения к элективному курсу по журналистике\Электронные приложения\ТОБОЛЬСК интернет-газета.jpg"/>
          <p:cNvPicPr/>
          <p:nvPr/>
        </p:nvPicPr>
        <p:blipFill>
          <a:blip r:embed="rId1"/>
          <a:stretch/>
        </p:blipFill>
        <p:spPr>
          <a:xfrm>
            <a:off x="285840" y="21420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04:41:25Z</dcterms:created>
  <dc:creator>Zver</dc:creator>
  <dc:description/>
  <dc:language>en-US</dc:language>
  <cp:lastModifiedBy>DNA7 X86</cp:lastModifiedBy>
  <dcterms:modified xsi:type="dcterms:W3CDTF">2011-09-18T20:47:56Z</dcterms:modified>
  <cp:revision>21</cp:revision>
  <dc:subject/>
  <dc:title>Интернет-издания</dc:title>
</cp:coreProperties>
</file>